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D176-4F8A-4E86-9337-59EE89F23930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BA19-C2A8-4B7E-8C8C-13A64B7D679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C07A-BACB-4A19-943F-B38EF6BE239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"/>
                <a:ea typeface="楷体"/>
              </a:rPr>
              <a:t>想一想：这些句子都有哪些一样的字？什么意思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44C0-C251-416C-9952-D3AD16EF67F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718-9BFE-4C9D-830F-42F2903C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097-D9FD-4CF6-9FBB-6C0BF990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BB2-D85C-406F-8D06-9FD1F063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EB9-31C1-403A-818B-DEF46251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75EE-C7D8-4FBE-86AE-4A9B07B2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FDD4-90B8-4FE6-96A3-2D2BAE83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50F3-F4D0-4C37-943E-618F0055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09B2-F392-4620-8063-EF2C86C3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812E-C18E-41C7-90B4-FA21AB26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E673-7B5A-4A60-B85D-56F9EDA8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4F99-416A-435C-ABAF-A915331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945-EFA3-48BE-8F52-57B5D168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E08E-D494-4560-BDBB-590E453F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3560-B77D-4AA0-BC12-AC8EB92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301F-6D2D-4AA1-82CF-4461A441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DE17-9A85-4F65-8C74-4438F821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2814-C2A4-41DA-8F5C-F763F5D1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3DBC1-26F8-40BA-BC86-303E7FA0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DC38B-38D1-4158-8805-72D5A06F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FEF6-16E6-4D7C-A7AE-8BFC140A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B58D-F7F3-4826-930D-E0798DE5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1007-E722-4FB0-81EA-0E8DCBBB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DCF-0BC8-4B49-9318-576FCB6C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BFF1-925B-4EDB-87BD-60BFE961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26A1E-6E58-43D6-AD2C-9A691181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68329-2395-47FA-B267-B3E78AE5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6890-AF82-40C2-9501-B40C0290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6985-77EB-47FE-AB05-11DC6DC1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5C54-FA3C-4183-B96C-56F1F9CA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11545-D720-484A-9E40-02245956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FAE07-C275-49A9-9B04-A83B2068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3A5C-0B8E-4E22-B013-067F0911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9438-AE2B-4F6B-ACD8-48DEAD85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4D4-852C-4C3E-B260-A6267AEE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ACD63-76DD-477D-8265-80ABEBA4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D9AF-0811-4A0A-A030-59ED4CB1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46349-AEC3-4ED1-90CF-1CA76A49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A4AD-52AB-4C21-968A-13DE60F5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FDAEF-1067-472F-9D1F-E3A47F4F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8026-F9DC-4B09-920B-1E1BA89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86BD4-5626-4932-B54A-82EB40D0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CD13-B33C-4F24-9357-97B4ACE2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38AE-7582-4340-BF5A-F9611B2B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13C19-BDD5-430F-961E-EB65A72E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4B9-487B-4C41-934F-91612AC7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5F2E2-A39B-4CEB-9656-87F73927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F17F8-8E1E-4D2B-BC6D-4E06508B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C420A-F7C9-4E50-8550-48C315D4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D8C69-B63B-4E7C-BF35-591BCA09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8F298-386F-4290-B8B9-47AC713F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B9E81-4302-41D8-A9A8-254267C3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2B3B8-BB29-47E6-A3B2-EF96A934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2517-9742-479A-B918-B728E285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D4493-4B2C-4B28-9BAC-72651D54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BA4C-AE79-4357-AC2A-11DC2637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3BE-7063-48C6-A536-9E1532E2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2F021-5D04-4BD1-9DCF-A07E4627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13E-BDCE-4DB7-B17B-707D3C20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4DD-A51E-40A0-A5BA-014763EE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8D1-C21F-419C-BB1B-679C27B6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7541-E827-4341-9444-4A049D9AE34E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13C2-503A-48AB-8E0D-351B4591034D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AB9E-DB2E-4285-8329-74A7536D8050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E753-C8AD-4F0B-8316-2A4C7000FC44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圆角矩形 9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圆角矩形 9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7CD8-83B0-4A7B-914A-A621FE038803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1676-7940-43CB-87A6-3F7C3FB91B06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F24F-9C2C-4D9A-AE26-68DD8D68B9C6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1374-E3B6-43AF-A659-048EA6998BA7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9FA1-B1B3-45CD-823F-FA5B203F81F8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0955-26CA-4383-85D1-14C0B9A21CE0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&#1083;&#1083;&amp;in=12551&amp;cl=2&amp;cm=1&amp;sc=0&amp;lm=-1&amp;pn=8&amp;rn=1&amp;di=11030338785&amp;ln=2000&amp;fr=&amp;ic=0&amp;s=0&amp;se=1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16000" y="4436640"/>
            <a:ext cx="7128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指导教授：卢福波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学生：刘伟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改编：程岚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2010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年</a:t>
            </a: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8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月</a:t>
            </a: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5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日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851400"/>
            <a:ext cx="9144360" cy="25174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连”字句教学</a:t>
            </a:r>
            <a:endParaRPr b="0" lang="en-US" sz="8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1773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又帅又聪明的男人给李友送花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1f497d"/>
                </a:solidFill>
                <a:uFillTx/>
                <a:latin typeface="楷体"/>
                <a:ea typeface="楷体"/>
              </a:rPr>
              <a:t>奥巴马</a:t>
            </a:r>
            <a:r>
              <a:rPr b="0" lang="en-US" sz="4000" spc="-1" strike="noStrike" u="sng">
                <a:solidFill>
                  <a:srgbClr val="1f497d"/>
                </a:solidFill>
                <a:uFillTx/>
                <a:latin typeface="楷体"/>
                <a:ea typeface="楷体"/>
              </a:rPr>
              <a:t>(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ào bā mǎ)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67" name="内容占位符 3" descr="U2342P1T1D16397251F21DT20081007112026.jpg"/>
          <p:cNvPicPr/>
          <p:nvPr/>
        </p:nvPicPr>
        <p:blipFill>
          <a:blip r:embed="rId2"/>
          <a:stretch/>
        </p:blipFill>
        <p:spPr>
          <a:xfrm>
            <a:off x="603360" y="2073240"/>
            <a:ext cx="4047840" cy="4808520"/>
          </a:xfrm>
          <a:prstGeom prst="rect">
            <a:avLst/>
          </a:prstGeom>
          <a:ln w="0">
            <a:noFill/>
          </a:ln>
        </p:spPr>
      </p:pic>
      <p:sp>
        <p:nvSpPr>
          <p:cNvPr id="268" name="椭圆形标注 4"/>
          <p:cNvSpPr/>
          <p:nvPr/>
        </p:nvSpPr>
        <p:spPr>
          <a:xfrm>
            <a:off x="4932360" y="4941720"/>
            <a:ext cx="3456000" cy="1366920"/>
          </a:xfrm>
          <a:prstGeom prst="wedgeEllipseCallout">
            <a:avLst>
              <a:gd name="adj1" fmla="val -113185"/>
              <a:gd name="adj2" fmla="val -13641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给李友送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请李友来中国旅行，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50560" y="1447560"/>
            <a:ext cx="85690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3851280" y="1700280"/>
            <a:ext cx="482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_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0" descr="u=618228051,3843641396&amp;fm=0&amp;gp=0.jpg"/>
          <p:cNvPicPr/>
          <p:nvPr/>
        </p:nvPicPr>
        <p:blipFill>
          <a:blip r:embed="rId2"/>
          <a:stretch/>
        </p:blipFill>
        <p:spPr>
          <a:xfrm>
            <a:off x="-30240" y="1957320"/>
            <a:ext cx="3554640" cy="3876840"/>
          </a:xfrm>
          <a:prstGeom prst="rect">
            <a:avLst/>
          </a:prstGeom>
          <a:ln w="0">
            <a:noFill/>
          </a:ln>
        </p:spPr>
      </p:pic>
      <p:sp>
        <p:nvSpPr>
          <p:cNvPr id="273" name="椭圆形标注 13"/>
          <p:cNvSpPr/>
          <p:nvPr/>
        </p:nvSpPr>
        <p:spPr>
          <a:xfrm>
            <a:off x="5508720" y="4365720"/>
            <a:ext cx="2808360" cy="1295280"/>
          </a:xfrm>
          <a:prstGeom prst="wedgeEllipseCallout">
            <a:avLst>
              <a:gd name="adj1" fmla="val -177393"/>
              <a:gd name="adj2" fmla="val -126055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请李友来中国旅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练习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：用“连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…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…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”转换句子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0560" y="1447560"/>
            <a:ext cx="88930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在中国看到很多让她吃惊的事情：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老人学英语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老人听美国音乐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孩儿喜欢看美国电影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昨天天气太热，很多人没上班，胡锦涛也没上班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不知道什么是“聪明药”，胡锦涛也不知道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（二）李友很厉害！</a:t>
            </a:r>
            <a:endParaRPr b="0" lang="en-US" sz="49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447560"/>
            <a:ext cx="835164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会开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敢骑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阿拉伯语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rabic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会说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白宫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可以住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8" name="内容占位符 3" descr="huananhu.jpg"/>
          <p:cNvPicPr/>
          <p:nvPr/>
        </p:nvPicPr>
        <p:blipFill>
          <a:blip r:embed="rId2"/>
          <a:stretch/>
        </p:blipFill>
        <p:spPr>
          <a:xfrm>
            <a:off x="2189160" y="2779560"/>
            <a:ext cx="1955880" cy="15242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5" descr="MQ6Q6CAYB6D8XCA1LCZIMCANUWOOUCAV0K138CAXL1KFECANLEJM5CALURH9HCAQE1USZCA03XIN2CABBRM3JCA4Z9DS7CA243EV3CAPJDXHKCASP7BGNCARK40ABCAHXZYJFCA0TTAQ2CAJCCDEM.jpg"/>
          <p:cNvPicPr/>
          <p:nvPr/>
        </p:nvPicPr>
        <p:blipFill>
          <a:blip r:embed="rId3"/>
          <a:stretch/>
        </p:blipFill>
        <p:spPr>
          <a:xfrm>
            <a:off x="2048040" y="1547640"/>
            <a:ext cx="1884240" cy="131148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6" descr="8P5QNCAO2DPWLCANXO6DACAE96P5BCA2CEE51CANAEYV6CA57WGOACAZ6L16BCA6XLL9LCA0UGA6FCA4AYZSLCAEWC189CAW98VTLCA3KQ06LCAZ0BAN8CACYGI29CAGTQPZ5CAI3V8UUCAEZITAN.jpg"/>
          <p:cNvPicPr/>
          <p:nvPr/>
        </p:nvPicPr>
        <p:blipFill>
          <a:blip r:embed="rId4"/>
          <a:stretch/>
        </p:blipFill>
        <p:spPr>
          <a:xfrm>
            <a:off x="1974960" y="5370480"/>
            <a:ext cx="15969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句子中</a:t>
            </a:r>
            <a:r>
              <a:rPr b="1" i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V</a:t>
            </a: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后的词到哪儿去了？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飞机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会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老虎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敢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骑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阿拉伯语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会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说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白宫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可以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2060"/>
                </a:solidFill>
                <a:latin typeface="楷体"/>
                <a:ea typeface="楷体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右弧形箭头 6"/>
          <p:cNvSpPr/>
          <p:nvPr/>
        </p:nvSpPr>
        <p:spPr>
          <a:xfrm rot="5400000">
            <a:off x="2735640" y="655920"/>
            <a:ext cx="358920" cy="1729080"/>
          </a:xfrm>
          <a:custGeom>
            <a:avLst/>
            <a:gdLst>
              <a:gd name="textAreaLeft" fmla="*/ 47880 w 358920"/>
              <a:gd name="textAreaRight" fmla="*/ 311040 w 358920"/>
              <a:gd name="textAreaTop" fmla="*/ 398520 h 1729080"/>
              <a:gd name="textAreaBottom" fmla="*/ 128556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60" stAng="-5400000" swAng="5400000"/>
                <a:lnTo>
                  <a:pt x="21600" y="11081"/>
                </a:lnTo>
                <a:arcTo wR="21600" hR="9960" stAng="0" swAng="3645129"/>
                <a:lnTo>
                  <a:pt x="5400" y="21284"/>
                </a:lnTo>
                <a:lnTo>
                  <a:pt x="0" y="20480"/>
                </a:lnTo>
                <a:lnTo>
                  <a:pt x="5400" y="19043"/>
                </a:lnTo>
                <a:lnTo>
                  <a:pt x="5400" y="19603"/>
                </a:lnTo>
                <a:arcTo wR="21600" hR="9960" stAng="3645129" swAng="-3555801"/>
                <a:lnTo>
                  <a:pt x="21566" y="10520"/>
                </a:lnTo>
                <a:arcTo wR="21600" hR="9960" stAng="-89328" swAng="-5310672"/>
                <a:close/>
              </a:path>
              <a:path fill="darkenLess" w="21600" h="21600">
                <a:moveTo>
                  <a:pt x="0" y="0"/>
                </a:moveTo>
                <a:arcTo wR="21600" hR="9960" stAng="-5400000" swAng="5400000"/>
                <a:lnTo>
                  <a:pt x="21600" y="11081"/>
                </a:lnTo>
                <a:arcTo wR="21600" hR="9960" stAng="0" swAng="-89328"/>
                <a:lnTo>
                  <a:pt x="21566" y="10520"/>
                </a:lnTo>
                <a:arcTo wR="21600" hR="9960" stAng="-89328" swAng="-531067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右弧形箭头 7"/>
          <p:cNvSpPr/>
          <p:nvPr/>
        </p:nvSpPr>
        <p:spPr>
          <a:xfrm rot="5400000">
            <a:off x="2844000" y="1845360"/>
            <a:ext cx="216000" cy="165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393840 h 1656000"/>
              <a:gd name="textAreaBottom" fmla="*/ 123552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272" stAng="-5400000" swAng="5400000"/>
                <a:lnTo>
                  <a:pt x="21600" y="10976"/>
                </a:lnTo>
                <a:arcTo wR="21600" hR="10272" stAng="0" swAng="3931785"/>
                <a:lnTo>
                  <a:pt x="4569" y="21368"/>
                </a:lnTo>
                <a:lnTo>
                  <a:pt x="0" y="20896"/>
                </a:lnTo>
                <a:lnTo>
                  <a:pt x="4569" y="19960"/>
                </a:lnTo>
                <a:lnTo>
                  <a:pt x="4569" y="20312"/>
                </a:lnTo>
                <a:arcTo wR="21600" hR="10272" stAng="3931785" swAng="-3875734"/>
                <a:lnTo>
                  <a:pt x="21587" y="10624"/>
                </a:lnTo>
                <a:arcTo wR="21600" hR="10272" stAng="-56050" swAng="-5343950"/>
                <a:close/>
              </a:path>
              <a:path fill="darkenLess" w="21600" h="21600">
                <a:moveTo>
                  <a:pt x="0" y="0"/>
                </a:moveTo>
                <a:arcTo wR="21600" hR="10272" stAng="-5400000" swAng="5400000"/>
                <a:lnTo>
                  <a:pt x="21600" y="10976"/>
                </a:lnTo>
                <a:arcTo wR="21600" hR="10272" stAng="0" swAng="-56050"/>
                <a:lnTo>
                  <a:pt x="21587" y="10624"/>
                </a:lnTo>
                <a:arcTo wR="21600" hR="10272" stAng="-56050" swAng="-534395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右弧形箭头 8"/>
          <p:cNvSpPr/>
          <p:nvPr/>
        </p:nvSpPr>
        <p:spPr>
          <a:xfrm rot="5400000">
            <a:off x="3420360" y="2564280"/>
            <a:ext cx="287280" cy="2448000"/>
          </a:xfrm>
          <a:custGeom>
            <a:avLst/>
            <a:gdLst>
              <a:gd name="textAreaLeft" fmla="*/ 38520 w 287280"/>
              <a:gd name="textAreaRight" fmla="*/ 248760 w 287280"/>
              <a:gd name="textAreaTop" fmla="*/ 585000 h 2448000"/>
              <a:gd name="textAreaBottom" fmla="*/ 18270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25" stAng="-5400000" swAng="5400000"/>
                <a:lnTo>
                  <a:pt x="21600" y="10959"/>
                </a:lnTo>
                <a:arcTo wR="21600" hR="10325" stAng="0" swAng="3938381"/>
                <a:lnTo>
                  <a:pt x="4569" y="21366"/>
                </a:lnTo>
                <a:lnTo>
                  <a:pt x="0" y="20966"/>
                </a:lnTo>
                <a:lnTo>
                  <a:pt x="4569" y="20098"/>
                </a:lnTo>
                <a:lnTo>
                  <a:pt x="4569" y="20415"/>
                </a:lnTo>
                <a:arcTo wR="21600" hR="10325" stAng="3938381" swAng="-3887909"/>
                <a:lnTo>
                  <a:pt x="21590" y="10642"/>
                </a:lnTo>
                <a:arcTo wR="21600" hR="10325" stAng="-50472" swAng="-5349528"/>
                <a:close/>
              </a:path>
              <a:path fill="darkenLess" w="21600" h="21600">
                <a:moveTo>
                  <a:pt x="0" y="0"/>
                </a:moveTo>
                <a:arcTo wR="21600" hR="10325" stAng="-5400000" swAng="5400000"/>
                <a:lnTo>
                  <a:pt x="21600" y="10959"/>
                </a:lnTo>
                <a:arcTo wR="21600" hR="10325" stAng="0" swAng="-50472"/>
                <a:lnTo>
                  <a:pt x="21590" y="10642"/>
                </a:lnTo>
                <a:arcTo wR="21600" hR="10325" stAng="-50472" swAng="-534952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下弧形箭头 10"/>
          <p:cNvSpPr/>
          <p:nvPr/>
        </p:nvSpPr>
        <p:spPr>
          <a:xfrm flipH="1">
            <a:off x="2050920" y="4724280"/>
            <a:ext cx="2376720" cy="360360"/>
          </a:xfrm>
          <a:custGeom>
            <a:avLst/>
            <a:gdLst>
              <a:gd name="textAreaLeft" fmla="*/ 560160 w 2376720"/>
              <a:gd name="textAreaRight" fmla="*/ 1771200 w 237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86" hR="21600" stAng="10800000" swAng="-5400000"/>
                <a:lnTo>
                  <a:pt x="11004" y="21600"/>
                </a:lnTo>
                <a:arcTo wR="10186" hR="21600" stAng="5400000" swAng="-3677890"/>
                <a:lnTo>
                  <a:pt x="21277" y="5400"/>
                </a:lnTo>
                <a:lnTo>
                  <a:pt x="20781" y="0"/>
                </a:lnTo>
                <a:lnTo>
                  <a:pt x="19639" y="5400"/>
                </a:lnTo>
                <a:lnTo>
                  <a:pt x="20049" y="5400"/>
                </a:lnTo>
                <a:arcTo wR="10186" hR="21600" stAng="1722110" swAng="3612751"/>
                <a:lnTo>
                  <a:pt x="10595" y="21583"/>
                </a:lnTo>
                <a:arcTo wR="10186" hR="21600" stAng="5465139" swAng="5334861"/>
                <a:close/>
              </a:path>
              <a:path fill="darkenLess" w="21600" h="21600">
                <a:moveTo>
                  <a:pt x="0" y="0"/>
                </a:moveTo>
                <a:arcTo wR="10186" hR="21600" stAng="10800000" swAng="-5400000"/>
                <a:lnTo>
                  <a:pt x="11004" y="21600"/>
                </a:lnTo>
                <a:arcTo wR="10186" hR="21600" stAng="5400000" swAng="65139"/>
                <a:lnTo>
                  <a:pt x="10595" y="21583"/>
                </a:lnTo>
                <a:arcTo wR="10186" hR="21600" stAng="5465139" swAng="533486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12"/>
          <p:cNvSpPr/>
          <p:nvPr/>
        </p:nvSpPr>
        <p:spPr>
          <a:xfrm>
            <a:off x="179280" y="5157720"/>
            <a:ext cx="8713800" cy="170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：   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V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84807"/>
                </a:solidFill>
                <a:latin typeface="Perpetua"/>
                <a:ea typeface="SimSun"/>
              </a:rPr>
              <a:t>（</a:t>
            </a:r>
            <a:r>
              <a:rPr b="1" lang="en-US" sz="4000" spc="-1" strike="noStrike">
                <a:solidFill>
                  <a:srgbClr val="984807"/>
                </a:solidFill>
                <a:latin typeface="Perpetua"/>
                <a:ea typeface="SimSun"/>
              </a:rPr>
              <a:t> </a:t>
            </a:r>
            <a:r>
              <a:rPr b="1" lang="en-US" sz="4000" spc="-1" strike="noStrike">
                <a:solidFill>
                  <a:srgbClr val="984807"/>
                </a:solidFill>
                <a:latin typeface="Perpetua"/>
                <a:ea typeface="SimSun"/>
              </a:rPr>
              <a:t>S  even V… </a:t>
            </a:r>
            <a:r>
              <a:rPr b="1" lang="zh-CN" sz="4000" spc="-1" strike="noStrike">
                <a:solidFill>
                  <a:srgbClr val="984807"/>
                </a:solidFill>
                <a:latin typeface="Perpetua"/>
                <a:ea typeface="SimSu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981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李友在白宫很懒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856800"/>
            <a:ext cx="8893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作业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房间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打扫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衣服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昨天她喝醉了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澡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饭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吃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家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回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圆角矩形 3"/>
          <p:cNvSpPr/>
          <p:nvPr/>
        </p:nvSpPr>
        <p:spPr>
          <a:xfrm>
            <a:off x="0" y="4508640"/>
            <a:ext cx="9144000" cy="234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否定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不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没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V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5" descr="8P5QNCAO2DPWLCANXO6DACAE96P5BCA2CEE51CANAEYV6CA57WGOACAZ6L16BCA6XLL9LCA0UGA6FCA4AYZSLCAEWC189CAW98VTLCA3KQ06LCAZ0BAN8CACYGI29CAGTQPZ5CAI3V8UUCAEZITAN.jpg"/>
          <p:cNvPicPr/>
          <p:nvPr/>
        </p:nvPicPr>
        <p:blipFill>
          <a:blip r:embed="rId2"/>
          <a:stretch/>
        </p:blipFill>
        <p:spPr>
          <a:xfrm>
            <a:off x="7156440" y="907920"/>
            <a:ext cx="17431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23640" y="1773000"/>
            <a:ext cx="856908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两人一组，用下面语法和短语批评对方比自己懒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圆角矩形 4"/>
          <p:cNvSpPr/>
          <p:nvPr/>
        </p:nvSpPr>
        <p:spPr>
          <a:xfrm>
            <a:off x="468360" y="3573360"/>
            <a:ext cx="7991280" cy="28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比我懒，你连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洗衣服、不洗澡、不洗脸、不洗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打扫房间、不打扫卫生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做作业、不做饭、不上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5" descr="u=2157974189,434249740&amp;fm=0&amp;gp=0.jpg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2492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SimSun"/>
                <a:ea typeface="SimSun"/>
              </a:rPr>
              <a:t>活动一：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SimSun"/>
                <a:ea typeface="SimSun"/>
              </a:rPr>
              <a:t>活动二</a:t>
            </a:r>
            <a:r>
              <a:rPr b="0" lang="zh-CN" sz="4000" spc="-1" strike="noStrike">
                <a:solidFill>
                  <a:srgbClr val="000000"/>
                </a:solidFill>
                <a:latin typeface="SimSun"/>
                <a:ea typeface="SimSun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吹牛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Talking big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规则：一边传球一边用给出的语法和生词吹牛，拿到球可是没说出句子的同学要用给出的语法和词唱歌。（唱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句）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圆角矩形 6"/>
          <p:cNvSpPr/>
          <p:nvPr/>
        </p:nvSpPr>
        <p:spPr>
          <a:xfrm>
            <a:off x="395280" y="2637000"/>
            <a:ext cx="8497800" cy="40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最厉害，我连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吃、打、骑、开、去、买、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老虎、老鼠、大象、飞机、月亮、白宫、白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B5BIWCADO8H1NCAH2WUIDCAX4FTBYCAEHJZGZCA42YCV3CA68L1GQCA5YG1XUCAIXVZ07CAO97CWHCA103F3CCAP3PNP5CA1NO96MCAVVP240CAS58LQ9CA64VZP1CAOGQTKZCAHEBQ5CCACMATTD.jpg"/>
          <p:cNvPicPr/>
          <p:nvPr/>
        </p:nvPicPr>
        <p:blipFill>
          <a:blip r:embed="rId2"/>
          <a:stretch/>
        </p:blipFill>
        <p:spPr>
          <a:xfrm>
            <a:off x="6732720" y="1989000"/>
            <a:ext cx="216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2089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我们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Franklin Gothic Book"/>
              </a:rPr>
              <a:t>吹牛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都会了！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01" name="内容占位符 5" descr="u=2157974189,434249740&amp;fm=0&amp;gp=0.jpg"/>
          <p:cNvPicPr/>
          <p:nvPr/>
        </p:nvPicPr>
        <p:blipFill>
          <a:blip r:embed="rId2"/>
          <a:stretch/>
        </p:blipFill>
        <p:spPr>
          <a:xfrm>
            <a:off x="2340000" y="2492280"/>
            <a:ext cx="504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03" name="Picture 6" descr="u=2632589545,2957961780&amp;fm=0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8424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bIns="9144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教学对象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美国大学本科生，一年级（下）中文学生。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2920" y="1700280"/>
            <a:ext cx="8786880" cy="50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文水平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初级高；学习中文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月；已学习主要语法“了”；“能” 、“会” “可以”的使用 ；“不”和“没”区别等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教学内容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归纳与操练“连”字句两种用法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0253f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…</a:t>
            </a:r>
            <a:r>
              <a:rPr b="0" lang="en-US" sz="4000" spc="-1" strike="noStrike">
                <a:solidFill>
                  <a:srgbClr val="632523"/>
                </a:solidFill>
                <a:latin typeface="Times New Roman"/>
                <a:ea typeface="楷体"/>
              </a:rPr>
              <a:t>;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都不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没 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O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; S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O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不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没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Left Brace 3"/>
          <p:cNvSpPr/>
          <p:nvPr/>
        </p:nvSpPr>
        <p:spPr>
          <a:xfrm>
            <a:off x="324000" y="4437000"/>
            <a:ext cx="428400" cy="114300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5400" y="10800"/>
                  <a:pt x="0" y="10800"/>
                </a:cubicBezTo>
                <a:cubicBezTo>
                  <a:pt x="54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f497d"/>
                </a:solidFill>
                <a:latin typeface="楷体"/>
                <a:ea typeface="楷体"/>
              </a:rPr>
              <a:t>李友的故事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41" name="Content Placeholder 3" descr=""/>
          <p:cNvPicPr/>
          <p:nvPr/>
        </p:nvPicPr>
        <p:blipFill>
          <a:blip r:embed="rId2"/>
          <a:stretch/>
        </p:blipFill>
        <p:spPr>
          <a:xfrm>
            <a:off x="2755800" y="2048040"/>
            <a:ext cx="4205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1641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（一）李友的生活很糟糕！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133720"/>
            <a:ext cx="9144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打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妈妈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骂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爸爸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骂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没人喜欢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的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不喜欢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没人参加她的生日晚会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男朋友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没来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-19080" y="317520"/>
            <a:ext cx="1366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打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妈妈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94920" y="1447560"/>
            <a:ext cx="84978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骂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他爸爸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骂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肯定式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下弧形箭头 3"/>
          <p:cNvSpPr/>
          <p:nvPr/>
        </p:nvSpPr>
        <p:spPr>
          <a:xfrm>
            <a:off x="5435640" y="1341360"/>
            <a:ext cx="1657440" cy="358920"/>
          </a:xfrm>
          <a:custGeom>
            <a:avLst/>
            <a:gdLst>
              <a:gd name="textAreaLeft" fmla="*/ 380520 w 1657440"/>
              <a:gd name="textAreaRight" fmla="*/ 1231920 w 165744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24" hR="21600" stAng="10800000" swAng="-5400000"/>
                <a:lnTo>
                  <a:pt x="11092" y="21600"/>
                </a:lnTo>
                <a:arcTo wR="9924" hR="21600" stAng="5400000" swAng="-3639817"/>
                <a:lnTo>
                  <a:pt x="21285" y="5400"/>
                </a:lnTo>
                <a:lnTo>
                  <a:pt x="20431" y="0"/>
                </a:lnTo>
                <a:lnTo>
                  <a:pt x="18947" y="5400"/>
                </a:lnTo>
                <a:lnTo>
                  <a:pt x="19532" y="5400"/>
                </a:lnTo>
                <a:arcTo wR="9924" hR="21600" stAng="1760183" swAng="3546732"/>
                <a:lnTo>
                  <a:pt x="10508" y="21563"/>
                </a:lnTo>
                <a:arcTo wR="9924" hR="21600" stAng="5493085" swAng="5306915"/>
                <a:close/>
              </a:path>
              <a:path fill="darkenLess" w="21600" h="21600">
                <a:moveTo>
                  <a:pt x="0" y="0"/>
                </a:moveTo>
                <a:arcTo wR="9924" hR="21600" stAng="10800000" swAng="-5400000"/>
                <a:lnTo>
                  <a:pt x="11092" y="21600"/>
                </a:lnTo>
                <a:arcTo wR="9924" hR="21600" stAng="5400000" swAng="93085"/>
                <a:lnTo>
                  <a:pt x="10508" y="21563"/>
                </a:lnTo>
                <a:arcTo wR="9924" hR="21600" stAng="5493085" swAng="530691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下弧形箭头 4"/>
          <p:cNvSpPr/>
          <p:nvPr/>
        </p:nvSpPr>
        <p:spPr>
          <a:xfrm>
            <a:off x="5508720" y="2637000"/>
            <a:ext cx="1727280" cy="431640"/>
          </a:xfrm>
          <a:custGeom>
            <a:avLst/>
            <a:gdLst>
              <a:gd name="textAreaLeft" fmla="*/ 391320 w 1727280"/>
              <a:gd name="textAreaRight" fmla="*/ 1281960 w 1727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-3619483"/>
                <a:lnTo>
                  <a:pt x="21289" y="5400"/>
                </a:lnTo>
                <a:lnTo>
                  <a:pt x="20250" y="0"/>
                </a:lnTo>
                <a:lnTo>
                  <a:pt x="18589" y="5400"/>
                </a:lnTo>
                <a:lnTo>
                  <a:pt x="19264" y="5400"/>
                </a:lnTo>
                <a:arcTo wR="9788" hR="21600" stAng="1780517" swAng="3511832"/>
                <a:lnTo>
                  <a:pt x="10462" y="21549"/>
                </a:lnTo>
                <a:arcTo wR="9788" hR="21600" stAng="5507651" swAng="5292349"/>
                <a:close/>
              </a:path>
              <a:path fill="darkenLess"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107651"/>
                <a:lnTo>
                  <a:pt x="10462" y="21549"/>
                </a:lnTo>
                <a:arcTo wR="9788" hR="21600" stAng="5507651" swAng="529234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324000" y="4221000"/>
            <a:ext cx="8351640" cy="23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80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en-US" sz="8000" spc="-1" strike="noStrike">
                <a:solidFill>
                  <a:srgbClr val="000000"/>
                </a:solidFill>
                <a:latin typeface="楷体"/>
                <a:ea typeface="楷体"/>
              </a:rPr>
              <a:t>V…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(Even S +V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大家不喜欢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的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800" spc="-1" strike="noStrike" u="sng">
                <a:solidFill>
                  <a:srgbClr val="984807"/>
                </a:solidFill>
                <a:uFillTx/>
                <a:latin typeface="黑体"/>
                <a:ea typeface="黑体"/>
              </a:rPr>
              <a:t>不</a:t>
            </a:r>
            <a:r>
              <a:rPr b="1" lang="zh-CN" sz="36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喜欢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没人参加她的生日晚会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男朋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3600" spc="-1" strike="noStrike" u="sng">
                <a:solidFill>
                  <a:srgbClr val="984807"/>
                </a:solidFill>
                <a:uFillTx/>
                <a:latin typeface="黑体"/>
                <a:ea typeface="黑体"/>
              </a:rPr>
              <a:t>没</a:t>
            </a:r>
            <a:r>
              <a:rPr b="1" lang="zh-CN" sz="36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来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否定式）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圆角矩形 3"/>
          <p:cNvSpPr/>
          <p:nvPr/>
        </p:nvSpPr>
        <p:spPr>
          <a:xfrm>
            <a:off x="468360" y="4581360"/>
            <a:ext cx="8207280" cy="20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都不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没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V…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0" y="3357720"/>
            <a:ext cx="896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endParaRPr b="0" lang="en-US" sz="4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6400" y="86400"/>
            <a:ext cx="8971200" cy="160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练习</a:t>
            </a:r>
            <a:r>
              <a:rPr b="1" lang="en-US" sz="4800" spc="-1" strike="noStrike">
                <a:solidFill>
                  <a:srgbClr val="c00000"/>
                </a:solidFill>
                <a:latin typeface="楷体"/>
                <a:ea typeface="楷体"/>
              </a:rPr>
              <a:t>1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起完成李友的故事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-19080" y="2981160"/>
            <a:ext cx="2701800" cy="3346560"/>
          </a:xfrm>
          <a:prstGeom prst="rect">
            <a:avLst/>
          </a:prstGeom>
          <a:ln w="0">
            <a:noFill/>
          </a:ln>
        </p:spPr>
      </p:pic>
      <p:sp>
        <p:nvSpPr>
          <p:cNvPr id="256" name="椭圆形标注 6"/>
          <p:cNvSpPr/>
          <p:nvPr/>
        </p:nvSpPr>
        <p:spPr>
          <a:xfrm>
            <a:off x="2268360" y="2565360"/>
            <a:ext cx="3095640" cy="1008000"/>
          </a:xfrm>
          <a:prstGeom prst="wedgeEllipseCallout">
            <a:avLst>
              <a:gd name="adj1" fmla="val -62935"/>
              <a:gd name="adj2" fmla="val 832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我怎么办</a:t>
            </a:r>
            <a:r>
              <a:rPr b="1" i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7" descr="SX1CRCAAEUOFBCA9YTV6ACA7BIVA4CAHXIEG5CASX5J6YCAJY3ISPCAI7D9AOCAZK3TCPCAST9C94CAPTI248CAQP1HOOCA87ITZFCALM8IWNCA0IPQYMCA3Q5JM0CAPJA4VOCA7S0AH8CAFS4LS5.jpg"/>
          <p:cNvPicPr/>
          <p:nvPr/>
        </p:nvPicPr>
        <p:blipFill>
          <a:blip r:embed="rId3"/>
          <a:stretch/>
        </p:blipFill>
        <p:spPr>
          <a:xfrm>
            <a:off x="5815080" y="3127320"/>
            <a:ext cx="3348000" cy="3340080"/>
          </a:xfrm>
          <a:prstGeom prst="rect">
            <a:avLst/>
          </a:prstGeom>
          <a:ln w="0">
            <a:noFill/>
          </a:ln>
        </p:spPr>
      </p:pic>
      <p:sp>
        <p:nvSpPr>
          <p:cNvPr id="258" name="云形标注 8"/>
          <p:cNvSpPr/>
          <p:nvPr/>
        </p:nvSpPr>
        <p:spPr>
          <a:xfrm>
            <a:off x="5148360" y="1413000"/>
            <a:ext cx="3744720" cy="1439640"/>
          </a:xfrm>
          <a:prstGeom prst="cloudCallout">
            <a:avLst>
              <a:gd name="adj1" fmla="val 9870"/>
              <a:gd name="adj2" fmla="val 13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一片“聪明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8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李友吃了“聪明药”以后，她的生活变了！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0920" y="169992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现在唱歌非常好，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图片 3" descr="u=1191636326,1746014960&amp;fm=0&amp;gp=0.jpg"/>
          <p:cNvPicPr/>
          <p:nvPr/>
        </p:nvPicPr>
        <p:blipFill>
          <a:blip r:embed="rId2"/>
          <a:stretch/>
        </p:blipFill>
        <p:spPr>
          <a:xfrm>
            <a:off x="676440" y="2859120"/>
            <a:ext cx="3182760" cy="3541680"/>
          </a:xfrm>
          <a:prstGeom prst="rect">
            <a:avLst/>
          </a:prstGeom>
          <a:ln w="0">
            <a:noFill/>
          </a:ln>
        </p:spPr>
      </p:pic>
      <p:sp>
        <p:nvSpPr>
          <p:cNvPr id="262" name="椭圆形标注 4"/>
          <p:cNvSpPr/>
          <p:nvPr/>
        </p:nvSpPr>
        <p:spPr>
          <a:xfrm>
            <a:off x="5435640" y="4653000"/>
            <a:ext cx="3240000" cy="1368360"/>
          </a:xfrm>
          <a:prstGeom prst="wedgeEllipseCallout">
            <a:avLst>
              <a:gd name="adj1" fmla="val -128435"/>
              <a:gd name="adj2" fmla="val -72384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喜欢听李友唱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78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现在打篮球非常好，连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</a:t>
            </a:r>
            <a:r>
              <a:rPr b="0" lang="zh-CN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（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yáo mínɡ</a:t>
            </a:r>
            <a:r>
              <a:rPr b="0" lang="zh-CN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64" name="内容占位符 3" descr="T9TDUCA4YP2CACAGFRULQCAS4AANJCA6FZ76OCADKF1ONCARXYO1FCA8UT5PXCAI8X6EECA54U5ARCAMECCTOCAOI2YZDCA1N1UJ1CAX4T9OFCAHQJV77CAT4AKIPCARNZXKOCA0HU6JLCAVJNC59.jpg"/>
          <p:cNvPicPr/>
          <p:nvPr/>
        </p:nvPicPr>
        <p:blipFill>
          <a:blip r:embed="rId2"/>
          <a:stretch/>
        </p:blipFill>
        <p:spPr>
          <a:xfrm>
            <a:off x="4627440" y="2560680"/>
            <a:ext cx="3919680" cy="3632040"/>
          </a:xfrm>
          <a:prstGeom prst="rect">
            <a:avLst/>
          </a:prstGeom>
          <a:ln w="0">
            <a:noFill/>
          </a:ln>
        </p:spPr>
      </p:pic>
      <p:sp>
        <p:nvSpPr>
          <p:cNvPr id="265" name="椭圆形标注 4"/>
          <p:cNvSpPr/>
          <p:nvPr/>
        </p:nvSpPr>
        <p:spPr>
          <a:xfrm>
            <a:off x="0" y="3213000"/>
            <a:ext cx="3564000" cy="1224000"/>
          </a:xfrm>
          <a:prstGeom prst="wedgeEllipseCallout">
            <a:avLst>
              <a:gd name="adj1" fmla="val 144060"/>
              <a:gd name="adj2" fmla="val 5931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跟李友学打篮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02:33:23Z</dcterms:created>
  <dc:creator>liuyixuan</dc:creator>
  <dc:description/>
  <dc:language>en-US</dc:language>
  <cp:lastModifiedBy>lcheng</cp:lastModifiedBy>
  <dcterms:modified xsi:type="dcterms:W3CDTF">2010-09-16T12:45:40Z</dcterms:modified>
  <cp:revision>287</cp:revision>
  <dc:subject/>
  <dc:title>“连”字句</dc:title>
</cp:coreProperties>
</file>