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900D-4DF4-4DF3-9FE4-75B1EE83EAC4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5286-21F2-466C-8F0A-2987320840F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14F6-1FA5-4459-84DA-7AA456D2DC0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想一想：这些句子都有哪些一样的字？什么意思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D14C-CE86-40BD-BBB3-8B110AB6307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09D-B030-4E91-8D36-447326D5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946-420E-418D-B369-AD1D23B8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24F-A86A-4EFA-A929-A7F9BBDD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570-2C38-4400-99C2-8F55C3C0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9BBB-400D-4430-B4D4-0937D89D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D94E-843C-4125-815C-218A43B7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0B4C-6C9C-4322-9D1C-14555B0D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BBC6-0CE5-42F9-892F-B1D253B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B3AB-D8B8-4709-B22F-2979C236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7BD2-D68A-44C2-9BB4-168669FF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E5D2-FD8E-4578-89F7-D5FB7A1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BF4-55F5-41FD-8B71-E53C1181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8935-D91B-4E1A-AB71-B0F404B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D1CB-4680-403E-92D4-62E384A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CEB7-8792-43F8-8741-75F67632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D0AF-9E0A-41E7-90C1-3DC68D92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5E6D-1EF7-4DBA-B143-EFF69C94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0484-921F-4E71-8987-E56E0778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0D9D-3503-4F85-9364-9D734E7C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45B3-B0BD-4DB2-AA7D-492989A9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399C-946E-429D-BBFE-D99AA86F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3688-F111-40B8-8B62-84DDF8E7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2DC-38E0-4148-A8BD-81973A95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DFE0-44C4-4C49-9C02-8B7C0723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74FE-A0AB-4FA9-8539-2B984637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90F8-87BD-48E8-93BB-F4017D7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FDE8-09D7-4059-AD39-932B404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FC21-D945-4C76-84D7-597215C6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A8A5-4361-4D80-A2D9-BACB8F8C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D087-0D80-40C0-BE8E-77657A92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4628-FD9F-4B7E-BE94-D80A3C6D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EBF7-99CA-4D5E-BD3E-7AD1C1C3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702A-66C8-413C-9E59-9A85522F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85E-A764-43BB-B057-7446500D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7608-C15C-4BF4-B5BC-DEB938D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F193-251A-4094-8356-CD5E282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1203-7127-4C5D-AB14-5711800B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8279-6135-4369-8F93-33F2A9E6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99E9-BA8D-4E6C-88C8-E2F59AF6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7014-0417-45E7-BCC4-6D22A27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FB0C-330A-4902-ABCE-7AB31881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6812-99BD-4255-A70D-07D4E2C5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F181-8050-4C29-A128-F4E7FFDC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DA6B8-C4D5-494F-9A34-FA76DBFB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4C6-55F4-4A61-8938-8F860DD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19A4D-9D81-4102-9D5B-75449163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66F9C-648F-4197-B349-22A76BBB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FB6D-6AEA-43D2-91BB-403F1DB9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F118-CD47-46A1-BF20-E4F21A52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7FD97-1E45-4F3E-98F1-CD074579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B3CE6-024F-4E42-94B2-DD3030CC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CA85-EDF0-4BB9-9B00-E280D0B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3DE4-9AD8-48DD-B7B6-6D4D2D3C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396C2-4DC3-41CB-B0CC-D9BB0E49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1D7A-3251-46D9-9585-3CE323AD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1ED-421C-495D-A877-FC3ED846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3910-CD22-4D23-894A-62FA5949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75F-6881-4993-A36B-A3E39869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349-1F94-4077-956E-7332F7D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546-A2B7-4CAB-A490-62B7FAD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E723-960C-453E-A651-653610E3A275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37D8-10D4-4129-89EA-F4E0D0C0D747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BA4F-C368-4C9C-99A3-B897F3A1E908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3561-155F-48FC-A236-BAA96999C0A3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圆角矩形 9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圆角矩形 9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4C2-B537-45C7-AF14-918D681E6BF4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EF17-3945-4CC4-8BCE-4C8F0793323D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F0BF-FC3E-49AF-B296-B68EE5DFB016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835E-4A92-42BB-BD1D-CBB6665E203F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A57-91AB-4A02-B11E-AACE4CD225EA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229E-FD14-4ED0-821C-B76CBBB11B47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1083;&#1083;&amp;in=12551&amp;cl=2&amp;cm=1&amp;sc=0&amp;lm=-1&amp;pn=8&amp;rn=1&amp;di=11030338785&amp;ln=2000&amp;fr=&amp;ic=0&amp;s=0&amp;se=1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16000" y="4436640"/>
            <a:ext cx="712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指导教授：卢福波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学生：刘伟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改编：程岚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2010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年</a:t>
            </a: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8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月</a:t>
            </a: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5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日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851400"/>
            <a:ext cx="9144360" cy="25174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连”字句教学</a:t>
            </a:r>
            <a:endParaRPr b="0" lang="en-US" sz="8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1773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又帅又聪明的男人给李友送花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1f497d"/>
                </a:solidFill>
                <a:uFillTx/>
                <a:latin typeface="楷体"/>
                <a:ea typeface="楷体"/>
              </a:rPr>
              <a:t>奥巴马</a:t>
            </a:r>
            <a:r>
              <a:rPr b="0" lang="en-US" sz="4000" spc="-1" strike="noStrike" u="sng">
                <a:solidFill>
                  <a:srgbClr val="1f497d"/>
                </a:solidFill>
                <a:uFillTx/>
                <a:latin typeface="楷体"/>
                <a:ea typeface="楷体"/>
              </a:rPr>
              <a:t>(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ào bā mǎ)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7" name="内容占位符 3" descr="U2342P1T1D16397251F21DT20081007112026.jpg"/>
          <p:cNvPicPr/>
          <p:nvPr/>
        </p:nvPicPr>
        <p:blipFill>
          <a:blip r:embed="rId2"/>
          <a:stretch/>
        </p:blipFill>
        <p:spPr>
          <a:xfrm>
            <a:off x="603360" y="2073240"/>
            <a:ext cx="404784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椭圆形标注 4"/>
          <p:cNvSpPr/>
          <p:nvPr/>
        </p:nvSpPr>
        <p:spPr>
          <a:xfrm>
            <a:off x="4932360" y="4941720"/>
            <a:ext cx="3456000" cy="1366920"/>
          </a:xfrm>
          <a:prstGeom prst="wedgeEllipseCallout">
            <a:avLst>
              <a:gd name="adj1" fmla="val -113185"/>
              <a:gd name="adj2" fmla="val -1364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给李友送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请李友来中国旅行，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50560" y="1447560"/>
            <a:ext cx="8569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3851280" y="1700280"/>
            <a:ext cx="482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0" descr="u=618228051,3843641396&amp;fm=0&amp;gp=0.jpg"/>
          <p:cNvPicPr/>
          <p:nvPr/>
        </p:nvPicPr>
        <p:blipFill>
          <a:blip r:embed="rId2"/>
          <a:stretch/>
        </p:blipFill>
        <p:spPr>
          <a:xfrm>
            <a:off x="-30240" y="1957320"/>
            <a:ext cx="3554640" cy="3876840"/>
          </a:xfrm>
          <a:prstGeom prst="rect">
            <a:avLst/>
          </a:prstGeom>
          <a:ln w="0">
            <a:noFill/>
          </a:ln>
        </p:spPr>
      </p:pic>
      <p:sp>
        <p:nvSpPr>
          <p:cNvPr id="273" name="椭圆形标注 13"/>
          <p:cNvSpPr/>
          <p:nvPr/>
        </p:nvSpPr>
        <p:spPr>
          <a:xfrm>
            <a:off x="5508720" y="4365720"/>
            <a:ext cx="2808360" cy="1295280"/>
          </a:xfrm>
          <a:prstGeom prst="wedgeEllipseCallout">
            <a:avLst>
              <a:gd name="adj1" fmla="val -177393"/>
              <a:gd name="adj2" fmla="val -126055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请李友来中国旅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练习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：用“连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…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…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”转换句子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560" y="1447560"/>
            <a:ext cx="8893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在中国看到很多让她吃惊的事情：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老人学英语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老人听美国音乐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孩儿喜欢看美国电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昨天天气太热，很多人没上班，胡锦涛也没上班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不知道什么是“聪明药”，胡锦涛也不知道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（二）李友很厉害！</a:t>
            </a:r>
            <a:endParaRPr b="0" lang="en-US" sz="49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447560"/>
            <a:ext cx="835164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会开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敢骑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阿拉伯语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rabic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会说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白宫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可以住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内容占位符 3" descr="huananhu.jpg"/>
          <p:cNvPicPr/>
          <p:nvPr/>
        </p:nvPicPr>
        <p:blipFill>
          <a:blip r:embed="rId2"/>
          <a:stretch/>
        </p:blipFill>
        <p:spPr>
          <a:xfrm>
            <a:off x="2189160" y="2779560"/>
            <a:ext cx="1955880" cy="1524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5" descr="MQ6Q6CAYB6D8XCA1LCZIMCANUWOOUCAV0K138CAXL1KFECANLEJM5CALURH9HCAQE1USZCA03XIN2CABBRM3JCA4Z9DS7CA243EV3CAPJDXHKCASP7BGNCARK40ABCAHXZYJFCA0TTAQ2CAJCCDEM.jpg"/>
          <p:cNvPicPr/>
          <p:nvPr/>
        </p:nvPicPr>
        <p:blipFill>
          <a:blip r:embed="rId3"/>
          <a:stretch/>
        </p:blipFill>
        <p:spPr>
          <a:xfrm>
            <a:off x="2048040" y="1547640"/>
            <a:ext cx="1884240" cy="131148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6" descr="8P5QNCAO2DPWLCANXO6DACAE96P5BCA2CEE51CANAEYV6CA57WGOACAZ6L16BCA6XLL9LCA0UGA6FCA4AYZSLCAEWC189CAW98VTLCA3KQ06LCAZ0BAN8CACYGI29CAGTQPZ5CAI3V8UUCAEZITAN.jpg"/>
          <p:cNvPicPr/>
          <p:nvPr/>
        </p:nvPicPr>
        <p:blipFill>
          <a:blip r:embed="rId4"/>
          <a:stretch/>
        </p:blipFill>
        <p:spPr>
          <a:xfrm>
            <a:off x="1974960" y="5370480"/>
            <a:ext cx="15969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句子中</a:t>
            </a:r>
            <a:r>
              <a:rPr b="1" i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V</a:t>
            </a: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后的词到哪儿去了？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飞机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老虎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敢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骑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阿拉伯语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说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白宫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可以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2060"/>
                </a:solidFill>
                <a:latin typeface="楷体"/>
                <a:ea typeface="楷体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右弧形箭头 6"/>
          <p:cNvSpPr/>
          <p:nvPr/>
        </p:nvSpPr>
        <p:spPr>
          <a:xfrm rot="5400000">
            <a:off x="2735640" y="655920"/>
            <a:ext cx="358920" cy="1729080"/>
          </a:xfrm>
          <a:custGeom>
            <a:avLst/>
            <a:gdLst>
              <a:gd name="textAreaLeft" fmla="*/ 47880 w 358920"/>
              <a:gd name="textAreaRight" fmla="*/ 311040 w 358920"/>
              <a:gd name="textAreaTop" fmla="*/ 398520 h 1729080"/>
              <a:gd name="textAreaBottom" fmla="*/ 128556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60" stAng="-5400000" swAng="5400000"/>
                <a:lnTo>
                  <a:pt x="21600" y="11081"/>
                </a:lnTo>
                <a:arcTo wR="21600" hR="9960" stAng="0" swAng="3645129"/>
                <a:lnTo>
                  <a:pt x="5400" y="21284"/>
                </a:lnTo>
                <a:lnTo>
                  <a:pt x="0" y="20480"/>
                </a:lnTo>
                <a:lnTo>
                  <a:pt x="5400" y="19043"/>
                </a:lnTo>
                <a:lnTo>
                  <a:pt x="5400" y="19603"/>
                </a:lnTo>
                <a:arcTo wR="21600" hR="9960" stAng="3645129" swAng="-3555801"/>
                <a:lnTo>
                  <a:pt x="21566" y="10520"/>
                </a:lnTo>
                <a:arcTo wR="21600" hR="9960" stAng="-89328" swAng="-5310672"/>
                <a:close/>
              </a:path>
              <a:path fill="darkenLess" w="21600" h="21600">
                <a:moveTo>
                  <a:pt x="0" y="0"/>
                </a:moveTo>
                <a:arcTo wR="21600" hR="9960" stAng="-5400000" swAng="5400000"/>
                <a:lnTo>
                  <a:pt x="21600" y="11081"/>
                </a:lnTo>
                <a:arcTo wR="21600" hR="9960" stAng="0" swAng="-89328"/>
                <a:lnTo>
                  <a:pt x="21566" y="10520"/>
                </a:lnTo>
                <a:arcTo wR="21600" hR="9960" stAng="-89328" swAng="-531067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右弧形箭头 7"/>
          <p:cNvSpPr/>
          <p:nvPr/>
        </p:nvSpPr>
        <p:spPr>
          <a:xfrm rot="5400000">
            <a:off x="2844000" y="1845360"/>
            <a:ext cx="216000" cy="165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393840 h 1656000"/>
              <a:gd name="textAreaBottom" fmla="*/ 123552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72" stAng="-5400000" swAng="5400000"/>
                <a:lnTo>
                  <a:pt x="21600" y="10976"/>
                </a:lnTo>
                <a:arcTo wR="21600" hR="10272" stAng="0" swAng="3931785"/>
                <a:lnTo>
                  <a:pt x="4569" y="21368"/>
                </a:lnTo>
                <a:lnTo>
                  <a:pt x="0" y="20896"/>
                </a:lnTo>
                <a:lnTo>
                  <a:pt x="4569" y="19960"/>
                </a:lnTo>
                <a:lnTo>
                  <a:pt x="4569" y="20312"/>
                </a:lnTo>
                <a:arcTo wR="21600" hR="10272" stAng="3931785" swAng="-3875734"/>
                <a:lnTo>
                  <a:pt x="21587" y="10624"/>
                </a:lnTo>
                <a:arcTo wR="21600" hR="10272" stAng="-56050" swAng="-5343950"/>
                <a:close/>
              </a:path>
              <a:path fill="darkenLess" w="21600" h="21600">
                <a:moveTo>
                  <a:pt x="0" y="0"/>
                </a:moveTo>
                <a:arcTo wR="21600" hR="10272" stAng="-5400000" swAng="5400000"/>
                <a:lnTo>
                  <a:pt x="21600" y="10976"/>
                </a:lnTo>
                <a:arcTo wR="21600" hR="10272" stAng="0" swAng="-56050"/>
                <a:lnTo>
                  <a:pt x="21587" y="10624"/>
                </a:lnTo>
                <a:arcTo wR="21600" hR="10272" stAng="-56050" swAng="-534395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右弧形箭头 8"/>
          <p:cNvSpPr/>
          <p:nvPr/>
        </p:nvSpPr>
        <p:spPr>
          <a:xfrm rot="5400000">
            <a:off x="3420360" y="2564280"/>
            <a:ext cx="287280" cy="2448000"/>
          </a:xfrm>
          <a:custGeom>
            <a:avLst/>
            <a:gdLst>
              <a:gd name="textAreaLeft" fmla="*/ 38520 w 287280"/>
              <a:gd name="textAreaRight" fmla="*/ 248760 w 287280"/>
              <a:gd name="textAreaTop" fmla="*/ 585000 h 2448000"/>
              <a:gd name="textAreaBottom" fmla="*/ 18270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25" stAng="-5400000" swAng="5400000"/>
                <a:lnTo>
                  <a:pt x="21600" y="10959"/>
                </a:lnTo>
                <a:arcTo wR="21600" hR="10325" stAng="0" swAng="3938381"/>
                <a:lnTo>
                  <a:pt x="4569" y="21366"/>
                </a:lnTo>
                <a:lnTo>
                  <a:pt x="0" y="20966"/>
                </a:lnTo>
                <a:lnTo>
                  <a:pt x="4569" y="20098"/>
                </a:lnTo>
                <a:lnTo>
                  <a:pt x="4569" y="20415"/>
                </a:lnTo>
                <a:arcTo wR="21600" hR="10325" stAng="3938381" swAng="-3887909"/>
                <a:lnTo>
                  <a:pt x="21590" y="10642"/>
                </a:lnTo>
                <a:arcTo wR="21600" hR="10325" stAng="-50472" swAng="-5349528"/>
                <a:close/>
              </a:path>
              <a:path fill="darkenLess" w="21600" h="21600">
                <a:moveTo>
                  <a:pt x="0" y="0"/>
                </a:moveTo>
                <a:arcTo wR="21600" hR="10325" stAng="-5400000" swAng="5400000"/>
                <a:lnTo>
                  <a:pt x="21600" y="10959"/>
                </a:lnTo>
                <a:arcTo wR="21600" hR="10325" stAng="0" swAng="-50472"/>
                <a:lnTo>
                  <a:pt x="21590" y="10642"/>
                </a:lnTo>
                <a:arcTo wR="21600" hR="10325" stAng="-50472" swAng="-534952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下弧形箭头 10"/>
          <p:cNvSpPr/>
          <p:nvPr/>
        </p:nvSpPr>
        <p:spPr>
          <a:xfrm flipH="1">
            <a:off x="2050920" y="4724280"/>
            <a:ext cx="2376720" cy="360360"/>
          </a:xfrm>
          <a:custGeom>
            <a:avLst/>
            <a:gdLst>
              <a:gd name="textAreaLeft" fmla="*/ 560160 w 2376720"/>
              <a:gd name="textAreaRight" fmla="*/ 1771200 w 237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6" hR="21600" stAng="10800000" swAng="-5400000"/>
                <a:lnTo>
                  <a:pt x="11004" y="21600"/>
                </a:lnTo>
                <a:arcTo wR="10186" hR="21600" stAng="5400000" swAng="-3677890"/>
                <a:lnTo>
                  <a:pt x="21277" y="5400"/>
                </a:lnTo>
                <a:lnTo>
                  <a:pt x="20781" y="0"/>
                </a:lnTo>
                <a:lnTo>
                  <a:pt x="19639" y="5400"/>
                </a:lnTo>
                <a:lnTo>
                  <a:pt x="20049" y="5400"/>
                </a:lnTo>
                <a:arcTo wR="10186" hR="21600" stAng="1722110" swAng="3612751"/>
                <a:lnTo>
                  <a:pt x="10595" y="21583"/>
                </a:lnTo>
                <a:arcTo wR="10186" hR="21600" stAng="5465139" swAng="5334861"/>
                <a:close/>
              </a:path>
              <a:path fill="darkenLess" w="21600" h="21600">
                <a:moveTo>
                  <a:pt x="0" y="0"/>
                </a:moveTo>
                <a:arcTo wR="10186" hR="21600" stAng="10800000" swAng="-5400000"/>
                <a:lnTo>
                  <a:pt x="11004" y="21600"/>
                </a:lnTo>
                <a:arcTo wR="10186" hR="21600" stAng="5400000" swAng="65139"/>
                <a:lnTo>
                  <a:pt x="10595" y="21583"/>
                </a:lnTo>
                <a:arcTo wR="10186" hR="21600" stAng="5465139" swAng="533486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2"/>
          <p:cNvSpPr/>
          <p:nvPr/>
        </p:nvSpPr>
        <p:spPr>
          <a:xfrm>
            <a:off x="179280" y="5157720"/>
            <a:ext cx="8713800" cy="17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：   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V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Perpetua"/>
                <a:ea typeface="SimSun"/>
              </a:rPr>
              <a:t>（</a:t>
            </a:r>
            <a:r>
              <a:rPr b="1" lang="en-US" sz="4000" spc="-1" strike="noStrike">
                <a:solidFill>
                  <a:srgbClr val="984807"/>
                </a:solidFill>
                <a:latin typeface="Perpetua"/>
                <a:ea typeface="SimSun"/>
              </a:rPr>
              <a:t> </a:t>
            </a:r>
            <a:r>
              <a:rPr b="1" lang="en-US" sz="4000" spc="-1" strike="noStrike">
                <a:solidFill>
                  <a:srgbClr val="984807"/>
                </a:solidFill>
                <a:latin typeface="Perpetua"/>
                <a:ea typeface="SimSun"/>
              </a:rPr>
              <a:t>S  even V… </a:t>
            </a:r>
            <a:r>
              <a:rPr b="1" lang="zh-CN" sz="4000" spc="-1" strike="noStrike">
                <a:solidFill>
                  <a:srgbClr val="984807"/>
                </a:solidFill>
                <a:latin typeface="Perpetua"/>
                <a:ea typeface="SimSu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98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李友在白宫很懒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856800"/>
            <a:ext cx="8893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作业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房间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打扫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衣服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昨天她喝醉了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澡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饭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吃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家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回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圆角矩形 3"/>
          <p:cNvSpPr/>
          <p:nvPr/>
        </p:nvSpPr>
        <p:spPr>
          <a:xfrm>
            <a:off x="0" y="4508640"/>
            <a:ext cx="9144000" cy="234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否定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没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V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5" descr="8P5QNCAO2DPWLCANXO6DACAE96P5BCA2CEE51CANAEYV6CA57WGOACAZ6L16BCA6XLL9LCA0UGA6FCA4AYZSLCAEWC189CAW98VTLCA3KQ06LCAZ0BAN8CACYGI29CAGTQPZ5CAI3V8UUCAEZITAN.jpg"/>
          <p:cNvPicPr/>
          <p:nvPr/>
        </p:nvPicPr>
        <p:blipFill>
          <a:blip r:embed="rId2"/>
          <a:stretch/>
        </p:blipFill>
        <p:spPr>
          <a:xfrm>
            <a:off x="7156440" y="907920"/>
            <a:ext cx="17431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3640" y="1773000"/>
            <a:ext cx="856908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两人一组，用下面语法和短语批评对方比自己懒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圆角矩形 4"/>
          <p:cNvSpPr/>
          <p:nvPr/>
        </p:nvSpPr>
        <p:spPr>
          <a:xfrm>
            <a:off x="468360" y="3573360"/>
            <a:ext cx="799128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比我懒，你连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洗衣服、不洗澡、不洗脸、不洗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打扫房间、不打扫卫生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做作业、不做饭、不上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5" descr="u=2157974189,434249740&amp;fm=0&amp;gp=0.jpg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2492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SimSun"/>
                <a:ea typeface="SimSun"/>
              </a:rPr>
              <a:t>活动一：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活动二</a:t>
            </a:r>
            <a:r>
              <a:rPr b="0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吹牛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Talking big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规则：一边传球一边用给出的语法和生词吹牛，拿到球可是没说出句子的同学要用给出的语法和词唱歌。（唱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）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圆角矩形 6"/>
          <p:cNvSpPr/>
          <p:nvPr/>
        </p:nvSpPr>
        <p:spPr>
          <a:xfrm>
            <a:off x="395280" y="2637000"/>
            <a:ext cx="8497800" cy="40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最厉害，我连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吃、打、骑、开、去、买、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老虎、老鼠、大象、飞机、月亮、白宫、白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B5BIWCADO8H1NCAH2WUIDCAX4FTBYCAEHJZGZCA42YCV3CA68L1GQCA5YG1XUCAIXVZ07CAO97CWHCA103F3CCAP3PNP5CA1NO96MCAVVP240CAS58LQ9CA64VZP1CAOGQTKZCAHEBQ5CCACMATTD.jpg"/>
          <p:cNvPicPr/>
          <p:nvPr/>
        </p:nvPicPr>
        <p:blipFill>
          <a:blip r:embed="rId2"/>
          <a:stretch/>
        </p:blipFill>
        <p:spPr>
          <a:xfrm>
            <a:off x="6732720" y="1989000"/>
            <a:ext cx="216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8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我们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Franklin Gothic Book"/>
              </a:rPr>
              <a:t>吹牛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都会了！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1" name="内容占位符 5" descr="u=2157974189,434249740&amp;fm=0&amp;gp=0.jpg"/>
          <p:cNvPicPr/>
          <p:nvPr/>
        </p:nvPicPr>
        <p:blipFill>
          <a:blip r:embed="rId2"/>
          <a:stretch/>
        </p:blipFill>
        <p:spPr>
          <a:xfrm>
            <a:off x="2340000" y="2492280"/>
            <a:ext cx="50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3" name="Picture 6" descr="u=2632589545,2957961780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842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教学对象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美国大学本科生，一年级（下）中文学生。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2920" y="1700280"/>
            <a:ext cx="8786880" cy="50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文水平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初级高；学习中文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月；已学习主要语法“了”；“能” 、“会” “可以”的使用 ；“不”和“没”区别等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教学内容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归纳与操练“连”字句两种用法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0253f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…</a:t>
            </a:r>
            <a:r>
              <a:rPr b="0" lang="en-US" sz="4000" spc="-1" strike="noStrike">
                <a:solidFill>
                  <a:srgbClr val="632523"/>
                </a:solidFill>
                <a:latin typeface="Times New Roman"/>
                <a:ea typeface="楷体"/>
              </a:rPr>
              <a:t>;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都不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没 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O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; S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O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不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没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Left Brace 3"/>
          <p:cNvSpPr/>
          <p:nvPr/>
        </p:nvSpPr>
        <p:spPr>
          <a:xfrm>
            <a:off x="324000" y="4437000"/>
            <a:ext cx="428400" cy="114300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楷体"/>
                <a:ea typeface="楷体"/>
              </a:rPr>
              <a:t>李友的故事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41" name="Content Placeholder 3" descr=""/>
          <p:cNvPicPr/>
          <p:nvPr/>
        </p:nvPicPr>
        <p:blipFill>
          <a:blip r:embed="rId2"/>
          <a:stretch/>
        </p:blipFill>
        <p:spPr>
          <a:xfrm>
            <a:off x="2755800" y="2048040"/>
            <a:ext cx="4205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164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（一）李友的生活很糟糕！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133720"/>
            <a:ext cx="9144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打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妈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骂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人喜欢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的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不喜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人参加她的生日晚会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男朋友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没来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-19080" y="317520"/>
            <a:ext cx="1366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打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妈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4920" y="1447560"/>
            <a:ext cx="8497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骂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肯定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下弧形箭头 3"/>
          <p:cNvSpPr/>
          <p:nvPr/>
        </p:nvSpPr>
        <p:spPr>
          <a:xfrm>
            <a:off x="5435640" y="1341360"/>
            <a:ext cx="1657440" cy="358920"/>
          </a:xfrm>
          <a:custGeom>
            <a:avLst/>
            <a:gdLst>
              <a:gd name="textAreaLeft" fmla="*/ 380520 w 1657440"/>
              <a:gd name="textAreaRight" fmla="*/ 1231920 w 16574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24" hR="21600" stAng="10800000" swAng="-5400000"/>
                <a:lnTo>
                  <a:pt x="11092" y="21600"/>
                </a:lnTo>
                <a:arcTo wR="9924" hR="21600" stAng="5400000" swAng="-3639817"/>
                <a:lnTo>
                  <a:pt x="21285" y="5400"/>
                </a:lnTo>
                <a:lnTo>
                  <a:pt x="20431" y="0"/>
                </a:lnTo>
                <a:lnTo>
                  <a:pt x="18947" y="5400"/>
                </a:lnTo>
                <a:lnTo>
                  <a:pt x="19532" y="5400"/>
                </a:lnTo>
                <a:arcTo wR="9924" hR="21600" stAng="1760183" swAng="3546732"/>
                <a:lnTo>
                  <a:pt x="10508" y="21563"/>
                </a:lnTo>
                <a:arcTo wR="9924" hR="21600" stAng="5493085" swAng="5306915"/>
                <a:close/>
              </a:path>
              <a:path fill="darkenLess" w="21600" h="21600">
                <a:moveTo>
                  <a:pt x="0" y="0"/>
                </a:moveTo>
                <a:arcTo wR="9924" hR="21600" stAng="10800000" swAng="-5400000"/>
                <a:lnTo>
                  <a:pt x="11092" y="21600"/>
                </a:lnTo>
                <a:arcTo wR="9924" hR="21600" stAng="5400000" swAng="93085"/>
                <a:lnTo>
                  <a:pt x="10508" y="21563"/>
                </a:lnTo>
                <a:arcTo wR="9924" hR="21600" stAng="5493085" swAng="530691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下弧形箭头 4"/>
          <p:cNvSpPr/>
          <p:nvPr/>
        </p:nvSpPr>
        <p:spPr>
          <a:xfrm>
            <a:off x="5508720" y="2637000"/>
            <a:ext cx="1727280" cy="431640"/>
          </a:xfrm>
          <a:custGeom>
            <a:avLst/>
            <a:gdLst>
              <a:gd name="textAreaLeft" fmla="*/ 391320 w 1727280"/>
              <a:gd name="textAreaRight" fmla="*/ 1281960 w 1727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-3619483"/>
                <a:lnTo>
                  <a:pt x="21289" y="5400"/>
                </a:lnTo>
                <a:lnTo>
                  <a:pt x="20250" y="0"/>
                </a:lnTo>
                <a:lnTo>
                  <a:pt x="18589" y="5400"/>
                </a:lnTo>
                <a:lnTo>
                  <a:pt x="19264" y="5400"/>
                </a:lnTo>
                <a:arcTo wR="9788" hR="21600" stAng="1780517" swAng="3511832"/>
                <a:lnTo>
                  <a:pt x="10462" y="21549"/>
                </a:lnTo>
                <a:arcTo wR="9788" hR="21600" stAng="5507651" swAng="5292349"/>
                <a:close/>
              </a:path>
              <a:path fill="darkenLess"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107651"/>
                <a:lnTo>
                  <a:pt x="10462" y="21549"/>
                </a:lnTo>
                <a:arcTo wR="9788" hR="21600" stAng="5507651" swAng="529234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324000" y="4221000"/>
            <a:ext cx="8351640" cy="23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80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en-US" sz="8000" spc="-1" strike="noStrike">
                <a:solidFill>
                  <a:srgbClr val="000000"/>
                </a:solidFill>
                <a:latin typeface="楷体"/>
                <a:ea typeface="楷体"/>
              </a:rPr>
              <a:t>V…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(Even S +V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大家不喜欢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的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800" spc="-1" strike="noStrike" u="sng">
                <a:solidFill>
                  <a:srgbClr val="984807"/>
                </a:solidFill>
                <a:uFillTx/>
                <a:latin typeface="黑体"/>
                <a:ea typeface="黑体"/>
              </a:rPr>
              <a:t>不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喜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没人参加她的生日晚会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男朋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3600" spc="-1" strike="noStrike" u="sng">
                <a:solidFill>
                  <a:srgbClr val="984807"/>
                </a:solidFill>
                <a:uFillTx/>
                <a:latin typeface="黑体"/>
                <a:ea typeface="黑体"/>
              </a:rPr>
              <a:t>没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来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否定式）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圆角矩形 3"/>
          <p:cNvSpPr/>
          <p:nvPr/>
        </p:nvSpPr>
        <p:spPr>
          <a:xfrm>
            <a:off x="468360" y="4581360"/>
            <a:ext cx="8207280" cy="20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都不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没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V…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0" y="3357720"/>
            <a:ext cx="896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endParaRPr b="0" lang="en-US" sz="4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6400" y="86400"/>
            <a:ext cx="8971200" cy="160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练习</a:t>
            </a:r>
            <a:r>
              <a:rPr b="1" lang="en-US" sz="4800" spc="-1" strike="noStrike">
                <a:solidFill>
                  <a:srgbClr val="c00000"/>
                </a:solidFill>
                <a:latin typeface="楷体"/>
                <a:ea typeface="楷体"/>
              </a:rPr>
              <a:t>1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起完成李友的故事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-19080" y="2981160"/>
            <a:ext cx="2701800" cy="3346560"/>
          </a:xfrm>
          <a:prstGeom prst="rect">
            <a:avLst/>
          </a:prstGeom>
          <a:ln w="0">
            <a:noFill/>
          </a:ln>
        </p:spPr>
      </p:pic>
      <p:sp>
        <p:nvSpPr>
          <p:cNvPr id="256" name="椭圆形标注 6"/>
          <p:cNvSpPr/>
          <p:nvPr/>
        </p:nvSpPr>
        <p:spPr>
          <a:xfrm>
            <a:off x="2268360" y="2565360"/>
            <a:ext cx="3095640" cy="1008000"/>
          </a:xfrm>
          <a:prstGeom prst="wedgeEllipseCallout">
            <a:avLst>
              <a:gd name="adj1" fmla="val -62935"/>
              <a:gd name="adj2" fmla="val 832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我怎么办</a:t>
            </a:r>
            <a:r>
              <a:rPr b="1" i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7" descr="SX1CRCAAEUOFBCA9YTV6ACA7BIVA4CAHXIEG5CASX5J6YCAJY3ISPCAI7D9AOCAZK3TCPCAST9C94CAPTI248CAQP1HOOCA87ITZFCALM8IWNCA0IPQYMCA3Q5JM0CAPJA4VOCA7S0AH8CAFS4LS5.jpg"/>
          <p:cNvPicPr/>
          <p:nvPr/>
        </p:nvPicPr>
        <p:blipFill>
          <a:blip r:embed="rId3"/>
          <a:stretch/>
        </p:blipFill>
        <p:spPr>
          <a:xfrm>
            <a:off x="5815080" y="3127320"/>
            <a:ext cx="3348000" cy="3340080"/>
          </a:xfrm>
          <a:prstGeom prst="rect">
            <a:avLst/>
          </a:prstGeom>
          <a:ln w="0">
            <a:noFill/>
          </a:ln>
        </p:spPr>
      </p:pic>
      <p:sp>
        <p:nvSpPr>
          <p:cNvPr id="258" name="云形标注 8"/>
          <p:cNvSpPr/>
          <p:nvPr/>
        </p:nvSpPr>
        <p:spPr>
          <a:xfrm>
            <a:off x="5148360" y="1413000"/>
            <a:ext cx="3744720" cy="1439640"/>
          </a:xfrm>
          <a:prstGeom prst="cloudCallout">
            <a:avLst>
              <a:gd name="adj1" fmla="val 9870"/>
              <a:gd name="adj2" fmla="val 13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一片“聪明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李友吃了“聪明药”以后，她的生活变了！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0920" y="1699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现在唱歌非常好，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图片 3" descr="u=1191636326,1746014960&amp;fm=0&amp;gp=0.jpg"/>
          <p:cNvPicPr/>
          <p:nvPr/>
        </p:nvPicPr>
        <p:blipFill>
          <a:blip r:embed="rId2"/>
          <a:stretch/>
        </p:blipFill>
        <p:spPr>
          <a:xfrm>
            <a:off x="676440" y="2859120"/>
            <a:ext cx="3182760" cy="3541680"/>
          </a:xfrm>
          <a:prstGeom prst="rect">
            <a:avLst/>
          </a:prstGeom>
          <a:ln w="0">
            <a:noFill/>
          </a:ln>
        </p:spPr>
      </p:pic>
      <p:sp>
        <p:nvSpPr>
          <p:cNvPr id="262" name="椭圆形标注 4"/>
          <p:cNvSpPr/>
          <p:nvPr/>
        </p:nvSpPr>
        <p:spPr>
          <a:xfrm>
            <a:off x="5435640" y="4653000"/>
            <a:ext cx="3240000" cy="1368360"/>
          </a:xfrm>
          <a:prstGeom prst="wedgeEllipseCallout">
            <a:avLst>
              <a:gd name="adj1" fmla="val -128435"/>
              <a:gd name="adj2" fmla="val -72384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喜欢听李友唱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现在打篮球非常好，连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</a:t>
            </a:r>
            <a:r>
              <a:rPr b="0" lang="zh-CN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（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yáo mínɡ</a:t>
            </a:r>
            <a:r>
              <a:rPr b="0" lang="zh-CN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4" name="内容占位符 3" descr="T9TDUCA4YP2CACAGFRULQCAS4AANJCA6FZ76OCADKF1ONCARXYO1FCA8UT5PXCAI8X6EECA54U5ARCAMECCTOCAOI2YZDCA1N1UJ1CAX4T9OFCAHQJV77CAT4AKIPCARNZXKOCA0HU6JLCAVJNC59.jpg"/>
          <p:cNvPicPr/>
          <p:nvPr/>
        </p:nvPicPr>
        <p:blipFill>
          <a:blip r:embed="rId2"/>
          <a:stretch/>
        </p:blipFill>
        <p:spPr>
          <a:xfrm>
            <a:off x="4627440" y="2560680"/>
            <a:ext cx="3919680" cy="3632040"/>
          </a:xfrm>
          <a:prstGeom prst="rect">
            <a:avLst/>
          </a:prstGeom>
          <a:ln w="0">
            <a:noFill/>
          </a:ln>
        </p:spPr>
      </p:pic>
      <p:sp>
        <p:nvSpPr>
          <p:cNvPr id="265" name="椭圆形标注 4"/>
          <p:cNvSpPr/>
          <p:nvPr/>
        </p:nvSpPr>
        <p:spPr>
          <a:xfrm>
            <a:off x="0" y="3213000"/>
            <a:ext cx="3564000" cy="1224000"/>
          </a:xfrm>
          <a:prstGeom prst="wedgeEllipseCallout">
            <a:avLst>
              <a:gd name="adj1" fmla="val 144060"/>
              <a:gd name="adj2" fmla="val 5931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跟李友学打篮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02:33:23Z</dcterms:created>
  <dc:creator>liuyixuan</dc:creator>
  <dc:description/>
  <dc:language>en-US</dc:language>
  <cp:lastModifiedBy>lcheng</cp:lastModifiedBy>
  <dcterms:modified xsi:type="dcterms:W3CDTF">2010-09-16T12:45:40Z</dcterms:modified>
  <cp:revision>287</cp:revision>
  <dc:subject/>
  <dc:title>“连”字句</dc:title>
</cp:coreProperties>
</file>