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C264B-D2A3-436F-B4F6-C21DB8935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2DBD6-A73A-4FB5-95CA-3B8740324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64284-C3D0-4462-9794-A89E65433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54D92-1B9E-48F2-9B87-8F3662E30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6CA-36E4-48D1-83C1-96F06A54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AAC-48CD-4DB0-8DA3-056E6F52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689D11-A09C-4868-93F0-D136170B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033DC9-6968-41E4-A8C1-EC5C09D6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53C254-B7B3-404D-8F61-D0D02EA4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FC7CBD-0697-4A78-87BE-4DEF5C95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B02B34-E27E-46BE-9554-31ACC540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DCCF2A-CD30-4D44-982E-01852D58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A18A1B-19E6-4362-A95F-A628D355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F9C7F3-0B7B-4972-9661-EDA6ECBF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7057FF-0C99-4473-B798-F4507FAB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C8565C-6CD3-4A2F-9BCB-E0F12672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348-267B-4F44-A146-C9E35F92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FF824E-E0C1-418C-BE2D-4D8EA2C8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05DF8E-753C-40B5-81CE-6B4485D7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AA5150-647E-4220-BBAB-B2897BED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BA979A-D73B-40E1-9327-8D3135D6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11FC40-402C-42CD-BDFC-8D04F9E1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36DBE4-CA15-49FE-9E3F-3527A307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BCA43E-388E-40A7-AD7A-4506F72A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4CC9A0-69E0-4CEF-8CCE-529B38B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759C0D-D699-46EA-ABC5-BB06DAC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19254A-141A-4170-9740-7EC9D664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4A7-D207-4147-B2B1-EA3F5C1F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D10C39-0A00-402B-A74D-59B12FCD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C6E510-F567-47D2-AA68-11D89348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9CF85A-978A-47FD-B6BE-8E5FF659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BD915C-2809-4496-8FB7-D2EF7F4B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F05314-5AB1-4371-974D-9DFD0667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3B6059-1D87-4742-A46C-C9C05161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136FF4-1069-4F20-9F8A-572DF72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62D3BC-78D2-407F-B54C-A5F5A13A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B349BC-37E1-4896-8601-2F8141A2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2E5C58-6436-45C6-9533-F0358F31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9C8F-1C79-4B5B-9BFA-5E676AB4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498A27-27E4-4F42-BED7-D2F84AA0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5EA89B-17EA-432C-A06B-51D71F90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ADAA4E-7749-4532-894E-DE30E854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148BC1-28AE-4C23-A9B5-325D92E9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62BABE-2125-4858-AEDC-83C4D9BC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D21F24-69E6-4997-9954-6A0546DB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F13674-CC5C-4527-89A5-46CD12E1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CA3532-C7FF-42CC-8064-CFDC241C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A366CD-7B3C-4B5D-BE59-C1212D5A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9F54D1-A768-484A-B47E-ED702AE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8767-B984-4048-B9B1-544EB704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2C08E2-CE6A-49E6-ACB0-D1B4F65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938132-9EE5-4D16-A063-785B94FD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579C54-457F-4A39-AABA-97BD58A8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020995-94BA-4EA8-AC8F-7BDFCD6B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E4E1AE-3CF5-438F-82C7-55725FB8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26A57B-C577-45EA-86D8-BDD2873A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B260BF-3EE2-4C3F-B069-CE234617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E59E30-C3E0-4B64-9D7E-9815CC03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CB016B-94CA-4FB0-B56C-656DD54A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19B354-765D-47E1-9C24-8A9FF83C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6F99-25E8-4AAA-BEE4-AEE7B5D2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C813A7-27D5-45C4-AE87-B8569F23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C4746F-E773-4C88-B271-3177A92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F0FE26-9B52-4029-B712-B2BF5BAE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3EE3A1-E21E-4548-9259-A812A515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088F3F-C2B3-4265-85E5-1A85EACE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8D3030-75F5-4438-A821-039014E5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BFF84F-DBE5-47C2-99E0-B6C8AD7E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594099-796D-431A-AE4A-7035DA66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B54BE9-3566-4356-8518-C3E89DF6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AE3755-7F0F-4714-B93B-62261986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672D-8331-4722-8849-61876529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FC35DB-16B7-48EF-B859-6B484AAD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CC551C-9EA8-4FBB-A239-7EF8B2B7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678821-2E84-413E-BFE2-89B03F83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E26D60-1F08-48BD-91E2-2B688457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FA5342-B706-4D46-B471-41120C5C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F01BE6-D385-46A1-A333-CB46FFC5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4D41CE-7BC8-44CF-A390-87CB70BB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D5113B-1990-4D65-B688-F5E392EA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25ED2C-E575-4C27-8309-7A723734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A3708B-0664-4B30-B7D5-20345034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422D-87CA-40B6-87D8-992F9E37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C46265-1F3D-48E7-B723-84071C7B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096E7A-6E03-430A-BC8F-9BB17238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7483FB-A2C4-4092-9079-6CFBFB89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1288A5-675A-46FC-99AE-302675A2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87E492-CEC4-48DE-A1AB-54CC4F57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74CD46-9CAB-4A4B-BF4F-616AF754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D0A8DF-E76D-4F09-9DE9-2B0BD1E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00CCAD-6A89-463B-A3E8-860E41E7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2380AF-D3AA-4933-A2C2-64536272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BE3878-76F8-4F50-A454-37384F1E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E2BA-6401-4915-8B8C-A8CE5B13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985505-F5C9-477A-903D-3B34A45C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ED8E-0EBF-4202-A3C4-9A7FDDCA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D43-6AB5-45E5-A3EF-70A03690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37D5-E80F-4B2A-BB61-F4C0B93F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1681-79D3-4861-AA00-520CE8F8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9755-6946-4EDC-9DB7-96F88A29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0E5C-71CB-44AF-9D33-F254CF80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8B37-4FB1-4586-9F70-B6422C55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6CD3-88A8-4176-A6F4-93EBD8CF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E306-3C0E-4A83-865E-255500F6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6849-8620-466F-BDDE-3939C821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D0EA-F2F2-4F8D-B78E-064B4FDC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9050-2549-4940-B96A-77C0EE6A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1D2-C23D-4475-A393-1F6E4F79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44CF-F2E0-47EE-95A9-0F9C8275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4609-585F-4F44-B946-511AE641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4E71-D849-416A-B545-A059EAF9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BC8C5-589D-4093-9702-E2489D01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20DC-0A47-4B36-AE16-06F926D3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8FE8-DBF8-4927-83DA-46D7A9B2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B188-594A-4BD2-BC2C-2DB8CCF8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78F-573A-4B80-AD56-2957D32D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E8730-0A7B-4B9D-915D-13F06E60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417-B009-4E9A-A92A-47CA3C45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F65A3-4CEB-490B-8568-A9FEAD92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0A3BE-A7BF-417C-8E47-CAA6B56C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ED07C-8B70-4A60-8714-6170D758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04A70-7617-4F9F-BDA9-FDCF0EF2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2F511-A96D-4AA3-8B75-64D27B88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42C8E-942D-45C2-9153-A0913E0C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CB72B-8EB2-4E89-8155-D6EF68A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750D6-726F-42EC-BC6C-F65620F9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978C7-E670-4572-A7ED-B1749A8F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14CFF-F250-4D9F-92F6-AB8D00E4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2CF-4C92-4432-82EC-C317933B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CE9EE-CFAE-43B7-B096-7ACB3874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A7FFF-960D-4CAF-A07B-C789F1F2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2EB54-2491-4CB6-BCC0-187649CA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E1BCC-D5CF-47FE-8F4D-9DECC990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EAC65-7A47-4342-BD84-551C091B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26AE2-D527-45A4-B187-2C32C843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91DE5-2A00-4338-A635-BD0FE2CF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CEF50-557C-438D-9493-32CA2584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DE627-ADA4-478A-B4F9-CAC2FA15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92777-45C6-4126-854C-6F45E80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F16-10EE-4E3E-92CB-16D547A6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E8862-69A0-4EBF-ABDF-EDEEDFAA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905D1-4102-4B9B-9BA7-F41976D2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C0C63-CC2B-4630-AC27-8B959196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8263C-519D-499F-9149-795AE260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DFB8B-086C-417C-959C-3C26B4AE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D68F85-0C61-46FE-A7BC-656C54B2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F1175-533A-4027-8C3E-A0113491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7ED0B-0F89-4475-A812-E828DA97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91921-0440-4A1C-9700-F63E3253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B641B-C493-46D9-B99D-8CE34F19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512-BEF1-4D49-9EAF-695AE6C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E5C5C-C1DE-4B43-8F7F-83137EE7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95F25-1416-4235-816C-D72EF703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B0AB4-0A46-466B-8288-24AD8B1A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5C6D8-2D2F-4826-8D74-88B14867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CFEB5-109B-4CDF-AA5A-1F94460B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7AA68D-3801-439A-9CCC-654CD40A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5466CA-6961-4718-BB54-724062F3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A3E092-F41F-4FFF-9169-A40C6456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AC7242-5F8A-4D56-BCA5-EA3931F9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1689B1-D31B-4428-96E7-16D4866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BE9-3998-40C8-8CCC-C4A421AD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BCDE51-EE98-4767-8D7A-373C5A99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012AB3-7497-4B06-8F3B-7016A6D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5A86D2-747A-45B9-96F5-C6700E76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788F89-C822-4047-B221-A0AC3C79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83413-6C89-47A1-B57F-A78ADE4B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A13F08-0AA7-4385-B237-C4E64767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2DF436-4D9A-4135-800A-A3A597B8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1264F9-CDCB-4FE8-BA97-C7035CB3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4611A5-E973-4920-9704-F641A9E2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0A91CC-1DB7-46B4-9954-172E7689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4D135-B590-4DA4-9FC8-DAF02805780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DC8F2-47A3-4EAB-A5AA-A5E8A721C6E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E8E0E-675E-491E-A4B8-9C0DDB07F61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D87E6-72A4-4595-9FFD-85C9C1603B8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22546-FB63-4870-9843-8D71A6E2042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5B25F-097E-44BF-96B6-4C5D4C0F96C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EB5B4-72E9-4904-8EF4-EF705E7E52A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F4D1E-1851-471C-B5A4-7D8497D9BAE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9346B-B10E-462A-8421-A2446844CC0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65A2B-794C-49DF-8089-70B81345F7E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93742-B45E-406C-A866-07C880676E4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4881E-F503-48AD-9EF0-87830BED18F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301DC-0269-4FB0-89BD-24486C3250A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F3EC0-589F-47A5-A10E-8742FBE8069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9EDD3-06BA-4EEF-BE3F-4C4E9B8DC28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89811-D664-4B77-8F49-C2DF0FF2615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CBA0F-9BF6-4D9A-9A39-365899A1A3A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371A1-6CB0-40E2-B3C0-4147CEDBCED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0E2C4-74D0-4B49-843D-7D00FB3D479F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E6926-08A4-4B5E-A5E1-A065D7587E6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10B92-2E88-4571-AC99-3F32BC5FD0D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850C1-A7BA-4704-B051-BFDD6894968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11171-6D21-4543-936B-AFFCD63011B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6A457-F0D4-4EFB-9190-0C8A15DBF60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9DDED-56EE-4BE8-98F0-B8723609909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ABD00-7F2A-4BBB-9A51-ABBB0DE4EDC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55F09-3973-4DFA-93C8-4C1822C7E17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C723E-EB11-41B6-9250-6E75E66661F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4409E-AA7A-4041-B060-225125974ED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1freesoundeffects.com/freesounds5/platebreak.wav" TargetMode="External"/><Relationship Id="rId3" Type="http://schemas.openxmlformats.org/officeDocument/2006/relationships/hyperlink" Target="http://funny-stuff.audio4fun.com/download/sounds/18863.mp3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0"/>
                </a:solidFill>
                <a:latin typeface="Calisto MT"/>
                <a:ea typeface="SimSun"/>
              </a:rPr>
              <a:t>被动式</a:t>
            </a:r>
            <a:r>
              <a:rPr b="0" lang="en-US" sz="5400" spc="-1" strike="noStrike">
                <a:solidFill>
                  <a:srgbClr val="000090"/>
                </a:solidFill>
                <a:latin typeface="Calisto MT"/>
                <a:ea typeface="SimSun"/>
              </a:rPr>
              <a:t> </a:t>
            </a:r>
            <a:br>
              <a:rPr sz="5400"/>
            </a:br>
            <a:r>
              <a:rPr b="0" lang="en-US" sz="4000" spc="-1" strike="noStrike">
                <a:solidFill>
                  <a:srgbClr val="800000"/>
                </a:solidFill>
                <a:latin typeface="Calisto MT"/>
                <a:ea typeface="SimSun"/>
              </a:rPr>
              <a:t> </a:t>
            </a:r>
            <a:r>
              <a:rPr b="0" lang="en-US" sz="4000" spc="-1" strike="noStrike">
                <a:solidFill>
                  <a:srgbClr val="800000"/>
                </a:solidFill>
                <a:latin typeface="Calisto MT"/>
                <a:ea typeface="SimSun"/>
              </a:rPr>
              <a:t>the passive construction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教学语法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指导教授：卢福波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学生：林维茵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802800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二：描述你听到的声音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90320" y="1584000"/>
            <a:ext cx="84373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24a82"/>
                </a:solidFill>
                <a:uFillTx/>
                <a:latin typeface="Calisto MT"/>
                <a:hlinkClick r:id="rId2"/>
              </a:rPr>
              <a:t>Sound Exercise 1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     </a:t>
            </a:r>
            <a:r>
              <a:rPr b="1" lang="en-US" sz="40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Calisto MT"/>
                <a:ea typeface="SimSun"/>
              </a:rPr>
              <a:t>盘子</a:t>
            </a:r>
            <a:r>
              <a:rPr b="1" lang="zh-CN" sz="4000" spc="-1" strike="noStrike">
                <a:solidFill>
                  <a:srgbClr val="8118ae"/>
                </a:solidFill>
                <a:latin typeface="Calisto MT"/>
                <a:ea typeface="SimSun"/>
              </a:rPr>
              <a:t>被</a:t>
            </a:r>
            <a:r>
              <a:rPr b="1" lang="zh-CN" sz="4000" spc="-1" strike="noStrike">
                <a:solidFill>
                  <a:srgbClr val="0000ff"/>
                </a:solidFill>
                <a:latin typeface="Calisto MT"/>
                <a:ea typeface="SimSun"/>
              </a:rPr>
              <a:t>（人）打破了。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24a82"/>
                </a:solidFill>
                <a:uFillTx/>
                <a:latin typeface="Calisto MT"/>
                <a:hlinkClick r:id="rId3"/>
              </a:rPr>
              <a:t>Sound Exercise 2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sto MT"/>
              </a:rPr>
              <a:t>      </a:t>
            </a:r>
            <a:r>
              <a:rPr b="1" lang="en-US" sz="40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Calisto MT"/>
                <a:ea typeface="SimSun"/>
              </a:rPr>
              <a:t>受伤的人</a:t>
            </a:r>
            <a:r>
              <a:rPr b="1" lang="zh-CN" sz="4000" spc="-1" strike="noStrike">
                <a:solidFill>
                  <a:srgbClr val="8118ae"/>
                </a:solidFill>
                <a:latin typeface="Calisto MT"/>
                <a:ea typeface="SimSun"/>
              </a:rPr>
              <a:t>被</a:t>
            </a:r>
            <a:r>
              <a:rPr b="1" lang="zh-CN" sz="4000" spc="-1" strike="noStrike">
                <a:solidFill>
                  <a:srgbClr val="0000ff"/>
                </a:solidFill>
                <a:latin typeface="Calisto MT"/>
                <a:ea typeface="SimSun"/>
              </a:rPr>
              <a:t>送到医院了。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三：比手画脚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37680" y="2808000"/>
            <a:ext cx="5891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两个学生一组，每次一个学生拿一张已经写上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动作”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的纸条。这一个学生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表演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让另一个同学用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被”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描述。</a:t>
            </a:r>
            <a:r>
              <a:rPr b="0" lang="en-US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47" name="Picture 3" descr="charades"/>
          <p:cNvPicPr/>
          <p:nvPr/>
        </p:nvPicPr>
        <p:blipFill>
          <a:blip r:embed="rId2"/>
          <a:stretch/>
        </p:blipFill>
        <p:spPr>
          <a:xfrm>
            <a:off x="5870520" y="1219320"/>
            <a:ext cx="30384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209520" y="423720"/>
            <a:ext cx="893448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涉及的人或事物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48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词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结果补语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the affected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R.C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（人）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49" name="Up Arrow 8" descr=""/>
          <p:cNvPicPr/>
          <p:nvPr/>
        </p:nvPicPr>
        <p:blipFill>
          <a:blip r:embed="rId2"/>
          <a:stretch/>
        </p:blipFill>
        <p:spPr>
          <a:xfrm>
            <a:off x="4791240" y="3273480"/>
            <a:ext cx="1152360" cy="1884240"/>
          </a:xfrm>
          <a:prstGeom prst="rect">
            <a:avLst/>
          </a:prstGeom>
          <a:ln w="0">
            <a:noFill/>
          </a:ln>
        </p:spPr>
      </p:pic>
      <p:sp>
        <p:nvSpPr>
          <p:cNvPr id="750" name="TextBox 9"/>
          <p:cNvSpPr/>
          <p:nvPr/>
        </p:nvSpPr>
        <p:spPr>
          <a:xfrm>
            <a:off x="3726000" y="66024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608040" y="584028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estions?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Content Placeholder 3" descr="被作业压死了"/>
          <p:cNvPicPr/>
          <p:nvPr/>
        </p:nvPicPr>
        <p:blipFill>
          <a:blip r:embed="rId2"/>
          <a:srcRect l="-43390" t="0" r="-43390" b="0"/>
          <a:stretch/>
        </p:blipFill>
        <p:spPr>
          <a:xfrm>
            <a:off x="900000" y="2133720"/>
            <a:ext cx="7345440" cy="39322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1073160" y="973080"/>
            <a:ext cx="71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不要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作业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压死了。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Content Placeholder 3" descr="踩"/>
          <p:cNvPicPr/>
          <p:nvPr/>
        </p:nvPicPr>
        <p:blipFill>
          <a:blip r:embed="rId2"/>
          <a:srcRect l="-25748" t="0" r="-25748" b="0"/>
          <a:stretch/>
        </p:blipFill>
        <p:spPr>
          <a:xfrm>
            <a:off x="439560" y="1015920"/>
            <a:ext cx="5175360" cy="4114800"/>
          </a:xfrm>
          <a:prstGeom prst="rect">
            <a:avLst/>
          </a:prstGeom>
          <a:ln w="0">
            <a:noFill/>
          </a:ln>
        </p:spPr>
      </p:pic>
      <p:sp>
        <p:nvSpPr>
          <p:cNvPr id="713" name="TextBox 3"/>
          <p:cNvSpPr/>
          <p:nvPr/>
        </p:nvSpPr>
        <p:spPr>
          <a:xfrm>
            <a:off x="4894200" y="276228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踩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!!!  cǎi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209520" y="423360"/>
            <a:ext cx="893448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  </a:t>
            </a:r>
            <a:r>
              <a:rPr b="1" lang="en-US" sz="3200" spc="-1" strike="noStrike">
                <a:solidFill>
                  <a:srgbClr val="660066"/>
                </a:solidFill>
                <a:latin typeface="华文仿宋"/>
                <a:ea typeface="华文仿宋"/>
              </a:rPr>
              <a:t>How is the person or the thing being affected?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涉及的人或事物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48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词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结果补语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the affected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R.C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（人）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5" name="Up Arrow 8" descr=""/>
          <p:cNvPicPr/>
          <p:nvPr/>
        </p:nvPicPr>
        <p:blipFill>
          <a:blip r:embed="rId2"/>
          <a:stretch/>
        </p:blipFill>
        <p:spPr>
          <a:xfrm>
            <a:off x="5022720" y="3273480"/>
            <a:ext cx="987480" cy="18842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9"/>
          <p:cNvSpPr/>
          <p:nvPr/>
        </p:nvSpPr>
        <p:spPr>
          <a:xfrm>
            <a:off x="2428920" y="660240"/>
            <a:ext cx="46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 </a:t>
            </a: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结构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(Structur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一：怎么了？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83680" y="1584360"/>
            <a:ext cx="88599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     </a:t>
            </a:r>
            <a:r>
              <a:rPr b="0" lang="zh-CN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请你描述</a:t>
            </a: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(describe)</a:t>
            </a:r>
            <a:r>
              <a:rPr b="0" lang="zh-CN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你看到的图：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   </a:t>
            </a:r>
            <a:r>
              <a:rPr b="0" lang="zh-CN" sz="4000" spc="-1" strike="noStrike" u="sng">
                <a:solidFill>
                  <a:srgbClr val="800000"/>
                </a:solidFill>
                <a:uFillTx/>
                <a:latin typeface="华文仿宋"/>
                <a:ea typeface="华文仿宋"/>
              </a:rPr>
              <a:t>这个人或这个东西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</a:t>
            </a:r>
            <a:r>
              <a:rPr b="0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？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	</a:t>
            </a:r>
            <a:r>
              <a:rPr b="0" lang="zh-CN" sz="3200" spc="-1" strike="noStrike" u="sng">
                <a:solidFill>
                  <a:srgbClr val="800000"/>
                </a:solidFill>
                <a:uFillTx/>
                <a:latin typeface="华文仿宋"/>
                <a:ea typeface="华文仿宋"/>
              </a:rPr>
              <a:t>这个人或这个东西</a:t>
            </a:r>
            <a:r>
              <a:rPr b="1" lang="zh-CN" sz="54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+ (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)+V+RC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蛋糕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0" name="Content Placeholder 3" descr="舔盘子"/>
          <p:cNvPicPr/>
          <p:nvPr/>
        </p:nvPicPr>
        <p:blipFill>
          <a:blip r:embed="rId2"/>
          <a:srcRect l="-36577" t="0" r="-36577" b="0"/>
          <a:stretch/>
        </p:blipFill>
        <p:spPr>
          <a:xfrm>
            <a:off x="-755640" y="1941480"/>
            <a:ext cx="6607080" cy="35100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" descr="空盘子"/>
          <p:cNvPicPr/>
          <p:nvPr/>
        </p:nvPicPr>
        <p:blipFill>
          <a:blip r:embed="rId3"/>
          <a:stretch/>
        </p:blipFill>
        <p:spPr>
          <a:xfrm>
            <a:off x="4316400" y="3189240"/>
            <a:ext cx="4214880" cy="3176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" descr="cake"/>
          <p:cNvPicPr/>
          <p:nvPr/>
        </p:nvPicPr>
        <p:blipFill>
          <a:blip r:embed="rId4"/>
          <a:stretch/>
        </p:blipFill>
        <p:spPr>
          <a:xfrm>
            <a:off x="6724800" y="384120"/>
            <a:ext cx="1806480" cy="2400480"/>
          </a:xfrm>
          <a:prstGeom prst="rect">
            <a:avLst/>
          </a:prstGeom>
          <a:ln w="0">
            <a:noFill/>
          </a:ln>
        </p:spPr>
      </p:pic>
      <p:sp>
        <p:nvSpPr>
          <p:cNvPr id="723" name="TextBox 7"/>
          <p:cNvSpPr/>
          <p:nvPr/>
        </p:nvSpPr>
        <p:spPr>
          <a:xfrm>
            <a:off x="1573200" y="3189240"/>
            <a:ext cx="64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蛋糕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妹妹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吃完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鞋子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5" name="Content Placeholder 5" descr="高特破的鞋"/>
          <p:cNvPicPr/>
          <p:nvPr/>
        </p:nvPicPr>
        <p:blipFill>
          <a:blip r:embed="rId2"/>
          <a:srcRect l="-20147" t="0" r="-20147" b="0"/>
          <a:stretch/>
        </p:blipFill>
        <p:spPr>
          <a:xfrm>
            <a:off x="2028960" y="1871640"/>
            <a:ext cx="7483320" cy="4481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gaote"/>
          <p:cNvPicPr/>
          <p:nvPr/>
        </p:nvPicPr>
        <p:blipFill>
          <a:blip r:embed="rId3"/>
          <a:stretch/>
        </p:blipFill>
        <p:spPr>
          <a:xfrm>
            <a:off x="290520" y="3178080"/>
            <a:ext cx="2374920" cy="34290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4"/>
          <p:cNvSpPr/>
          <p:nvPr/>
        </p:nvSpPr>
        <p:spPr>
          <a:xfrm>
            <a:off x="1131840" y="2057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鞋子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高特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穿坏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/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破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34544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昨天我有很多钱，现在</a:t>
            </a:r>
            <a:br>
              <a:rPr sz="4300"/>
            </a:b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口袋里一块钱也没有，</a:t>
            </a:r>
            <a:r>
              <a:rPr b="0" lang="zh-CN" sz="4300" spc="-1" strike="noStrike">
                <a:solidFill>
                  <a:srgbClr val="800000"/>
                </a:solidFill>
                <a:latin typeface="华文仿宋"/>
                <a:ea typeface="华文仿宋"/>
              </a:rPr>
              <a:t>钱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呢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9" name="Content Placeholder 3" descr="钱被花光了.png"/>
          <p:cNvPicPr/>
          <p:nvPr/>
        </p:nvPicPr>
        <p:blipFill>
          <a:blip r:embed="rId2"/>
          <a:srcRect l="-91931" t="0" r="-91931" b="0"/>
          <a:stretch/>
        </p:blipFill>
        <p:spPr>
          <a:xfrm>
            <a:off x="-925560" y="2133720"/>
            <a:ext cx="6060960" cy="43005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" descr="shopping"/>
          <p:cNvPicPr/>
          <p:nvPr/>
        </p:nvPicPr>
        <p:blipFill>
          <a:blip r:embed="rId3"/>
          <a:stretch/>
        </p:blipFill>
        <p:spPr>
          <a:xfrm>
            <a:off x="3686040" y="2641680"/>
            <a:ext cx="5191200" cy="322560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4"/>
          <p:cNvSpPr/>
          <p:nvPr/>
        </p:nvSpPr>
        <p:spPr>
          <a:xfrm>
            <a:off x="2443320" y="2133720"/>
            <a:ext cx="74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钱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（他）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花光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这些脏衣服</a:t>
            </a:r>
            <a:r>
              <a:rPr b="0" lang="zh-CN" sz="48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33" name="Content Placeholder 3" descr="洗衣服"/>
          <p:cNvPicPr/>
          <p:nvPr/>
        </p:nvPicPr>
        <p:blipFill>
          <a:blip r:embed="rId2"/>
          <a:srcRect l="-59874" t="0" r="-59874" b="0"/>
          <a:stretch/>
        </p:blipFill>
        <p:spPr>
          <a:xfrm>
            <a:off x="-639720" y="1285920"/>
            <a:ext cx="4869000" cy="2606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干净的衣服"/>
          <p:cNvPicPr/>
          <p:nvPr/>
        </p:nvPicPr>
        <p:blipFill>
          <a:blip r:embed="rId3"/>
          <a:stretch/>
        </p:blipFill>
        <p:spPr>
          <a:xfrm>
            <a:off x="5124600" y="1812960"/>
            <a:ext cx="3576600" cy="3011400"/>
          </a:xfrm>
          <a:prstGeom prst="rect">
            <a:avLst/>
          </a:prstGeom>
          <a:ln w="0">
            <a:noFill/>
          </a:ln>
        </p:spPr>
      </p:pic>
      <p:pic>
        <p:nvPicPr>
          <p:cNvPr id="735" name="Right Arrow 6" descr=""/>
          <p:cNvPicPr/>
          <p:nvPr/>
        </p:nvPicPr>
        <p:blipFill>
          <a:blip r:embed="rId4"/>
          <a:stretch/>
        </p:blipFill>
        <p:spPr>
          <a:xfrm>
            <a:off x="3230640" y="2603520"/>
            <a:ext cx="1987560" cy="9018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7"/>
          <p:cNvSpPr/>
          <p:nvPr/>
        </p:nvSpPr>
        <p:spPr>
          <a:xfrm>
            <a:off x="311040" y="3244680"/>
            <a:ext cx="927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 </a:t>
            </a: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脏衣服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en-US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(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妈妈</a:t>
            </a:r>
            <a:r>
              <a:rPr b="0" lang="en-US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)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洗干净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9186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小狗咬了邮差，</a:t>
            </a:r>
            <a:r>
              <a:rPr b="0" lang="zh-CN" sz="4300" spc="-1" strike="noStrike">
                <a:solidFill>
                  <a:srgbClr val="800000"/>
                </a:solidFill>
                <a:latin typeface="华文仿宋"/>
                <a:ea typeface="华文仿宋"/>
              </a:rPr>
              <a:t>他的屁股</a:t>
            </a:r>
            <a:r>
              <a:rPr b="0" lang="zh-CN" sz="54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779400" y="158436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屁股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（小狗）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咬伤了。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Content Placeholder 5" descr="被咬伤了"/>
          <p:cNvPicPr/>
          <p:nvPr/>
        </p:nvPicPr>
        <p:blipFill>
          <a:blip r:embed="rId2"/>
          <a:srcRect l="-85845" t="0" r="-85845" b="0"/>
          <a:stretch/>
        </p:blipFill>
        <p:spPr>
          <a:xfrm>
            <a:off x="-566640" y="2602080"/>
            <a:ext cx="7345440" cy="39319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红屁股"/>
          <p:cNvPicPr/>
          <p:nvPr/>
        </p:nvPicPr>
        <p:blipFill>
          <a:blip r:embed="rId3"/>
          <a:stretch/>
        </p:blipFill>
        <p:spPr>
          <a:xfrm>
            <a:off x="5672160" y="2889360"/>
            <a:ext cx="1895400" cy="1679400"/>
          </a:xfrm>
          <a:prstGeom prst="rect">
            <a:avLst/>
          </a:prstGeom>
          <a:ln w="0">
            <a:noFill/>
          </a:ln>
        </p:spPr>
      </p:pic>
      <p:pic>
        <p:nvPicPr>
          <p:cNvPr id="741" name="Multiply 7" descr=""/>
          <p:cNvPicPr/>
          <p:nvPr/>
        </p:nvPicPr>
        <p:blipFill>
          <a:blip r:embed="rId4"/>
          <a:stretch/>
        </p:blipFill>
        <p:spPr>
          <a:xfrm>
            <a:off x="6072120" y="2865600"/>
            <a:ext cx="1481040" cy="1566720"/>
          </a:xfrm>
          <a:prstGeom prst="rect">
            <a:avLst/>
          </a:prstGeom>
          <a:ln w="0">
            <a:noFill/>
          </a:ln>
        </p:spPr>
      </p:pic>
      <p:sp>
        <p:nvSpPr>
          <p:cNvPr id="742" name="TextBox 8"/>
          <p:cNvSpPr/>
          <p:nvPr/>
        </p:nvSpPr>
        <p:spPr>
          <a:xfrm>
            <a:off x="5672160" y="48690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your imag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2:59:21Z</dcterms:created>
  <dc:creator>admin</dc:creator>
  <dc:description/>
  <dc:language>en-US</dc:language>
  <cp:lastModifiedBy>lcheng</cp:lastModifiedBy>
  <dcterms:modified xsi:type="dcterms:W3CDTF">2010-09-16T12:47:45Z</dcterms:modified>
  <cp:revision>25</cp:revision>
  <dc:subject/>
  <dc:title>被</dc:title>
</cp:coreProperties>
</file>