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79017-1607-4C82-9042-43C7E91C3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D39C0-588C-4A70-B482-D7E47239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83875-1C97-470E-A659-31B367D0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DB83C-2B0D-43DE-ABE4-B8BE8EBD3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DC9-12B8-47F2-A947-6F47823B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A02-A7FD-4315-8801-C1874CAD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D98F35-654F-4D0F-B05F-F9C2C512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2C72C9-CE87-43ED-8FCE-886A039C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B05886-9181-42A6-BCD4-F79E57BD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A04A39-E294-4503-AADB-F36B890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8C2F04-14C2-4496-BE01-4355D4D3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69AE3F-3BAA-4582-A716-8C1AB963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ABAE24-57FC-4AA2-B6CE-7DC378E1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61B8C4-398B-4492-BDD0-7CDE38E7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C1162-BE32-4507-B81B-F0D25964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F3E41D-0A99-4BB4-8B53-1C6E75B1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93D-A2C9-414B-8431-69CDE9AB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FF7414-23A5-4BA2-83FD-2C05D40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75ED6-6399-4565-A941-597E38D8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440965-F690-426D-A0C7-6C6FA42B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A43F8B-1E4E-4B8B-B4FC-D164221B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0FE7C8-9EDA-4606-AD18-A73F8590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149A54-9D19-428F-A67D-DF1B5486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81CF59-79ED-4D04-8733-067866E0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5EDFEC-04B4-48B7-A6C3-C789E7D5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162A3-768F-4136-8D91-3D538FD6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233BAB-42A6-49DB-9E2D-C345C889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9CF-4E6C-4D85-BF71-14D300BD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0D390B-7AC7-421F-AF31-6358B5FC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3C2508-9095-42DF-A3A3-A8CF2CB0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FA32DC-D5F9-4E4A-8FC5-6C9EE9B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A456FB-9D28-4C31-AD53-6AAA3DB5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245C22-668B-4D36-A234-CC1C886B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7BA95D-DFB4-4602-94F4-D51A6DE1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F2D8F4-3EF8-4C2F-BE96-2C898AD3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66CD89-5721-4237-BE91-80658DC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F41F8B-252C-4D4A-A43F-6FCF1E5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31178F-D019-4EF0-BF81-858D417D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339D-3779-4A74-BBA5-EADE8CED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F59F55-B7D8-4B1E-9127-065A04F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F3ADB5-0F73-4702-989D-44593EFE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FE8B8B-E3AF-4328-A3FE-2567E612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84F4CB-3E71-468D-8A1E-009241CD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ABBECB-B0E6-473E-B8A4-F722405E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F3C933-5581-45E2-A5BB-40E3707E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DA3ED8-7D08-4B48-B0C6-3B047C7E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74481D-685C-463A-B619-44358C0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A64F9B-941E-42F9-8D4A-CA6D07AF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42E614-001E-4F7A-935C-635F1F5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96F6-FE6A-477F-BE20-CCF75C77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EE81BD-4526-4CAC-907A-0E09485F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AFFF29-A04C-4277-A2DF-C79E69DE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F984D3-F9F9-4432-BE85-E0EA0F77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6A9265-425D-4607-933E-0DAC9A79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EB4905-0197-4695-8D31-AC19A28E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715B60-27EB-4E2D-91F3-94EFAA0D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7BF9E0-D6AD-4468-939E-CFF8DD98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99DAA5-262E-416D-9885-CD03ABFB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2D1A7B-A65D-4C37-96CC-C8FE84D3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E7091E-DDD9-439B-8565-2D67BE00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9A89-88AA-4DF7-88CD-568114FF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9DB429-359F-4F3A-B2A3-9236617B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666FA8-96D5-4F1D-8FDC-3F7038CC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DBB4EC-7748-401F-8CF2-15C4AD2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2C7421-071C-4265-AD3C-55E7648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F2CAF0-8FD0-4248-BE99-C05BACE4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F1D697-E4B9-4CF6-AB60-273C6148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BA2D56-9993-4683-A0FD-08514BD6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6D54AC-1873-4F07-83C8-24FC65C2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7D0D44-0C06-4D77-9558-4E469FCA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E747E7-6ACA-4FBD-96A6-72BC58A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5C9B-B8E9-4838-89B8-B47C0081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EB43BC-1DCB-4E64-B6E6-7FDDB292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5108C8-F885-4B9A-AA0D-5A05B889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255265-090B-4ECE-868B-66FD0380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7FC92F-12E3-4941-A03E-CBE3BB53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A6E3C8-883A-46A4-9353-3328A3B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657466-72C0-430C-9D70-F582F60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A39077-569B-454A-B8FA-DAFB8DDC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CFC0C5-53B6-46CE-934E-675E0F56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51EE9D-6799-4D3C-8D5E-872465DC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ADA960-9707-4543-B2F9-3CDFBE52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AF1F-98F4-4E55-8ACB-59488DA8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E8FE5B-98AA-4452-B3CC-A4F4CDE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3BDD41-2161-4031-B0CC-44895C0F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D4F6CD-EBBC-4F63-8FEC-60030D73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D08A21-C4A0-4B04-A478-AB951F9B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158AE4-4362-4E1A-9F71-3A3725F2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93DFDE-015B-4797-A234-4318590E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9E7597-28A2-4E76-A004-10F7BD69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1DE679-867C-4FA5-8F7A-A07D67CE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C2B929-1585-40FA-9A46-655D10B3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6F08C3-1C83-4506-AF3E-E499509E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157D-E1A6-4D02-8F28-CE32E4BA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041AAA-DAFB-4360-848F-F4411214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7B5A-A8F7-4500-9597-6F99C862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ABB-1E28-4F43-BA49-8CD0DBD4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71C4-A0B7-4DCA-B591-EE9CB854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CACC-F223-450F-B71E-2D72BAD3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3D24-80E1-43E3-A618-B5854807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CD24-75FF-4FA5-8A53-4694C151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DCCA-89E7-45E6-AB67-41919A31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A29F-0E1B-4FC3-9683-DD97F9EB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56689-D4FE-49BE-A89B-FE79976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A81AA-AB7C-4D9C-9691-8C56B3C8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355F-148C-44CD-B681-0FA7861C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F3A4-ED29-48D1-8C7C-F2900E4F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F3F-5C98-4A00-97B3-298F5542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9872-9CBF-458A-8D90-1E395034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D9FD-9772-40A6-9C76-9E499A88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BF1D-3135-4B99-9464-753C3C08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77E8-86F9-4E39-8147-BF0A8132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6A59-A49F-407F-85AD-39F7BA79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BB20-03C6-46A3-8FEF-26AD4CD8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96B2-A392-46E4-98AF-FCB331D2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BA3-D21C-438D-83B4-F70F07A0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D680A-E7F5-4423-87CE-9484A253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4C1-C4BB-4F12-9121-31D532E5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EDEF1-D3A4-4EAE-9D0F-08CAA1EB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6D690-2E0B-4A0A-94CC-633D10AA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18299-B2AF-45F7-BC5B-1B702E2D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11A96-9852-4D56-A3B6-26A0AA93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16645-0107-4619-B915-C123FDB5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BEA49-3097-4B10-88FC-021F9B2B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2C1FA-0AF2-4232-9338-3FF1EAE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4C3E8-D75B-4BAE-AC47-7119F9D3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6344F-30D7-42B0-BA00-1D2258F9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0AADC-79AF-4961-A0F1-5C398F3E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714-546C-43A7-A8A1-4E5F109B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8DA23-F0BD-48E4-B62A-51199EDF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82D3C-7D33-4591-A4AC-9A5752B3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5C33A-35EA-4009-845C-E205D90C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C8734-4A99-440F-B144-8805BFF4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3475D-8BBD-4FA4-B38F-644BB965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43AE6-BA2B-4CBE-9FE1-F9DB23D9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EC3DD-8C93-4CAF-ADBE-D915725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52FE6-0CB5-45D9-A731-82192E3F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E747D-55D9-4E9A-8DA0-072BC735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CBC34-D294-4C8F-897D-FB29E55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78F-9F6D-4673-955D-73D243D9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36DB0-09FA-4320-9A14-9DE998FA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7DB3E-3804-4C20-82F5-604CAF56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77AC9-C4CC-4D56-85ED-2B5E04DE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27408-2866-4C65-998F-F29B429A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B0AE9-3EB8-44D9-9A31-F2CF756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79CE4-96F7-44F1-90D4-64A2D325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F6C7D-0EEC-499B-AB4D-F4C24C2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EB08B-EE61-4264-AD29-CAE659CD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6C921-08FF-4D43-8C3B-B3134D16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A5838-90E0-4405-B8F9-AE6640D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506-04A8-47CF-846C-8DB06713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18F72-0E20-4F31-915E-5493A98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49A84A-1CC9-43D8-8204-7D9F04CB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C24B9-EC46-4621-9811-5FF414CC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792C0-2989-4161-86C0-2B7E5BB6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82185-3CB8-4FDB-AB86-377558A4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9B07F-1E44-400F-B44F-067A2D05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B4A15E-310F-4EDD-875C-FB07E26C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B3B666-06CB-41FE-AAC3-09DB27DE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DF14AA-04A1-4DF7-BC62-8147989A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CB739C-8D69-402C-906A-F7FD2F85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E83-9896-40D4-8603-DAF8E83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78C9C-DF3B-404D-9B06-ED016177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9CBDD-B858-437F-AC69-740DF53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CFCD8E-80F0-421E-A61D-6ADBAE50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87C74-C84F-4853-ACA5-D6827373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F492D0-4E20-442A-9470-27EA48FE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B5A54-30AA-4EA0-A21A-BAFD8560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A096E2-8F2C-4D60-9E74-69AA9FCB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F93A33-B14C-40CA-AC5F-0439AD72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1066F-224F-422C-B4E5-BEA2B1A8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0C52D8-41AE-471F-AB54-7AC9ACB0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C6072-015E-4A72-B702-F8C4E728860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352AB-7BB9-41F4-8E07-E3F8A03BE96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A90CB-FA02-43C9-B4AE-E7346259C06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73704-34A1-43C7-BFAB-498C8FFB47C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8F205-3CCC-40CC-84BA-49E2A3E6B2A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DFE4F-03AE-4B39-B986-8686367DEDF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C244C-AF40-469F-AD68-1B47EFAF165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11DE1-C505-40BD-9A5F-171D1654409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C0740-9143-4BE1-8560-0DA8A184058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39EF4-8F6C-4F2C-898D-9D85657652F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F5650-D37F-417B-81D9-E98EBEFD339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543AB-22D9-419F-99F1-54B4019D3E9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70AA5-24B6-4086-B663-61C81165B85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BF6E6-CDFD-49D8-8657-5C3034058D3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AE41A-3048-4DE6-B789-D9974E84A0D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AB058-DB43-48CF-A548-A986792C8BE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9A319-EDFE-404C-85BC-446B5A0375F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1006C-0D65-4935-8708-1425655AA16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433D9-3960-4314-B3FA-FC9D8C7DDFD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02852-070C-43C6-9E22-E39048E9586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58E62-A101-411A-B7B0-13B9D6DE835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7B92B-20C1-4F47-918F-7FC8B45A573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CEE42-29E8-4234-8B70-23A53C0F14A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B75BA-0807-421D-9379-5230FE62F1D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C1F25-D77A-48F6-A78D-E51419B8D39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DC66A-D9D3-41BD-8AD9-1BF9B17987E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9255E-9BB0-451F-8928-469FBBB45C3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98C67-ABB1-4965-83AF-AF48B15A4C4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81EEF-39CF-4133-98BD-0D242765BFC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1freesoundeffects.com/freesounds5/platebreak.wav" TargetMode="External"/><Relationship Id="rId3" Type="http://schemas.openxmlformats.org/officeDocument/2006/relationships/hyperlink" Target="http://funny-stuff.audio4fun.com/download/sounds/18863.mp3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0"/>
                </a:solidFill>
                <a:latin typeface="Calisto MT"/>
                <a:ea typeface="SimSun"/>
              </a:rPr>
              <a:t>被动式</a:t>
            </a:r>
            <a:r>
              <a:rPr b="0" lang="en-US" sz="5400" spc="-1" strike="noStrike">
                <a:solidFill>
                  <a:srgbClr val="000090"/>
                </a:solidFill>
                <a:latin typeface="Calisto MT"/>
                <a:ea typeface="SimSun"/>
              </a:rPr>
              <a:t> </a:t>
            </a:r>
            <a:br>
              <a:rPr sz="5400"/>
            </a:br>
            <a:r>
              <a:rPr b="0" lang="en-US" sz="4000" spc="-1" strike="noStrike">
                <a:solidFill>
                  <a:srgbClr val="800000"/>
                </a:solidFill>
                <a:latin typeface="Calisto MT"/>
                <a:ea typeface="SimSun"/>
              </a:rPr>
              <a:t> </a:t>
            </a:r>
            <a:r>
              <a:rPr b="0" lang="en-US" sz="4000" spc="-1" strike="noStrike">
                <a:solidFill>
                  <a:srgbClr val="800000"/>
                </a:solidFill>
                <a:latin typeface="Calisto MT"/>
                <a:ea typeface="SimSun"/>
              </a:rPr>
              <a:t>the passive construction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教学语法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指导教授：卢福波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学生：林维茵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802800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二：描述你听到的声音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90320" y="1584000"/>
            <a:ext cx="84373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24a82"/>
                </a:solidFill>
                <a:uFillTx/>
                <a:latin typeface="Calisto MT"/>
                <a:hlinkClick r:id="rId2"/>
              </a:rPr>
              <a:t>Sound Exercise 1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     </a:t>
            </a:r>
            <a:r>
              <a:rPr b="1" lang="en-US" sz="4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Calisto MT"/>
                <a:ea typeface="SimSun"/>
              </a:rPr>
              <a:t>盘子</a:t>
            </a:r>
            <a:r>
              <a:rPr b="1" lang="zh-CN" sz="4000" spc="-1" strike="noStrike">
                <a:solidFill>
                  <a:srgbClr val="8118ae"/>
                </a:solidFill>
                <a:latin typeface="Calisto MT"/>
                <a:ea typeface="SimSun"/>
              </a:rPr>
              <a:t>被</a:t>
            </a:r>
            <a:r>
              <a:rPr b="1" lang="zh-CN" sz="4000" spc="-1" strike="noStrike">
                <a:solidFill>
                  <a:srgbClr val="0000ff"/>
                </a:solidFill>
                <a:latin typeface="Calisto MT"/>
                <a:ea typeface="SimSun"/>
              </a:rPr>
              <a:t>（人）打破了。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24a82"/>
                </a:solidFill>
                <a:uFillTx/>
                <a:latin typeface="Calisto MT"/>
                <a:hlinkClick r:id="rId3"/>
              </a:rPr>
              <a:t>Sound Exercise 2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sto MT"/>
              </a:rPr>
              <a:t>      </a:t>
            </a:r>
            <a:r>
              <a:rPr b="1" lang="en-US" sz="4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Calisto MT"/>
                <a:ea typeface="SimSun"/>
              </a:rPr>
              <a:t>受伤的人</a:t>
            </a:r>
            <a:r>
              <a:rPr b="1" lang="zh-CN" sz="4000" spc="-1" strike="noStrike">
                <a:solidFill>
                  <a:srgbClr val="8118ae"/>
                </a:solidFill>
                <a:latin typeface="Calisto MT"/>
                <a:ea typeface="SimSun"/>
              </a:rPr>
              <a:t>被</a:t>
            </a:r>
            <a:r>
              <a:rPr b="1" lang="zh-CN" sz="4000" spc="-1" strike="noStrike">
                <a:solidFill>
                  <a:srgbClr val="0000ff"/>
                </a:solidFill>
                <a:latin typeface="Calisto MT"/>
                <a:ea typeface="SimSun"/>
              </a:rPr>
              <a:t>送到医院了。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三：比手画脚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37680" y="2808000"/>
            <a:ext cx="5891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两个学生一组，每次一个学生拿一张已经写上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动作”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的纸条。这一个学生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表演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让另一个同学用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被”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描述。</a:t>
            </a:r>
            <a:r>
              <a:rPr b="0" lang="en-US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47" name="Picture 3" descr="charades"/>
          <p:cNvPicPr/>
          <p:nvPr/>
        </p:nvPicPr>
        <p:blipFill>
          <a:blip r:embed="rId2"/>
          <a:stretch/>
        </p:blipFill>
        <p:spPr>
          <a:xfrm>
            <a:off x="5870520" y="1219320"/>
            <a:ext cx="30384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209520" y="423720"/>
            <a:ext cx="893448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涉及的人或事物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48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词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结果补语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the affected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R.C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（人）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49" name="Up Arrow 8" descr=""/>
          <p:cNvPicPr/>
          <p:nvPr/>
        </p:nvPicPr>
        <p:blipFill>
          <a:blip r:embed="rId2"/>
          <a:stretch/>
        </p:blipFill>
        <p:spPr>
          <a:xfrm>
            <a:off x="4791240" y="3273480"/>
            <a:ext cx="1152360" cy="1884240"/>
          </a:xfrm>
          <a:prstGeom prst="rect">
            <a:avLst/>
          </a:prstGeom>
          <a:ln w="0">
            <a:noFill/>
          </a:ln>
        </p:spPr>
      </p:pic>
      <p:sp>
        <p:nvSpPr>
          <p:cNvPr id="750" name="TextBox 9"/>
          <p:cNvSpPr/>
          <p:nvPr/>
        </p:nvSpPr>
        <p:spPr>
          <a:xfrm>
            <a:off x="3726000" y="66024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608040" y="584028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estions?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Content Placeholder 3" descr="被作业压死了"/>
          <p:cNvPicPr/>
          <p:nvPr/>
        </p:nvPicPr>
        <p:blipFill>
          <a:blip r:embed="rId2"/>
          <a:srcRect l="-43390" t="0" r="-43390" b="0"/>
          <a:stretch/>
        </p:blipFill>
        <p:spPr>
          <a:xfrm>
            <a:off x="900000" y="2133720"/>
            <a:ext cx="7345440" cy="39322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1073160" y="973080"/>
            <a:ext cx="71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不要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作业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压死了。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Content Placeholder 3" descr="踩"/>
          <p:cNvPicPr/>
          <p:nvPr/>
        </p:nvPicPr>
        <p:blipFill>
          <a:blip r:embed="rId2"/>
          <a:srcRect l="-25748" t="0" r="-25748" b="0"/>
          <a:stretch/>
        </p:blipFill>
        <p:spPr>
          <a:xfrm>
            <a:off x="439560" y="1015920"/>
            <a:ext cx="5175360" cy="4114800"/>
          </a:xfrm>
          <a:prstGeom prst="rect">
            <a:avLst/>
          </a:prstGeom>
          <a:ln w="0">
            <a:noFill/>
          </a:ln>
        </p:spPr>
      </p:pic>
      <p:sp>
        <p:nvSpPr>
          <p:cNvPr id="713" name="TextBox 3"/>
          <p:cNvSpPr/>
          <p:nvPr/>
        </p:nvSpPr>
        <p:spPr>
          <a:xfrm>
            <a:off x="4894200" y="276228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踩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!!!  cǎi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209520" y="423360"/>
            <a:ext cx="893448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  </a:t>
            </a:r>
            <a:r>
              <a:rPr b="1" lang="en-US" sz="3200" spc="-1" strike="noStrike">
                <a:solidFill>
                  <a:srgbClr val="660066"/>
                </a:solidFill>
                <a:latin typeface="华文仿宋"/>
                <a:ea typeface="华文仿宋"/>
              </a:rPr>
              <a:t>How is the person or the thing being affected?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涉及的人或事物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48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词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结果补语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the affected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R.C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（人）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5" name="Up Arrow 8" descr=""/>
          <p:cNvPicPr/>
          <p:nvPr/>
        </p:nvPicPr>
        <p:blipFill>
          <a:blip r:embed="rId2"/>
          <a:stretch/>
        </p:blipFill>
        <p:spPr>
          <a:xfrm>
            <a:off x="5022720" y="3273480"/>
            <a:ext cx="987480" cy="18842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9"/>
          <p:cNvSpPr/>
          <p:nvPr/>
        </p:nvSpPr>
        <p:spPr>
          <a:xfrm>
            <a:off x="2428920" y="660240"/>
            <a:ext cx="46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 </a:t>
            </a: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结构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(Structu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一：怎么了？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83680" y="1584360"/>
            <a:ext cx="88599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     </a:t>
            </a:r>
            <a:r>
              <a:rPr b="0" lang="zh-CN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请你描述</a:t>
            </a: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(describe)</a:t>
            </a:r>
            <a:r>
              <a:rPr b="0" lang="zh-CN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你看到的图：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   </a:t>
            </a:r>
            <a:r>
              <a:rPr b="0" lang="zh-CN" sz="4000" spc="-1" strike="noStrike" u="sng">
                <a:solidFill>
                  <a:srgbClr val="800000"/>
                </a:solidFill>
                <a:uFillTx/>
                <a:latin typeface="华文仿宋"/>
                <a:ea typeface="华文仿宋"/>
              </a:rPr>
              <a:t>这个人或这个东西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</a:t>
            </a:r>
            <a:r>
              <a:rPr b="0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？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	</a:t>
            </a:r>
            <a:r>
              <a:rPr b="0" lang="zh-CN" sz="3200" spc="-1" strike="noStrike" u="sng">
                <a:solidFill>
                  <a:srgbClr val="800000"/>
                </a:solidFill>
                <a:uFillTx/>
                <a:latin typeface="华文仿宋"/>
                <a:ea typeface="华文仿宋"/>
              </a:rPr>
              <a:t>这个人或这个东西</a:t>
            </a:r>
            <a:r>
              <a:rPr b="1" lang="zh-CN" sz="54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+ (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)+V+RC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蛋糕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0" name="Content Placeholder 3" descr="舔盘子"/>
          <p:cNvPicPr/>
          <p:nvPr/>
        </p:nvPicPr>
        <p:blipFill>
          <a:blip r:embed="rId2"/>
          <a:srcRect l="-36577" t="0" r="-36577" b="0"/>
          <a:stretch/>
        </p:blipFill>
        <p:spPr>
          <a:xfrm>
            <a:off x="-755640" y="1941480"/>
            <a:ext cx="6607080" cy="35100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空盘子"/>
          <p:cNvPicPr/>
          <p:nvPr/>
        </p:nvPicPr>
        <p:blipFill>
          <a:blip r:embed="rId3"/>
          <a:stretch/>
        </p:blipFill>
        <p:spPr>
          <a:xfrm>
            <a:off x="4316400" y="3189240"/>
            <a:ext cx="4214880" cy="3176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" descr="cake"/>
          <p:cNvPicPr/>
          <p:nvPr/>
        </p:nvPicPr>
        <p:blipFill>
          <a:blip r:embed="rId4"/>
          <a:stretch/>
        </p:blipFill>
        <p:spPr>
          <a:xfrm>
            <a:off x="6724800" y="384120"/>
            <a:ext cx="1806480" cy="2400480"/>
          </a:xfrm>
          <a:prstGeom prst="rect">
            <a:avLst/>
          </a:prstGeom>
          <a:ln w="0">
            <a:noFill/>
          </a:ln>
        </p:spPr>
      </p:pic>
      <p:sp>
        <p:nvSpPr>
          <p:cNvPr id="723" name="TextBox 7"/>
          <p:cNvSpPr/>
          <p:nvPr/>
        </p:nvSpPr>
        <p:spPr>
          <a:xfrm>
            <a:off x="1573200" y="3189240"/>
            <a:ext cx="64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蛋糕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妹妹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吃完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鞋子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5" name="Content Placeholder 5" descr="高特破的鞋"/>
          <p:cNvPicPr/>
          <p:nvPr/>
        </p:nvPicPr>
        <p:blipFill>
          <a:blip r:embed="rId2"/>
          <a:srcRect l="-20147" t="0" r="-20147" b="0"/>
          <a:stretch/>
        </p:blipFill>
        <p:spPr>
          <a:xfrm>
            <a:off x="2028960" y="1871640"/>
            <a:ext cx="7483320" cy="4481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gaote"/>
          <p:cNvPicPr/>
          <p:nvPr/>
        </p:nvPicPr>
        <p:blipFill>
          <a:blip r:embed="rId3"/>
          <a:stretch/>
        </p:blipFill>
        <p:spPr>
          <a:xfrm>
            <a:off x="290520" y="3178080"/>
            <a:ext cx="2374920" cy="34290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4"/>
          <p:cNvSpPr/>
          <p:nvPr/>
        </p:nvSpPr>
        <p:spPr>
          <a:xfrm>
            <a:off x="1131840" y="2057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鞋子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高特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穿坏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/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破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34544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昨天我有很多钱，现在</a:t>
            </a:r>
            <a:br>
              <a:rPr sz="4300"/>
            </a:b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口袋里一块钱也没有，</a:t>
            </a:r>
            <a:r>
              <a:rPr b="0" lang="zh-CN" sz="4300" spc="-1" strike="noStrike">
                <a:solidFill>
                  <a:srgbClr val="800000"/>
                </a:solidFill>
                <a:latin typeface="华文仿宋"/>
                <a:ea typeface="华文仿宋"/>
              </a:rPr>
              <a:t>钱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呢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9" name="Content Placeholder 3" descr="钱被花光了.png"/>
          <p:cNvPicPr/>
          <p:nvPr/>
        </p:nvPicPr>
        <p:blipFill>
          <a:blip r:embed="rId2"/>
          <a:srcRect l="-91931" t="0" r="-91931" b="0"/>
          <a:stretch/>
        </p:blipFill>
        <p:spPr>
          <a:xfrm>
            <a:off x="-925560" y="2133720"/>
            <a:ext cx="6060960" cy="43005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shopping"/>
          <p:cNvPicPr/>
          <p:nvPr/>
        </p:nvPicPr>
        <p:blipFill>
          <a:blip r:embed="rId3"/>
          <a:stretch/>
        </p:blipFill>
        <p:spPr>
          <a:xfrm>
            <a:off x="3686040" y="2641680"/>
            <a:ext cx="5191200" cy="32256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4"/>
          <p:cNvSpPr/>
          <p:nvPr/>
        </p:nvSpPr>
        <p:spPr>
          <a:xfrm>
            <a:off x="2443320" y="2133720"/>
            <a:ext cx="74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钱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（他）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花光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这些脏衣服</a:t>
            </a:r>
            <a:r>
              <a:rPr b="0" lang="zh-CN" sz="48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33" name="Content Placeholder 3" descr="洗衣服"/>
          <p:cNvPicPr/>
          <p:nvPr/>
        </p:nvPicPr>
        <p:blipFill>
          <a:blip r:embed="rId2"/>
          <a:srcRect l="-59874" t="0" r="-59874" b="0"/>
          <a:stretch/>
        </p:blipFill>
        <p:spPr>
          <a:xfrm>
            <a:off x="-639720" y="1285920"/>
            <a:ext cx="4869000" cy="2606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干净的衣服"/>
          <p:cNvPicPr/>
          <p:nvPr/>
        </p:nvPicPr>
        <p:blipFill>
          <a:blip r:embed="rId3"/>
          <a:stretch/>
        </p:blipFill>
        <p:spPr>
          <a:xfrm>
            <a:off x="5124600" y="1812960"/>
            <a:ext cx="3576600" cy="3011400"/>
          </a:xfrm>
          <a:prstGeom prst="rect">
            <a:avLst/>
          </a:prstGeom>
          <a:ln w="0">
            <a:noFill/>
          </a:ln>
        </p:spPr>
      </p:pic>
      <p:pic>
        <p:nvPicPr>
          <p:cNvPr id="735" name="Right Arrow 6" descr=""/>
          <p:cNvPicPr/>
          <p:nvPr/>
        </p:nvPicPr>
        <p:blipFill>
          <a:blip r:embed="rId4"/>
          <a:stretch/>
        </p:blipFill>
        <p:spPr>
          <a:xfrm>
            <a:off x="3230640" y="2603520"/>
            <a:ext cx="1987560" cy="9018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7"/>
          <p:cNvSpPr/>
          <p:nvPr/>
        </p:nvSpPr>
        <p:spPr>
          <a:xfrm>
            <a:off x="311040" y="3244680"/>
            <a:ext cx="927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 </a:t>
            </a: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脏衣服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en-US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(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妈妈</a:t>
            </a:r>
            <a:r>
              <a:rPr b="0" lang="en-US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)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洗干净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918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小狗咬了邮差，</a:t>
            </a:r>
            <a:r>
              <a:rPr b="0" lang="zh-CN" sz="4300" spc="-1" strike="noStrike">
                <a:solidFill>
                  <a:srgbClr val="800000"/>
                </a:solidFill>
                <a:latin typeface="华文仿宋"/>
                <a:ea typeface="华文仿宋"/>
              </a:rPr>
              <a:t>他的屁股</a:t>
            </a:r>
            <a:r>
              <a:rPr b="0" lang="zh-CN" sz="54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779400" y="158436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屁股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（小狗）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咬伤了。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Content Placeholder 5" descr="被咬伤了"/>
          <p:cNvPicPr/>
          <p:nvPr/>
        </p:nvPicPr>
        <p:blipFill>
          <a:blip r:embed="rId2"/>
          <a:srcRect l="-85845" t="0" r="-85845" b="0"/>
          <a:stretch/>
        </p:blipFill>
        <p:spPr>
          <a:xfrm>
            <a:off x="-566640" y="2602080"/>
            <a:ext cx="7345440" cy="39319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红屁股"/>
          <p:cNvPicPr/>
          <p:nvPr/>
        </p:nvPicPr>
        <p:blipFill>
          <a:blip r:embed="rId3"/>
          <a:stretch/>
        </p:blipFill>
        <p:spPr>
          <a:xfrm>
            <a:off x="5672160" y="2889360"/>
            <a:ext cx="1895400" cy="1679400"/>
          </a:xfrm>
          <a:prstGeom prst="rect">
            <a:avLst/>
          </a:prstGeom>
          <a:ln w="0">
            <a:noFill/>
          </a:ln>
        </p:spPr>
      </p:pic>
      <p:pic>
        <p:nvPicPr>
          <p:cNvPr id="741" name="Multiply 7" descr=""/>
          <p:cNvPicPr/>
          <p:nvPr/>
        </p:nvPicPr>
        <p:blipFill>
          <a:blip r:embed="rId4"/>
          <a:stretch/>
        </p:blipFill>
        <p:spPr>
          <a:xfrm>
            <a:off x="6072120" y="2865600"/>
            <a:ext cx="1481040" cy="1566720"/>
          </a:xfrm>
          <a:prstGeom prst="rect">
            <a:avLst/>
          </a:prstGeom>
          <a:ln w="0">
            <a:noFill/>
          </a:ln>
        </p:spPr>
      </p:pic>
      <p:sp>
        <p:nvSpPr>
          <p:cNvPr id="742" name="TextBox 8"/>
          <p:cNvSpPr/>
          <p:nvPr/>
        </p:nvSpPr>
        <p:spPr>
          <a:xfrm>
            <a:off x="5672160" y="48690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your imag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59:21Z</dcterms:created>
  <dc:creator>admin</dc:creator>
  <dc:description/>
  <dc:language>en-US</dc:language>
  <cp:lastModifiedBy>lcheng</cp:lastModifiedBy>
  <dcterms:modified xsi:type="dcterms:W3CDTF">2010-09-16T12:47:45Z</dcterms:modified>
  <cp:revision>25</cp:revision>
  <dc:subject/>
  <dc:title>被</dc:title>
</cp:coreProperties>
</file>