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D9035-7E7F-4D60-B8E4-3978090B5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AEC08-D290-47A1-BD76-21194314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6BEAF-97F6-473F-8C4B-76B138D1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FA8A2-AA0B-4FA2-90F2-946991D30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9CE-F3C3-4960-858F-7231954D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34A-4F04-4AAC-B571-CC27C4E2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E5F0A8-801D-407C-A7D5-3E2A827E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5E645D-2245-4F83-9038-6FDB1C9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C79E2-7FA9-47E1-98E4-292F9C8C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40A161-791D-464A-8AC9-E66B3B6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2E292-F3F0-4A6F-A4BE-6E60913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BF94F0-497C-4A1D-AF0F-5AA22F41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0A558-CCD3-4F1D-96FA-33E21AC8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461D75-51A5-4E5C-9609-32693890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7F5E14-1245-432E-A0E0-6AD51D82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A2AA22-56AD-491A-B5DE-11C460A1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33E-6B5A-4CF2-A43E-E2B144BD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FC10B9-25DB-4AA9-A8B9-2136AA5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A44B18-980D-4ED2-B9A5-38F4E56B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06E769-16E8-4EAE-B2A1-0D00C54A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0E8B15-0D91-44AA-81AB-517ED1C2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89E49-1544-43A2-8BC2-283691E5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1DA38E-1056-44A0-B9E0-34432681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40E3F-4BC8-4088-9731-84BBC58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D36D63-0E4B-4FC5-A13C-3C203D6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2C20A6-F262-4833-832C-F0E916D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92977-B79F-4726-9C03-191BE5FD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C3A-70ED-4428-AD8D-45AA26EF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346152-D007-499F-88DB-7B44FD7A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EE94D7-3CA4-45D8-9B1A-EFD3562E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BFAD6F-8649-43F1-8D6C-AB194BE3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891905-61A3-4D26-BD3B-8BC934E9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6FFD0C-EF6D-425E-9C68-04BC4C94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9FE802-B140-4A64-885F-F99D5CA0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E60798-A60C-476D-B2FF-5D3202ED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3973D6-DAFD-4F06-8C2A-A47AC3C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10563E-7BAF-4FF7-8F22-0DD5FA3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F87DAF-7DDF-4B44-B39C-9816CE3D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A2C4-6361-45D4-9771-627036FE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1375E5-50C5-41C6-B72C-68B8D84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2A064A-5CD7-4E32-9226-DE5D1A30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5E1104-7467-4006-8910-EE16477D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AFE3D1-C3C2-4211-B885-93A42496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D45FF1-D20A-4B44-B21F-F4980444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57FBD7-AB5B-4764-8425-9ACAADC2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273FD5-5373-4D4F-864C-EE6BE08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3F1939-5A96-44AE-88D1-303D45BD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A74468-6864-4197-9E27-E466349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86A69C-81C4-40F4-A413-8BBA527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000F-352D-4D91-8398-A41C6876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AD2915-0D34-4941-B71C-558D6B9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5A8308-F7C9-4434-AA01-A1AD568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7A7506-E3A8-47BE-9C5C-6BBDBE0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EA5DB4-DDF1-488C-8F5A-38631AAB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602F2D-5D76-4D3B-BC03-C950C989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5CF36E-A23F-4F02-B8FF-C12F90BD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DDB798-EC8A-4681-AD53-3DBBEC7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1E65AD-5D23-4A04-9396-1A24683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3D12AF-C479-457E-A6F8-F921860F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081C58-97A8-4E09-8AE5-13D8EEE8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9D7A-5E4C-4293-8FC6-ED48ED66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7D8A41-570E-4F6F-95B8-AB99B38B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91ABE4-E4ED-44A0-B7A6-5D0F1820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5189E4-568D-437F-873C-461A318D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84F4DB-4E29-4E8D-827D-1F8BF5C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5201DE-6A09-41C4-BE4E-E236286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B94321-27C9-43A2-870F-06C216EC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25D396-3E8B-4D2B-9358-1E8415FA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AB153A-D309-4B40-96E6-473DFC3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BAC4D1-FDD3-4557-9821-2A71791D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4D463E-F0FD-4ED0-9111-65B3536C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CF92-AD00-4CF7-8BF7-DBF85839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2050EB-00A1-482A-A8BF-55AACF3D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C182D4-4149-4857-B3BE-42BD2A45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23C5C6-851B-4E93-994F-A2E24BA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389C83-AFD3-4685-9513-53CEAAF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28CF00-CC62-49FF-AA7C-4D59A8A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B1E637-8C4D-4BED-931B-801A68F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19159B-A3CF-4CC5-8492-412402CB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1E9D21-04C7-4174-B8D6-2A81B353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C36AF3-BB5D-4E58-98F1-36CF52C2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83C6F6-E0F4-47A2-A320-DDF08E59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3B9B-95C2-493A-908C-08445A57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565395-119A-424B-A17C-2CBA7EC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DAECE0-8707-4977-B8EA-A79F7A84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D9BB72-44F8-49ED-B739-A65565B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94477B-08F5-40E6-A64A-7ADB112F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5C4E5B-918E-4841-B3FE-7E2C589E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845075-F3D8-4B41-927B-B56CF1B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62E5FC-AFDA-4DE7-ACD5-2D4D54A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1848C9-C0AE-4358-BD48-CF766667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A20291-7576-4F3B-BA62-E47012B0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E0C023-405F-497C-8673-B3B1D67D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A3CC-33CD-4B93-96E5-389540E4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310796-EB92-42C2-94E0-4F32B485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F366-6764-4EC0-A2E9-6C20AB8E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A76-D2AF-4776-91C1-3CC2D832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5D36-4473-4AE4-BF1A-0E213A6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21D5-1759-4EBA-8F37-03455A5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1965-6CED-48F0-9F17-10C732C4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44CD-5878-433D-8986-DB54E523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6CE2-7A4D-4F24-8562-C810FC0B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4875-128A-4E97-A51E-463C82CA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C73E-9E2F-49D4-A41B-4DC5CBD1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6891-9350-4D4E-831C-75A5FED5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8726-0B6F-4E59-972C-3E5716F4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2BF7-9902-4EE9-94E2-3394CCE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F67-C819-4387-8E9C-2DBA9196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A928-C331-4B15-9A5B-61E1276E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3465-3BBF-484E-95FC-2F2174BA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BC7B-ECE5-4BBD-8E74-01B09EF3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FC86-8E78-40D4-88FA-0921AD9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98B3-0D2B-48EB-9470-0456D1B6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C05D-0D72-4F26-B861-15990EF5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542F-7EFA-402C-A357-0F5D115E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D14-E947-4E98-A970-2E765D65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1F4E0-21C7-4696-9659-D29E5B70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F60-EF9C-4AB4-9C77-644A159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C40CA-81A6-4352-9C16-69DF9029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BE027-E0F6-4069-8DA9-D766C1B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AB409-E3E9-4366-9772-793514E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9D8D9-A113-449D-A1C7-824507CB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70B98-E77A-4502-B7F5-78B1F03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19D23-9BDC-4773-942D-C712EADB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B8A93-D0A0-4CC7-8220-50EA192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77712-83EB-4140-ABFC-3FB2157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7E79E-6329-417E-8E52-38D30878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A0464-10C5-42A9-97B2-36B696A1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890-21AE-4400-B856-B359A29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C7FEE-AF42-43A2-8FBB-FC4A13F8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FE60B-B672-4506-A1C4-040FA54D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F0EDE-83A7-49F4-88EC-CB61F33B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E2522-7E65-4D5D-8F61-4B27FA3D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EEDB2-DC27-4C44-8A47-DFE6C593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EBA8E-DA29-4E09-93AB-85C2A6F4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DEA7F-DD75-4C50-9DAB-78BC25FB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EFBBA-3A72-4AA9-BACA-FCFA3B2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51F73-2BAC-40E9-A5F6-0768933B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457FA-58A6-44EB-880E-3C99F9D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63A-2CA4-4408-A3DA-EE0F8188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2CA4F-427B-4A15-B674-EE94302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AD5B7-BA37-405F-9716-694C015C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4AE16-E0C3-4308-8C15-2DBE6649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7F687-F206-405C-BC4F-F7069A26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D9958-BB19-41E5-8D17-13CA55EA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16F4F-FDCC-4777-A5FC-F2EE61F5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E5F6A-E641-4825-B7F9-375E349E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44D7C-A0BD-4C90-88E1-3663279D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4A561-600D-4E6E-90CD-61BFE48D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94721-AD3E-4B46-862B-155FFE94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B05-A5FF-4E30-89F7-BCC3E0E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80FA1-DC55-4D4B-91EF-B255CDF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5D461-BCC1-48F0-A2D5-222AEBFF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0D486-8AD4-442C-921E-F9155CD8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042BE-941F-4D19-A959-C83D8FF8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EBDF4-C0AD-4635-8F68-83A190E4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197E7-D003-4ECE-8AA4-3E2EF8DF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B98C02-E7C7-43A8-9C31-3CB07261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20B723-A161-4C1F-862F-5D0923EE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0717F-A171-47EB-A220-B2832FD8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C3338-0A47-4E57-AB71-0E2627A3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F11-03A5-4094-84CE-49BC2C8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B3DBD-8EA4-4E59-A7BB-1070EC0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893F88-2D2F-4AE9-B9C8-8D88C363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24E9C-BF5E-4ECD-AECB-20558EA3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AA66FA-846F-4CA6-AF82-DB7908A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38109-3275-46C1-8D62-A1482DAC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4301FC-B311-43D7-BA47-183829DD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E5C227-C21E-4B10-9B1A-FB8D958D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0C47F-2629-4593-A392-1A595027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8B1F4A-286A-44E2-A1F6-07E1BE2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A8AF9-48CA-45A0-9AC0-FB8258B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CBEFD-EDFE-4BA2-B927-91A9C7DD77B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10AEE-53DE-49D5-A856-11D457B851D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312DB-D394-445E-88ED-F6F86D9135A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05963-8829-4E1B-840D-419186BE774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2AF10-CAD4-422C-AEBA-3E1CDA492DD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4EFB6-4C31-4E1D-B5EE-6F8B49F5C10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AD5BA-9B79-4C95-973E-FB84445EFF9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D19C8-26F0-412F-A929-6101FD81BEB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B684B-0F31-4CFB-8DDA-B692E589B1F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66F09-39DF-47EB-BB05-37C6D66A84C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CADD0-6FEE-4008-9082-5372EA0FE10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45555-4B9B-4CC9-9BE2-83973890DB6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0EEED-C236-4904-8AA1-F151D65C298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FD9ED-7F2C-4C1F-AD3C-FEE3A85F5E0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F1C70-4119-4EDF-8FE6-7989B070127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8E3F6-2A69-4BB8-9665-199957A3174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7368E-01BC-431B-907B-37BC9B47801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D4D74-DF6E-42F9-9347-E4F18102AA3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D9976-F2A2-4E2F-AD04-8FB18D6340D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C64C6-1678-479F-884A-438F9C7104B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FD9C0-30CB-4F6C-AB6B-A20A70DE349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199C5-8AFC-466D-8699-61678ACFD71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F7B21-39B5-464B-9B1A-0A3A96E0599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B5CD1-267D-44C7-B701-CD5ECD6EE5A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E63B2-B63A-4C00-B10A-01F29495F83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43B71-6BCC-48D2-87E8-ADC2237A34A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21D80-7DEF-43D0-8BC7-BD23CA4776F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EB5D2-08B3-41CB-A180-37D46683ED4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E85B3-8789-4F48-8EA1-64479C42B01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1freesoundeffects.com/freesounds5/platebreak.wav" TargetMode="External"/><Relationship Id="rId3" Type="http://schemas.openxmlformats.org/officeDocument/2006/relationships/hyperlink" Target="http://funny-stuff.audio4fun.com/download/sounds/18863.mp3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0"/>
                </a:solidFill>
                <a:latin typeface="Calisto MT"/>
                <a:ea typeface="SimSun"/>
              </a:rPr>
              <a:t>被动式</a:t>
            </a:r>
            <a:r>
              <a:rPr b="0" lang="en-US" sz="5400" spc="-1" strike="noStrike">
                <a:solidFill>
                  <a:srgbClr val="000090"/>
                </a:solidFill>
                <a:latin typeface="Calisto MT"/>
                <a:ea typeface="SimSun"/>
              </a:rPr>
              <a:t> </a:t>
            </a:r>
            <a:br>
              <a:rPr sz="5400"/>
            </a:b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 </a:t>
            </a: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the passive construction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教学语法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指导教授：卢福波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学生：林维茵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80280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二：描述你听到的声音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90320" y="1584000"/>
            <a:ext cx="84373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2"/>
              </a:rPr>
              <a:t>Sound Exercise 1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盘子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（人）打破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3"/>
              </a:rPr>
              <a:t>Sound Exercise 2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受伤的人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送到医院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三：比手画脚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37680" y="2808000"/>
            <a:ext cx="5891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两个学生一组，每次一个学生拿一张已经写上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动作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的纸条。这一个学生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表演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让另一个同学用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被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描述。</a:t>
            </a: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7" name="Picture 3" descr="charades"/>
          <p:cNvPicPr/>
          <p:nvPr/>
        </p:nvPicPr>
        <p:blipFill>
          <a:blip r:embed="rId2"/>
          <a:stretch/>
        </p:blipFill>
        <p:spPr>
          <a:xfrm>
            <a:off x="5870520" y="1219320"/>
            <a:ext cx="30384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209520" y="423720"/>
            <a:ext cx="89344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9" name="Up Arrow 8" descr=""/>
          <p:cNvPicPr/>
          <p:nvPr/>
        </p:nvPicPr>
        <p:blipFill>
          <a:blip r:embed="rId2"/>
          <a:stretch/>
        </p:blipFill>
        <p:spPr>
          <a:xfrm>
            <a:off x="4791240" y="3273480"/>
            <a:ext cx="1152360" cy="1884240"/>
          </a:xfrm>
          <a:prstGeom prst="rect">
            <a:avLst/>
          </a:prstGeom>
          <a:ln w="0">
            <a:noFill/>
          </a:ln>
        </p:spPr>
      </p:pic>
      <p:sp>
        <p:nvSpPr>
          <p:cNvPr id="750" name="TextBox 9"/>
          <p:cNvSpPr/>
          <p:nvPr/>
        </p:nvSpPr>
        <p:spPr>
          <a:xfrm>
            <a:off x="3726000" y="66024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608040" y="584028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estions?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Content Placeholder 3" descr="被作业压死了"/>
          <p:cNvPicPr/>
          <p:nvPr/>
        </p:nvPicPr>
        <p:blipFill>
          <a:blip r:embed="rId2"/>
          <a:srcRect l="-43390" t="0" r="-43390" b="0"/>
          <a:stretch/>
        </p:blipFill>
        <p:spPr>
          <a:xfrm>
            <a:off x="900000" y="2133720"/>
            <a:ext cx="7345440" cy="39322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1073160" y="97308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不要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作业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压死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ntent Placeholder 3" descr="踩"/>
          <p:cNvPicPr/>
          <p:nvPr/>
        </p:nvPicPr>
        <p:blipFill>
          <a:blip r:embed="rId2"/>
          <a:srcRect l="-25748" t="0" r="-25748" b="0"/>
          <a:stretch/>
        </p:blipFill>
        <p:spPr>
          <a:xfrm>
            <a:off x="439560" y="1015920"/>
            <a:ext cx="517536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TextBox 3"/>
          <p:cNvSpPr/>
          <p:nvPr/>
        </p:nvSpPr>
        <p:spPr>
          <a:xfrm>
            <a:off x="4894200" y="276228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踩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!!!  cǎi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209520" y="423360"/>
            <a:ext cx="893448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</a:t>
            </a:r>
            <a:r>
              <a:rPr b="1" lang="en-US" sz="3200" spc="-1" strike="noStrike">
                <a:solidFill>
                  <a:srgbClr val="660066"/>
                </a:solidFill>
                <a:latin typeface="华文仿宋"/>
                <a:ea typeface="华文仿宋"/>
              </a:rPr>
              <a:t>How is the person or the thing being affected?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Up Arrow 8" descr=""/>
          <p:cNvPicPr/>
          <p:nvPr/>
        </p:nvPicPr>
        <p:blipFill>
          <a:blip r:embed="rId2"/>
          <a:stretch/>
        </p:blipFill>
        <p:spPr>
          <a:xfrm>
            <a:off x="5022720" y="3273480"/>
            <a:ext cx="987480" cy="18842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9"/>
          <p:cNvSpPr/>
          <p:nvPr/>
        </p:nvSpPr>
        <p:spPr>
          <a:xfrm>
            <a:off x="2428920" y="660240"/>
            <a:ext cx="46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结构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(Structu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一：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83680" y="1584360"/>
            <a:ext cx="88599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   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请你描述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(describe)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你看到的图：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 </a:t>
            </a:r>
            <a:r>
              <a:rPr b="0" lang="zh-CN" sz="40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	</a:t>
            </a:r>
            <a:r>
              <a:rPr b="0" lang="zh-CN" sz="32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54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+ (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)+V+RC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蛋糕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0" name="Content Placeholder 3" descr="舔盘子"/>
          <p:cNvPicPr/>
          <p:nvPr/>
        </p:nvPicPr>
        <p:blipFill>
          <a:blip r:embed="rId2"/>
          <a:srcRect l="-36577" t="0" r="-36577" b="0"/>
          <a:stretch/>
        </p:blipFill>
        <p:spPr>
          <a:xfrm>
            <a:off x="-755640" y="1941480"/>
            <a:ext cx="6607080" cy="35100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空盘子"/>
          <p:cNvPicPr/>
          <p:nvPr/>
        </p:nvPicPr>
        <p:blipFill>
          <a:blip r:embed="rId3"/>
          <a:stretch/>
        </p:blipFill>
        <p:spPr>
          <a:xfrm>
            <a:off x="4316400" y="3189240"/>
            <a:ext cx="4214880" cy="3176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" descr="cake"/>
          <p:cNvPicPr/>
          <p:nvPr/>
        </p:nvPicPr>
        <p:blipFill>
          <a:blip r:embed="rId4"/>
          <a:stretch/>
        </p:blipFill>
        <p:spPr>
          <a:xfrm>
            <a:off x="6724800" y="384120"/>
            <a:ext cx="1806480" cy="24004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7"/>
          <p:cNvSpPr/>
          <p:nvPr/>
        </p:nvSpPr>
        <p:spPr>
          <a:xfrm>
            <a:off x="1573200" y="3189240"/>
            <a:ext cx="64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蛋糕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妹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吃完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鞋子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5" name="Content Placeholder 5" descr="高特破的鞋"/>
          <p:cNvPicPr/>
          <p:nvPr/>
        </p:nvPicPr>
        <p:blipFill>
          <a:blip r:embed="rId2"/>
          <a:srcRect l="-20147" t="0" r="-20147" b="0"/>
          <a:stretch/>
        </p:blipFill>
        <p:spPr>
          <a:xfrm>
            <a:off x="2028960" y="1871640"/>
            <a:ext cx="7483320" cy="4481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gaote"/>
          <p:cNvPicPr/>
          <p:nvPr/>
        </p:nvPicPr>
        <p:blipFill>
          <a:blip r:embed="rId3"/>
          <a:stretch/>
        </p:blipFill>
        <p:spPr>
          <a:xfrm>
            <a:off x="290520" y="3178080"/>
            <a:ext cx="2374920" cy="34290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4"/>
          <p:cNvSpPr/>
          <p:nvPr/>
        </p:nvSpPr>
        <p:spPr>
          <a:xfrm>
            <a:off x="1131840" y="2057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鞋子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高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穿坏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/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破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34544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昨天我有很多钱，现在</a:t>
            </a:r>
            <a:br>
              <a:rPr sz="4300"/>
            </a:b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口袋里一块钱也没有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钱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呢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9" name="Content Placeholder 3" descr="钱被花光了.png"/>
          <p:cNvPicPr/>
          <p:nvPr/>
        </p:nvPicPr>
        <p:blipFill>
          <a:blip r:embed="rId2"/>
          <a:srcRect l="-91931" t="0" r="-91931" b="0"/>
          <a:stretch/>
        </p:blipFill>
        <p:spPr>
          <a:xfrm>
            <a:off x="-925560" y="2133720"/>
            <a:ext cx="6060960" cy="43005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shopping"/>
          <p:cNvPicPr/>
          <p:nvPr/>
        </p:nvPicPr>
        <p:blipFill>
          <a:blip r:embed="rId3"/>
          <a:stretch/>
        </p:blipFill>
        <p:spPr>
          <a:xfrm>
            <a:off x="3686040" y="2641680"/>
            <a:ext cx="5191200" cy="32256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4"/>
          <p:cNvSpPr/>
          <p:nvPr/>
        </p:nvSpPr>
        <p:spPr>
          <a:xfrm>
            <a:off x="2443320" y="2133720"/>
            <a:ext cx="74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钱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他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花光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这些脏衣服</a:t>
            </a:r>
            <a:r>
              <a:rPr b="0" lang="zh-CN" sz="48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33" name="Content Placeholder 3" descr="洗衣服"/>
          <p:cNvPicPr/>
          <p:nvPr/>
        </p:nvPicPr>
        <p:blipFill>
          <a:blip r:embed="rId2"/>
          <a:srcRect l="-59874" t="0" r="-59874" b="0"/>
          <a:stretch/>
        </p:blipFill>
        <p:spPr>
          <a:xfrm>
            <a:off x="-639720" y="1285920"/>
            <a:ext cx="4869000" cy="2606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干净的衣服"/>
          <p:cNvPicPr/>
          <p:nvPr/>
        </p:nvPicPr>
        <p:blipFill>
          <a:blip r:embed="rId3"/>
          <a:stretch/>
        </p:blipFill>
        <p:spPr>
          <a:xfrm>
            <a:off x="5124600" y="1812960"/>
            <a:ext cx="3576600" cy="3011400"/>
          </a:xfrm>
          <a:prstGeom prst="rect">
            <a:avLst/>
          </a:prstGeom>
          <a:ln w="0">
            <a:noFill/>
          </a:ln>
        </p:spPr>
      </p:pic>
      <p:pic>
        <p:nvPicPr>
          <p:cNvPr id="735" name="Right Arrow 6" descr=""/>
          <p:cNvPicPr/>
          <p:nvPr/>
        </p:nvPicPr>
        <p:blipFill>
          <a:blip r:embed="rId4"/>
          <a:stretch/>
        </p:blipFill>
        <p:spPr>
          <a:xfrm>
            <a:off x="3230640" y="2603520"/>
            <a:ext cx="1987560" cy="9018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311040" y="3244680"/>
            <a:ext cx="927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 </a:t>
            </a: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脏衣服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(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妈妈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)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洗干净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918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小狗咬了邮差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他的屁股</a:t>
            </a:r>
            <a:r>
              <a:rPr b="0" lang="zh-CN" sz="54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779400" y="158436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屁股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小狗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咬伤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Content Placeholder 5" descr="被咬伤了"/>
          <p:cNvPicPr/>
          <p:nvPr/>
        </p:nvPicPr>
        <p:blipFill>
          <a:blip r:embed="rId2"/>
          <a:srcRect l="-85845" t="0" r="-85845" b="0"/>
          <a:stretch/>
        </p:blipFill>
        <p:spPr>
          <a:xfrm>
            <a:off x="-566640" y="2602080"/>
            <a:ext cx="7345440" cy="3931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红屁股"/>
          <p:cNvPicPr/>
          <p:nvPr/>
        </p:nvPicPr>
        <p:blipFill>
          <a:blip r:embed="rId3"/>
          <a:stretch/>
        </p:blipFill>
        <p:spPr>
          <a:xfrm>
            <a:off x="5672160" y="2889360"/>
            <a:ext cx="1895400" cy="1679400"/>
          </a:xfrm>
          <a:prstGeom prst="rect">
            <a:avLst/>
          </a:prstGeom>
          <a:ln w="0">
            <a:noFill/>
          </a:ln>
        </p:spPr>
      </p:pic>
      <p:pic>
        <p:nvPicPr>
          <p:cNvPr id="741" name="Multiply 7" descr=""/>
          <p:cNvPicPr/>
          <p:nvPr/>
        </p:nvPicPr>
        <p:blipFill>
          <a:blip r:embed="rId4"/>
          <a:stretch/>
        </p:blipFill>
        <p:spPr>
          <a:xfrm>
            <a:off x="6072120" y="2865600"/>
            <a:ext cx="1481040" cy="1566720"/>
          </a:xfrm>
          <a:prstGeom prst="rect">
            <a:avLst/>
          </a:prstGeom>
          <a:ln w="0">
            <a:noFill/>
          </a:ln>
        </p:spPr>
      </p:pic>
      <p:sp>
        <p:nvSpPr>
          <p:cNvPr id="742" name="TextBox 8"/>
          <p:cNvSpPr/>
          <p:nvPr/>
        </p:nvSpPr>
        <p:spPr>
          <a:xfrm>
            <a:off x="5672160" y="48690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your imag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9:21Z</dcterms:created>
  <dc:creator>admin</dc:creator>
  <dc:description/>
  <dc:language>en-US</dc:language>
  <cp:lastModifiedBy>lcheng</cp:lastModifiedBy>
  <dcterms:modified xsi:type="dcterms:W3CDTF">2010-09-16T12:47:45Z</dcterms:modified>
  <cp:revision>25</cp:revision>
  <dc:subject/>
  <dc:title>被</dc:title>
</cp:coreProperties>
</file>