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CFF484-11B6-4C78-9208-D157E0453C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50B0C-A147-493D-BCF3-431D76F0E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0CCEB-A497-4F62-911A-00FF6FE17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01581-D592-431E-9FE4-68EE122B2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654-123A-4161-AC5C-B7BBDA7D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DB7-BD37-425C-A449-E50F7004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FE8279-DB52-4686-A4BD-B093093E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BC8E40-5714-473B-9239-B2E655C8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0A2737-704C-4D19-A974-C13B6C07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20BCA2-164E-492C-8FA2-B2F0694A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085A6D-B4FF-41D0-BAE3-C26E2DBD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690B52-29E6-4320-8434-9F59BA1F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CE118E-05C0-4FFE-8FD1-B647DA68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CE7A52-A57A-4B74-A387-A515E0E5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1DE60D-1698-4D14-970D-8C1B7AAD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6F66D8-48EA-4364-84A5-4E91BC84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61B-37F1-415A-A49C-F1869219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286DBB-308F-41A7-B3C4-B7D77A4C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1BDD02-70A3-4391-8B29-0FF68C33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1C2E0E-2CE7-4E56-AEB2-ECDE6051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00B76B-BE91-4C72-966F-30D128B0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39F529-32CC-444D-B9E0-573A6237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288548-F784-41A2-B6D1-27B19D76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D178EB-8FC8-4FC0-B79A-33A4A164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7BE7D3-3EDD-4EE2-B1E8-C22F1685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59C027-F4F1-4A4B-B1B7-11931476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F12926-BB15-4D56-BE82-21F77912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0F3-0700-4E41-8A12-B4BDC342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654376-BFB4-4331-B244-36C654C2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719CC7-5497-4F9D-B864-5846D626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1FC1E9-09E1-429F-9CA5-56CDF817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F625BD-5CE0-44AD-A7AD-9EFB388E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41CCA8-6D30-4C70-BC40-15DE69B0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E1124A-23E8-41C4-9A42-93E4A33F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F7A778-13D5-40CB-BB0B-DF3C4D46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6DAFFE-A875-4AE2-BEE5-7BD0803B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DE807F-1F10-4BE7-89EE-08BEA3A8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9955FE-F59D-4333-B4C3-4ABADDB8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AFC7-BC5B-44F6-A3F5-C3DB131C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58CF43-0966-4F77-8F32-74C9CAAC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C94ADF-2C44-44A7-8AB2-2827E9F6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12B982-EE02-40D4-AE28-99731036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D18DB8-B63F-44DF-85F3-73024EB7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9F1EBE-FA75-4259-8CE6-195513F1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6AF5E1-6A53-4133-AA74-D0E116B8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340947-4224-4592-A1FB-006C568C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607BA1-4C25-48B4-9D67-4412B3C4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9F7023-1969-42C0-993E-13CF3517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26844D-C138-4CF6-8814-B0684204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CB22-478A-4BF7-83E0-3C680C76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6C4013-B3A4-43A6-A663-68BF16B9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92A12C-F667-4CA1-AC03-DFD5FEE6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37853C-3A34-4285-9F1D-8CF4AD14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CEF7F1-4B9A-49B8-AE70-183BD3CE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209552-EAA2-475F-849E-AA253A8D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75A764-DA6E-485C-AA2F-502652BE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9740C2-38E9-4210-9ECF-05729E2B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D21817-FEA6-4E32-8D6B-638BE713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EEB7AA-7F54-4F0D-BA1D-82977BCA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EE1012-2E7D-428B-8253-B52A7641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CEA8-6DA6-40CB-9C00-D6F20481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B03A87-2014-4638-8D63-048095B5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33C5CD-F967-4369-8366-CFF9D930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7B9E1B-A29C-494E-B0AE-44F93250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184433-8ECB-4FDE-919E-264CEDE7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D09B12-D53D-4239-8FD5-43BEAF69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6E016E-87D9-4E17-AC24-D2790F01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C2E8EA-4837-41B6-8565-AADEC2F9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5D90CF-A5E9-4A74-B326-FF1AA0D4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E1DC8D-E5C9-42EE-A57F-399327B4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77BFF6-5858-407A-87B9-30B87DED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C4DB-52DB-474E-A3CC-BF283FAA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2AD131-0C94-42A7-AB33-CF12E204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1E8C65-3667-4796-8636-F69898BA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AAFB45-E8F1-4DAD-9B32-F40EC6B8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2AC4D8-83F9-46E3-9D9F-C0D263BE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88F58D-823D-44F2-9B75-C175E933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EC7943-94FE-4D7E-BCA3-20DB26B4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628592-2892-4971-BBEB-9AB08A77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8652965-74DF-4CBD-A900-3796CBF1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61B81E-B9D9-47A9-8273-032E979E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29D81C-DADE-4161-BDD4-90A91660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9D4A-D784-4F28-A7CD-6FAD25AC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57A350-4300-4492-B725-FCA7E473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1234B1-9DC7-45B2-95F2-B1327865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AA26BA-8F67-40EC-B6C9-4B4CB7A0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67AACA-09A9-48CE-A05B-0AC74671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AF3EF7-1838-4C4A-A809-DB0413A3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906773-22C5-4C5B-A19E-20AC225F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20F053-1DA7-474C-A257-CB161206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A3A7637-1384-487E-AC33-8B6CC8ED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898E03E-9B42-407C-8443-9A677007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3D11213-9874-48A9-8A02-BB337DE0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963D-EE6A-4F02-8E8C-6DEEE57F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1F5D69-55A5-4F7F-A943-CAE06369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6328-1399-4E26-A409-AEC243D8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EEC9-7027-4344-9CFB-BAEBA4CF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1089-092C-4495-8F1D-D33CBC6B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A642-EB8C-4813-8BBB-5C56992C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4447-142B-4878-B75A-5ADD57F8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C315-8AAB-4BCC-BC89-5201ED67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8939-0962-44D0-8FB8-87B88E24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31EB2-CEF1-4A3B-9125-2D0DF2BB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241D4-6D76-4256-BEE9-0D46258C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BCDBB-C232-454F-8258-CBDACA4A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C02B4-1580-49FB-AD35-3498A2CB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46217-2DF3-424C-B22C-E4CFD5D3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D354-E704-469E-94A9-DD247499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D0B7B-DC6E-43BE-B495-EB94F1C5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E126A-12FE-40D9-9A96-3DC028AC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2879-E348-4C42-852F-7AED7C46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BF570-3BBB-483B-BFD4-1CB2B3DA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E34CD-4132-497C-BBA7-0C713FA5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396AE-B721-4278-9EBB-349542EB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C99CA-8DE8-4E44-9114-AF13830B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C98-A258-4D88-9AB4-AB8993E8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5DA5EA-E63B-4087-A132-101C6B72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AB0-1E1D-4093-BE33-1E79F76C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804450-841A-49CF-AEB6-3C71CEA3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F607B9-CBF8-42C6-92E1-065DFE0A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7B64A-50F0-40A9-A4E5-7E67758E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D9D603-17DE-45D5-9A88-CDCD9B81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35B96-6501-4122-98AA-758A0DF6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AF7282-6735-43FF-9F6B-BEEF8EF8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C0495B-3285-441F-BE4F-E002D919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BD882A-A986-4682-AA38-49415340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82D79C-C6ED-46A4-8079-D1BF04E6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5817BF-8591-4A7B-A911-0118A841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E9E-5E7E-40CB-B01E-0B84C59F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F7A597-1FDD-491F-834C-C7A3705B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8D3BD9-625C-47B3-B67D-F9F725C3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8807D7-FA72-456D-B4D4-074AA195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073E23-667D-4D7C-8E2D-19930DE1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2D005B-77E4-4602-B972-E2B43B11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5AE757-254D-4D09-B73C-0CCA40F2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2DC3AD-4246-4B93-8050-ED880B12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021CCB-9965-4747-B54E-01AB3AFF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C32AD8-C5B2-4F68-AFF7-041A8343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5599D6-95AB-4041-A895-7830F625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175-8576-484A-B4B2-97FFD9F3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9A5D85-5307-420B-8795-14343E44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DE6E49-8284-4F05-999F-6048EAA1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EAD917-005D-4B33-B92A-FAEFB79F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68C010-EC26-4D71-B838-121B21E1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7C2199-71A1-4EBF-A775-998A2406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BEB600-0F0A-4F31-9ED1-84C54036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6A4F84-6761-4616-BA40-AFA698F3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8D9F80-08E2-425C-BB89-5872B0DD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7E177A-156C-46B9-919F-79679EBE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9D6F0F-2F20-4DCF-87B2-563F3FFE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70B8-9B00-43F2-A439-23BA9637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B3ECC5-3519-4526-BFEE-18A32A60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D6C242-D6E6-46E4-A058-326239DB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971B74-C26B-4B32-B950-45332E88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CA8C50-4960-40F8-A445-C6C76D23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5C2DEA-5CF4-4D26-9C41-34FC88BA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BD8CA2-7853-4B3A-A21E-36491B2C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23C9F1-1F62-462D-B276-51894B03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7A1383-FF3F-43B4-9E4A-4B3DB818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E43DB0-1DDD-438A-A86B-8112C9FF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E4600D-60BB-4EC9-BFA9-743AC356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DF2-D66A-47BF-8FF9-FB39189D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AC98DB-6BBA-4A22-B7B5-7A59DD7E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60F91B-A9A8-46F0-8921-AC410086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6DA849-D135-40B9-8E8E-2D4D6238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8C1A73-2C89-41DE-B317-02900A43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060A47-771E-4E0A-8A56-2B3956CE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41EF5F-C145-48E9-8C9A-A88AFD28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92ADC0-BBB3-4BD2-ACFE-F14B2230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5E0215-6CE3-4B00-94BA-1F29B171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834335-E958-420E-AA0F-F9670317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3736A7-2F0F-4C7D-B406-D30859CA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11225-4408-4DB8-B899-AA258791C59D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2D8F6-89A9-44D5-ACC9-0E521AF26773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A39976-CA0D-4E8B-A747-7CC9CEC2C914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DEC53-60AD-467E-8355-8D65CD0334D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05917-B2AA-497F-9EAC-DDB7BC0B772E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83131-0696-401A-835D-66DFBF43DBB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6B4E3-DD5E-4F56-B189-ED0F265B351A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18B94-307C-4BD9-84DC-F344436A066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7C437-DF95-426C-899D-DC3038BD9853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6381F8-4B0D-4DAE-8E82-BA6153C3E37B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A4807-3900-4759-8CE9-7022B53389AD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5479C-7909-4BEC-ADDE-3FC0F3DE42A4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48043-93E4-45BE-B523-6FCCD7A5BEB1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0D90C-F3A2-4E07-8206-726D8A97EE9E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5080" y="580680"/>
              <a:ext cx="7745760" cy="568368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5080" y="6042600"/>
              <a:ext cx="774576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5080" y="563760"/>
              <a:ext cx="7745760" cy="24879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368CE-04AD-4170-984B-56178ED8C0DC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31132-D92D-44C7-9B7D-9B8156F7585F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D164E-467C-4F2E-9268-4D63C4A0836E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4940E-8571-441E-B2A0-E1157A0AA3B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40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56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54086-2EFD-442C-ADE8-CCA3C952AD50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D12B2-CCC9-49E8-90FF-BD2D65711EF6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E8BB7-BDD0-4B04-BD0A-B1E126556FA0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27058D-56CE-4B7E-8CE2-9BEB9EB04353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0794B-8012-4A8D-BCDD-DC13CC0C1934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85DA4-0314-43F4-8425-CC81F1D7F279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C5F32-71D6-46D7-B540-38DFDF0BBAC0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A22AF-3408-4587-9C2E-222D67658029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A6509-F393-4452-929B-CEC0C547C8A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0DA9F-006C-4565-9E29-826837F94B17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A4EE0-719E-449E-86CB-145A3FF263F2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1freesoundeffects.com/freesounds5/platebreak.wav" TargetMode="External"/><Relationship Id="rId3" Type="http://schemas.openxmlformats.org/officeDocument/2006/relationships/hyperlink" Target="http://funny-stuff.audio4fun.com/download/sounds/18863.mp3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0"/>
                </a:solidFill>
                <a:latin typeface="Calisto MT"/>
                <a:ea typeface="SimSun"/>
              </a:rPr>
              <a:t>被动式</a:t>
            </a:r>
            <a:r>
              <a:rPr b="0" lang="en-US" sz="5400" spc="-1" strike="noStrike">
                <a:solidFill>
                  <a:srgbClr val="000090"/>
                </a:solidFill>
                <a:latin typeface="Calisto MT"/>
                <a:ea typeface="SimSun"/>
              </a:rPr>
              <a:t> </a:t>
            </a:r>
            <a:br>
              <a:rPr sz="5400"/>
            </a:br>
            <a:r>
              <a:rPr b="0" lang="en-US" sz="4000" spc="-1" strike="noStrike">
                <a:solidFill>
                  <a:srgbClr val="800000"/>
                </a:solidFill>
                <a:latin typeface="Calisto MT"/>
                <a:ea typeface="SimSun"/>
              </a:rPr>
              <a:t> </a:t>
            </a:r>
            <a:r>
              <a:rPr b="0" lang="en-US" sz="4000" spc="-1" strike="noStrike">
                <a:solidFill>
                  <a:srgbClr val="800000"/>
                </a:solidFill>
                <a:latin typeface="Calisto MT"/>
                <a:ea typeface="SimSun"/>
              </a:rPr>
              <a:t>the passive construction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教学语法</a:t>
            </a:r>
            <a:endParaRPr b="0" lang="en-US" sz="2800" spc="-1" strike="noStrike">
              <a:solidFill>
                <a:srgbClr val="404040"/>
              </a:solidFill>
              <a:latin typeface="Calisto MT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指导教授：卢福波</a:t>
            </a:r>
            <a:endParaRPr b="0" lang="en-US" sz="2800" spc="-1" strike="noStrike">
              <a:solidFill>
                <a:srgbClr val="404040"/>
              </a:solidFill>
              <a:latin typeface="Calisto MT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581d"/>
                </a:solidFill>
                <a:latin typeface="华文仿宋"/>
                <a:ea typeface="华文仿宋"/>
              </a:rPr>
              <a:t>学生：林维茵</a:t>
            </a:r>
            <a:endParaRPr b="0" lang="en-US" sz="28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802800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活动二：描述你听到的声音</a:t>
            </a:r>
            <a:r>
              <a:rPr b="1" lang="en-US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90320" y="1584000"/>
            <a:ext cx="84373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24a82"/>
                </a:solidFill>
                <a:uFillTx/>
                <a:latin typeface="Calisto MT"/>
                <a:hlinkClick r:id="rId2"/>
              </a:rPr>
              <a:t>Sound Exercise 1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sto MT"/>
              </a:rPr>
              <a:t>      </a:t>
            </a:r>
            <a:r>
              <a:rPr b="1" lang="en-US" sz="4000" spc="-1" strike="noStrike">
                <a:solidFill>
                  <a:srgbClr val="8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800000"/>
                </a:solidFill>
                <a:latin typeface="Calisto MT"/>
              </a:rPr>
              <a:t> </a:t>
            </a:r>
            <a:r>
              <a:rPr b="1" lang="zh-CN" sz="4000" spc="-1" strike="noStrike">
                <a:solidFill>
                  <a:srgbClr val="800000"/>
                </a:solidFill>
                <a:latin typeface="Calisto MT"/>
                <a:ea typeface="SimSun"/>
              </a:rPr>
              <a:t>盘子</a:t>
            </a:r>
            <a:r>
              <a:rPr b="1" lang="zh-CN" sz="4000" spc="-1" strike="noStrike">
                <a:solidFill>
                  <a:srgbClr val="8118ae"/>
                </a:solidFill>
                <a:latin typeface="Calisto MT"/>
                <a:ea typeface="SimSun"/>
              </a:rPr>
              <a:t>被</a:t>
            </a:r>
            <a:r>
              <a:rPr b="1" lang="zh-CN" sz="4000" spc="-1" strike="noStrike">
                <a:solidFill>
                  <a:srgbClr val="0000ff"/>
                </a:solidFill>
                <a:latin typeface="Calisto MT"/>
                <a:ea typeface="SimSun"/>
              </a:rPr>
              <a:t>（人）打破了。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24a82"/>
                </a:solidFill>
                <a:uFillTx/>
                <a:latin typeface="Calisto MT"/>
                <a:hlinkClick r:id="rId3"/>
              </a:rPr>
              <a:t>Sound Exercise 2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sto MT"/>
              </a:rPr>
              <a:t>      </a:t>
            </a:r>
            <a:r>
              <a:rPr b="1" lang="en-US" sz="4000" spc="-1" strike="noStrike">
                <a:solidFill>
                  <a:srgbClr val="8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800000"/>
                </a:solidFill>
                <a:latin typeface="Calisto MT"/>
              </a:rPr>
              <a:t> </a:t>
            </a:r>
            <a:r>
              <a:rPr b="1" lang="zh-CN" sz="4000" spc="-1" strike="noStrike">
                <a:solidFill>
                  <a:srgbClr val="800000"/>
                </a:solidFill>
                <a:latin typeface="Calisto MT"/>
                <a:ea typeface="SimSun"/>
              </a:rPr>
              <a:t>受伤的人</a:t>
            </a:r>
            <a:r>
              <a:rPr b="1" lang="zh-CN" sz="4000" spc="-1" strike="noStrike">
                <a:solidFill>
                  <a:srgbClr val="8118ae"/>
                </a:solidFill>
                <a:latin typeface="Calisto MT"/>
                <a:ea typeface="SimSun"/>
              </a:rPr>
              <a:t>被</a:t>
            </a:r>
            <a:r>
              <a:rPr b="1" lang="zh-CN" sz="4000" spc="-1" strike="noStrike">
                <a:solidFill>
                  <a:srgbClr val="0000ff"/>
                </a:solidFill>
                <a:latin typeface="Calisto MT"/>
                <a:ea typeface="SimSun"/>
              </a:rPr>
              <a:t>送到医院了。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活动三：比手画脚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337680" y="2808000"/>
            <a:ext cx="58914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 </a:t>
            </a:r>
            <a:r>
              <a:rPr b="0" lang="zh-CN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两个学生一组，每次一个学生拿一张已经写上</a:t>
            </a:r>
            <a:r>
              <a:rPr b="0" lang="zh-CN" sz="36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动作”</a:t>
            </a:r>
            <a:r>
              <a:rPr b="0" lang="zh-CN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的纸条。这一个学生</a:t>
            </a:r>
            <a:r>
              <a:rPr b="0" lang="zh-CN" sz="3600" spc="-1" strike="noStrike">
                <a:solidFill>
                  <a:srgbClr val="0000ff"/>
                </a:solidFill>
                <a:latin typeface="华文仿宋"/>
                <a:ea typeface="华文仿宋"/>
              </a:rPr>
              <a:t>表演</a:t>
            </a:r>
            <a:r>
              <a:rPr b="0" lang="zh-CN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动作让另一个同学用</a:t>
            </a:r>
            <a:r>
              <a:rPr b="0" lang="zh-CN" sz="36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被”</a:t>
            </a:r>
            <a:r>
              <a:rPr b="0" lang="zh-CN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描述。</a:t>
            </a:r>
            <a:r>
              <a:rPr b="0" lang="en-US" sz="36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47" name="Picture 3" descr="charades"/>
          <p:cNvPicPr/>
          <p:nvPr/>
        </p:nvPicPr>
        <p:blipFill>
          <a:blip r:embed="rId2"/>
          <a:stretch/>
        </p:blipFill>
        <p:spPr>
          <a:xfrm>
            <a:off x="5870520" y="1219320"/>
            <a:ext cx="30384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209520" y="423720"/>
            <a:ext cx="893448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动作涉及的人或事物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4800" spc="-1" strike="noStrike">
                <a:solidFill>
                  <a:srgbClr val="8118ae"/>
                </a:solidFill>
                <a:latin typeface="华文仿宋"/>
                <a:ea typeface="华文仿宋"/>
              </a:rPr>
              <a:t>被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动词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结果补语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Calisto MT"/>
              </a:rPr>
              <a:t>the affected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                                                     </a:t>
            </a:r>
            <a:r>
              <a:rPr b="1" lang="en-US" sz="2400" spc="-1" strike="noStrike">
                <a:solidFill>
                  <a:srgbClr val="800000"/>
                </a:solidFill>
                <a:latin typeface="Calisto MT"/>
              </a:rPr>
              <a:t>R.C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        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做动作的（人）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49" name="Up Arrow 8" descr=""/>
          <p:cNvPicPr/>
          <p:nvPr/>
        </p:nvPicPr>
        <p:blipFill>
          <a:blip r:embed="rId2"/>
          <a:stretch/>
        </p:blipFill>
        <p:spPr>
          <a:xfrm>
            <a:off x="4791240" y="3273480"/>
            <a:ext cx="1152360" cy="1884240"/>
          </a:xfrm>
          <a:prstGeom prst="rect">
            <a:avLst/>
          </a:prstGeom>
          <a:ln w="0">
            <a:noFill/>
          </a:ln>
        </p:spPr>
      </p:pic>
      <p:sp>
        <p:nvSpPr>
          <p:cNvPr id="750" name="TextBox 9"/>
          <p:cNvSpPr/>
          <p:nvPr/>
        </p:nvSpPr>
        <p:spPr>
          <a:xfrm>
            <a:off x="3726000" y="660240"/>
            <a:ext cx="172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 </a:t>
            </a:r>
            <a:r>
              <a:rPr b="1" lang="zh-CN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总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4"/>
          <p:cNvSpPr/>
          <p:nvPr/>
        </p:nvSpPr>
        <p:spPr>
          <a:xfrm>
            <a:off x="608040" y="584028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uestions? 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Content Placeholder 3" descr="被作业压死了"/>
          <p:cNvPicPr/>
          <p:nvPr/>
        </p:nvPicPr>
        <p:blipFill>
          <a:blip r:embed="rId2"/>
          <a:srcRect l="-43390" t="0" r="-43390" b="0"/>
          <a:stretch/>
        </p:blipFill>
        <p:spPr>
          <a:xfrm>
            <a:off x="900000" y="2133720"/>
            <a:ext cx="7345440" cy="393228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1073160" y="973080"/>
            <a:ext cx="71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不要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作业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压死了。</a:t>
            </a:r>
            <a:r>
              <a:rPr b="0" lang="en-US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Content Placeholder 3" descr="踩"/>
          <p:cNvPicPr/>
          <p:nvPr/>
        </p:nvPicPr>
        <p:blipFill>
          <a:blip r:embed="rId2"/>
          <a:srcRect l="-25748" t="0" r="-25748" b="0"/>
          <a:stretch/>
        </p:blipFill>
        <p:spPr>
          <a:xfrm>
            <a:off x="439560" y="1015920"/>
            <a:ext cx="5175360" cy="4114800"/>
          </a:xfrm>
          <a:prstGeom prst="rect">
            <a:avLst/>
          </a:prstGeom>
          <a:ln w="0">
            <a:noFill/>
          </a:ln>
        </p:spPr>
      </p:pic>
      <p:sp>
        <p:nvSpPr>
          <p:cNvPr id="713" name="TextBox 3"/>
          <p:cNvSpPr/>
          <p:nvPr/>
        </p:nvSpPr>
        <p:spPr>
          <a:xfrm>
            <a:off x="4894200" y="2762280"/>
            <a:ext cx="39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踩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!!!  cǎi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 txBox="1"/>
          <p:nvPr/>
        </p:nvSpPr>
        <p:spPr>
          <a:xfrm>
            <a:off x="209520" y="423360"/>
            <a:ext cx="8934480" cy="564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    </a:t>
            </a:r>
            <a:r>
              <a:rPr b="1" lang="en-US" sz="3200" spc="-1" strike="noStrike">
                <a:solidFill>
                  <a:srgbClr val="660066"/>
                </a:solidFill>
                <a:latin typeface="华文仿宋"/>
                <a:ea typeface="华文仿宋"/>
              </a:rPr>
              <a:t>How is the person or the thing being affected?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动作涉及的人或事物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4800" spc="-1" strike="noStrike">
                <a:solidFill>
                  <a:srgbClr val="8118ae"/>
                </a:solidFill>
                <a:latin typeface="华文仿宋"/>
                <a:ea typeface="华文仿宋"/>
              </a:rPr>
              <a:t>被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动词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+ </a:t>
            </a:r>
            <a:r>
              <a:rPr b="1" lang="zh-CN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结果补语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Calisto MT"/>
              </a:rPr>
              <a:t>the affected</a:t>
            </a:r>
            <a:r>
              <a:rPr b="0" lang="en-US" sz="24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800000"/>
                </a:solidFill>
                <a:latin typeface="Calisto MT"/>
              </a:rPr>
              <a:t>R.C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华文仿宋"/>
                <a:ea typeface="华文仿宋"/>
              </a:rPr>
              <a:t>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        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做动作的（人）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15" name="Up Arrow 8" descr=""/>
          <p:cNvPicPr/>
          <p:nvPr/>
        </p:nvPicPr>
        <p:blipFill>
          <a:blip r:embed="rId2"/>
          <a:stretch/>
        </p:blipFill>
        <p:spPr>
          <a:xfrm>
            <a:off x="5022720" y="3273480"/>
            <a:ext cx="987480" cy="1884240"/>
          </a:xfrm>
          <a:prstGeom prst="rect">
            <a:avLst/>
          </a:prstGeom>
          <a:ln w="0">
            <a:noFill/>
          </a:ln>
        </p:spPr>
      </p:pic>
      <p:sp>
        <p:nvSpPr>
          <p:cNvPr id="716" name="TextBox 9"/>
          <p:cNvSpPr/>
          <p:nvPr/>
        </p:nvSpPr>
        <p:spPr>
          <a:xfrm>
            <a:off x="2428920" y="660240"/>
            <a:ext cx="463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  </a:t>
            </a:r>
            <a:r>
              <a:rPr b="1" lang="zh-CN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结构</a:t>
            </a:r>
            <a:r>
              <a:rPr b="1" lang="en-US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 </a:t>
            </a:r>
            <a:r>
              <a:rPr b="1" lang="en-US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(Structure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c581d"/>
                </a:solidFill>
                <a:latin typeface="华文仿宋"/>
                <a:ea typeface="华文仿宋"/>
              </a:rPr>
              <a:t>活动一：怎么了？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283680" y="1584360"/>
            <a:ext cx="88599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581d"/>
                </a:solidFill>
                <a:latin typeface="华文仿宋"/>
                <a:ea typeface="华文仿宋"/>
              </a:rPr>
              <a:t>     </a:t>
            </a:r>
            <a:r>
              <a:rPr b="0" lang="zh-CN" sz="4000" spc="-1" strike="noStrike">
                <a:solidFill>
                  <a:srgbClr val="1c581d"/>
                </a:solidFill>
                <a:latin typeface="华文仿宋"/>
                <a:ea typeface="华文仿宋"/>
              </a:rPr>
              <a:t>请你描述</a:t>
            </a:r>
            <a:r>
              <a:rPr b="0" lang="en-US" sz="4000" spc="-1" strike="noStrike">
                <a:solidFill>
                  <a:srgbClr val="1c581d"/>
                </a:solidFill>
                <a:latin typeface="华文仿宋"/>
                <a:ea typeface="华文仿宋"/>
              </a:rPr>
              <a:t> </a:t>
            </a:r>
            <a:r>
              <a:rPr b="0" lang="en-US" sz="4000" spc="-1" strike="noStrike">
                <a:solidFill>
                  <a:srgbClr val="1c581d"/>
                </a:solidFill>
                <a:latin typeface="华文仿宋"/>
                <a:ea typeface="华文仿宋"/>
              </a:rPr>
              <a:t>(describe)</a:t>
            </a:r>
            <a:r>
              <a:rPr b="0" lang="zh-CN" sz="4000" spc="-1" strike="noStrike">
                <a:solidFill>
                  <a:srgbClr val="1c581d"/>
                </a:solidFill>
                <a:latin typeface="华文仿宋"/>
                <a:ea typeface="华文仿宋"/>
              </a:rPr>
              <a:t>你看到的图：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     </a:t>
            </a:r>
            <a:r>
              <a:rPr b="0" lang="zh-CN" sz="4000" spc="-1" strike="noStrike" u="sng">
                <a:solidFill>
                  <a:srgbClr val="800000"/>
                </a:solidFill>
                <a:uFillTx/>
                <a:latin typeface="华文仿宋"/>
                <a:ea typeface="华文仿宋"/>
              </a:rPr>
              <a:t>这个人或这个东西</a:t>
            </a:r>
            <a:r>
              <a:rPr b="1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怎么了</a:t>
            </a:r>
            <a:r>
              <a:rPr b="0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？</a:t>
            </a: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华文仿宋"/>
                <a:ea typeface="华文仿宋"/>
              </a:rPr>
              <a:t>	</a:t>
            </a:r>
            <a:r>
              <a:rPr b="0" lang="zh-CN" sz="3200" spc="-1" strike="noStrike" u="sng">
                <a:solidFill>
                  <a:srgbClr val="800000"/>
                </a:solidFill>
                <a:uFillTx/>
                <a:latin typeface="华文仿宋"/>
                <a:ea typeface="华文仿宋"/>
              </a:rPr>
              <a:t>这个人或这个东西</a:t>
            </a:r>
            <a:r>
              <a:rPr b="1" lang="zh-CN" sz="5400" spc="-1" strike="noStrike">
                <a:solidFill>
                  <a:srgbClr val="8118ae"/>
                </a:solidFill>
                <a:latin typeface="华文仿宋"/>
                <a:ea typeface="华文仿宋"/>
              </a:rPr>
              <a:t>被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+ (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做动作的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)+V+RC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华文仿宋"/>
                <a:ea typeface="华文仿宋"/>
              </a:rPr>
              <a:t>蛋糕</a:t>
            </a:r>
            <a:r>
              <a:rPr b="0" lang="zh-CN" sz="6000" spc="-1" strike="noStrike">
                <a:solidFill>
                  <a:srgbClr val="0000ff"/>
                </a:solidFill>
                <a:latin typeface="华文仿宋"/>
                <a:ea typeface="华文仿宋"/>
              </a:rPr>
              <a:t>怎么了？</a:t>
            </a:r>
            <a:endParaRPr b="0" lang="en-US" sz="60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20" name="Content Placeholder 3" descr="舔盘子"/>
          <p:cNvPicPr/>
          <p:nvPr/>
        </p:nvPicPr>
        <p:blipFill>
          <a:blip r:embed="rId2"/>
          <a:srcRect l="-36577" t="0" r="-36577" b="0"/>
          <a:stretch/>
        </p:blipFill>
        <p:spPr>
          <a:xfrm>
            <a:off x="-755640" y="1941480"/>
            <a:ext cx="6607080" cy="351000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4" descr="空盘子"/>
          <p:cNvPicPr/>
          <p:nvPr/>
        </p:nvPicPr>
        <p:blipFill>
          <a:blip r:embed="rId3"/>
          <a:stretch/>
        </p:blipFill>
        <p:spPr>
          <a:xfrm>
            <a:off x="4316400" y="3189240"/>
            <a:ext cx="4214880" cy="3176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6" descr="cake"/>
          <p:cNvPicPr/>
          <p:nvPr/>
        </p:nvPicPr>
        <p:blipFill>
          <a:blip r:embed="rId4"/>
          <a:stretch/>
        </p:blipFill>
        <p:spPr>
          <a:xfrm>
            <a:off x="6724800" y="384120"/>
            <a:ext cx="1806480" cy="2400480"/>
          </a:xfrm>
          <a:prstGeom prst="rect">
            <a:avLst/>
          </a:prstGeom>
          <a:ln w="0">
            <a:noFill/>
          </a:ln>
        </p:spPr>
      </p:pic>
      <p:sp>
        <p:nvSpPr>
          <p:cNvPr id="723" name="TextBox 7"/>
          <p:cNvSpPr/>
          <p:nvPr/>
        </p:nvSpPr>
        <p:spPr>
          <a:xfrm>
            <a:off x="1573200" y="3189240"/>
            <a:ext cx="64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蛋糕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妹妹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吃完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华文仿宋"/>
                <a:ea typeface="华文仿宋"/>
              </a:rPr>
              <a:t>鞋子</a:t>
            </a:r>
            <a:r>
              <a:rPr b="0" lang="zh-CN" sz="6000" spc="-1" strike="noStrike">
                <a:solidFill>
                  <a:srgbClr val="0000ff"/>
                </a:solidFill>
                <a:latin typeface="华文仿宋"/>
                <a:ea typeface="华文仿宋"/>
              </a:rPr>
              <a:t>怎么了？</a:t>
            </a:r>
            <a:endParaRPr b="0" lang="en-US" sz="60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25" name="Content Placeholder 5" descr="高特破的鞋"/>
          <p:cNvPicPr/>
          <p:nvPr/>
        </p:nvPicPr>
        <p:blipFill>
          <a:blip r:embed="rId2"/>
          <a:srcRect l="-20147" t="0" r="-20147" b="0"/>
          <a:stretch/>
        </p:blipFill>
        <p:spPr>
          <a:xfrm>
            <a:off x="2028960" y="1871640"/>
            <a:ext cx="7483320" cy="44816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" descr="gaote"/>
          <p:cNvPicPr/>
          <p:nvPr/>
        </p:nvPicPr>
        <p:blipFill>
          <a:blip r:embed="rId3"/>
          <a:stretch/>
        </p:blipFill>
        <p:spPr>
          <a:xfrm>
            <a:off x="290520" y="3178080"/>
            <a:ext cx="2374920" cy="34290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4"/>
          <p:cNvSpPr/>
          <p:nvPr/>
        </p:nvSpPr>
        <p:spPr>
          <a:xfrm>
            <a:off x="1131840" y="2057400"/>
            <a:ext cx="711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鞋子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高特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穿坏</a:t>
            </a:r>
            <a:r>
              <a:rPr b="0" lang="en-US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/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破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00000" y="244080"/>
            <a:ext cx="734544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1c581d"/>
                </a:solidFill>
                <a:latin typeface="华文仿宋"/>
                <a:ea typeface="华文仿宋"/>
              </a:rPr>
              <a:t>昨天我有很多钱，现在</a:t>
            </a:r>
            <a:br>
              <a:rPr sz="4300"/>
            </a:br>
            <a:r>
              <a:rPr b="0" lang="zh-CN" sz="4300" spc="-1" strike="noStrike">
                <a:solidFill>
                  <a:srgbClr val="1c581d"/>
                </a:solidFill>
                <a:latin typeface="华文仿宋"/>
                <a:ea typeface="华文仿宋"/>
              </a:rPr>
              <a:t>口袋里一块钱也没有，</a:t>
            </a:r>
            <a:r>
              <a:rPr b="0" lang="zh-CN" sz="4300" spc="-1" strike="noStrike">
                <a:solidFill>
                  <a:srgbClr val="800000"/>
                </a:solidFill>
                <a:latin typeface="华文仿宋"/>
                <a:ea typeface="华文仿宋"/>
              </a:rPr>
              <a:t>钱</a:t>
            </a:r>
            <a:r>
              <a:rPr b="0" lang="zh-CN" sz="6000" spc="-1" strike="noStrike">
                <a:solidFill>
                  <a:srgbClr val="0000ff"/>
                </a:solidFill>
                <a:latin typeface="华文仿宋"/>
                <a:ea typeface="华文仿宋"/>
              </a:rPr>
              <a:t>呢？</a:t>
            </a:r>
            <a:endParaRPr b="0" lang="en-US" sz="60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29" name="Content Placeholder 3" descr="钱被花光了.png"/>
          <p:cNvPicPr/>
          <p:nvPr/>
        </p:nvPicPr>
        <p:blipFill>
          <a:blip r:embed="rId2"/>
          <a:srcRect l="-91931" t="0" r="-91931" b="0"/>
          <a:stretch/>
        </p:blipFill>
        <p:spPr>
          <a:xfrm>
            <a:off x="-925560" y="2133720"/>
            <a:ext cx="6060960" cy="43005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3" descr="shopping"/>
          <p:cNvPicPr/>
          <p:nvPr/>
        </p:nvPicPr>
        <p:blipFill>
          <a:blip r:embed="rId3"/>
          <a:stretch/>
        </p:blipFill>
        <p:spPr>
          <a:xfrm>
            <a:off x="3686040" y="2641680"/>
            <a:ext cx="5191200" cy="322560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4"/>
          <p:cNvSpPr/>
          <p:nvPr/>
        </p:nvSpPr>
        <p:spPr>
          <a:xfrm>
            <a:off x="2443320" y="2133720"/>
            <a:ext cx="741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钱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（他）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花光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华文仿宋"/>
                <a:ea typeface="华文仿宋"/>
              </a:rPr>
              <a:t>这些脏衣服</a:t>
            </a:r>
            <a:r>
              <a:rPr b="0" lang="zh-CN" sz="4800" spc="-1" strike="noStrike">
                <a:solidFill>
                  <a:srgbClr val="0000ff"/>
                </a:solidFill>
                <a:latin typeface="华文仿宋"/>
                <a:ea typeface="华文仿宋"/>
              </a:rPr>
              <a:t>怎么了？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33" name="Content Placeholder 3" descr="洗衣服"/>
          <p:cNvPicPr/>
          <p:nvPr/>
        </p:nvPicPr>
        <p:blipFill>
          <a:blip r:embed="rId2"/>
          <a:srcRect l="-59874" t="0" r="-59874" b="0"/>
          <a:stretch/>
        </p:blipFill>
        <p:spPr>
          <a:xfrm>
            <a:off x="-639720" y="1285920"/>
            <a:ext cx="4869000" cy="26067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干净的衣服"/>
          <p:cNvPicPr/>
          <p:nvPr/>
        </p:nvPicPr>
        <p:blipFill>
          <a:blip r:embed="rId3"/>
          <a:stretch/>
        </p:blipFill>
        <p:spPr>
          <a:xfrm>
            <a:off x="5124600" y="1812960"/>
            <a:ext cx="3576600" cy="3011400"/>
          </a:xfrm>
          <a:prstGeom prst="rect">
            <a:avLst/>
          </a:prstGeom>
          <a:ln w="0">
            <a:noFill/>
          </a:ln>
        </p:spPr>
      </p:pic>
      <p:pic>
        <p:nvPicPr>
          <p:cNvPr id="735" name="Right Arrow 6" descr=""/>
          <p:cNvPicPr/>
          <p:nvPr/>
        </p:nvPicPr>
        <p:blipFill>
          <a:blip r:embed="rId4"/>
          <a:stretch/>
        </p:blipFill>
        <p:spPr>
          <a:xfrm>
            <a:off x="3230640" y="2603520"/>
            <a:ext cx="1987560" cy="90180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7"/>
          <p:cNvSpPr/>
          <p:nvPr/>
        </p:nvSpPr>
        <p:spPr>
          <a:xfrm>
            <a:off x="311040" y="3244680"/>
            <a:ext cx="927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 </a:t>
            </a: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脏衣服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en-US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(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妈妈</a:t>
            </a:r>
            <a:r>
              <a:rPr b="0" lang="en-US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)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洗干净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9186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1c581d"/>
                </a:solidFill>
                <a:latin typeface="华文仿宋"/>
                <a:ea typeface="华文仿宋"/>
              </a:rPr>
              <a:t>小狗咬了邮差，</a:t>
            </a:r>
            <a:r>
              <a:rPr b="0" lang="zh-CN" sz="4300" spc="-1" strike="noStrike">
                <a:solidFill>
                  <a:srgbClr val="800000"/>
                </a:solidFill>
                <a:latin typeface="华文仿宋"/>
                <a:ea typeface="华文仿宋"/>
              </a:rPr>
              <a:t>他的屁股</a:t>
            </a:r>
            <a:r>
              <a:rPr b="0" lang="zh-CN" sz="5400" spc="-1" strike="noStrike">
                <a:solidFill>
                  <a:srgbClr val="0000ff"/>
                </a:solidFill>
                <a:latin typeface="华文仿宋"/>
                <a:ea typeface="华文仿宋"/>
              </a:rPr>
              <a:t>怎么了</a:t>
            </a:r>
            <a:r>
              <a:rPr b="0" lang="zh-CN" sz="6000" spc="-1" strike="noStrike">
                <a:solidFill>
                  <a:srgbClr val="0000ff"/>
                </a:solidFill>
                <a:latin typeface="华文仿宋"/>
                <a:ea typeface="华文仿宋"/>
              </a:rPr>
              <a:t>？</a:t>
            </a:r>
            <a:endParaRPr b="0" lang="en-US" sz="60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8" name="Rectangle 3"/>
          <p:cNvSpPr/>
          <p:nvPr/>
        </p:nvSpPr>
        <p:spPr>
          <a:xfrm>
            <a:off x="779400" y="158436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儷黑 Pro"/>
                <a:ea typeface="儷黑 Pro"/>
              </a:rPr>
              <a:t>屁股</a:t>
            </a:r>
            <a:r>
              <a:rPr b="0" lang="zh-CN" sz="5400" spc="-1" strike="noStrike">
                <a:solidFill>
                  <a:srgbClr val="8118ae"/>
                </a:solidFill>
                <a:latin typeface="儷黑 Pro"/>
                <a:ea typeface="儷黑 Pro"/>
              </a:rPr>
              <a:t>被</a:t>
            </a:r>
            <a:r>
              <a:rPr b="0" lang="zh-CN" sz="5400" spc="-1" strike="noStrike">
                <a:solidFill>
                  <a:srgbClr val="ffff00"/>
                </a:solidFill>
                <a:latin typeface="儷黑 Pro"/>
                <a:ea typeface="儷黑 Pro"/>
              </a:rPr>
              <a:t>（小狗）</a:t>
            </a:r>
            <a:r>
              <a:rPr b="0" lang="zh-CN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咬伤了。</a:t>
            </a:r>
            <a:r>
              <a:rPr b="0" lang="en-US" sz="5400" spc="-1" strike="noStrike">
                <a:solidFill>
                  <a:srgbClr val="0000ff"/>
                </a:solidFill>
                <a:latin typeface="儷黑 Pro"/>
                <a:ea typeface="儷黑 Pro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Content Placeholder 5" descr="被咬伤了"/>
          <p:cNvPicPr/>
          <p:nvPr/>
        </p:nvPicPr>
        <p:blipFill>
          <a:blip r:embed="rId2"/>
          <a:srcRect l="-85845" t="0" r="-85845" b="0"/>
          <a:stretch/>
        </p:blipFill>
        <p:spPr>
          <a:xfrm>
            <a:off x="-566640" y="2602080"/>
            <a:ext cx="7345440" cy="393192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6" descr="红屁股"/>
          <p:cNvPicPr/>
          <p:nvPr/>
        </p:nvPicPr>
        <p:blipFill>
          <a:blip r:embed="rId3"/>
          <a:stretch/>
        </p:blipFill>
        <p:spPr>
          <a:xfrm>
            <a:off x="5672160" y="2889360"/>
            <a:ext cx="1895400" cy="1679400"/>
          </a:xfrm>
          <a:prstGeom prst="rect">
            <a:avLst/>
          </a:prstGeom>
          <a:ln w="0">
            <a:noFill/>
          </a:ln>
        </p:spPr>
      </p:pic>
      <p:pic>
        <p:nvPicPr>
          <p:cNvPr id="741" name="Multiply 7" descr=""/>
          <p:cNvPicPr/>
          <p:nvPr/>
        </p:nvPicPr>
        <p:blipFill>
          <a:blip r:embed="rId4"/>
          <a:stretch/>
        </p:blipFill>
        <p:spPr>
          <a:xfrm>
            <a:off x="6072120" y="2865600"/>
            <a:ext cx="1481040" cy="1566720"/>
          </a:xfrm>
          <a:prstGeom prst="rect">
            <a:avLst/>
          </a:prstGeom>
          <a:ln w="0">
            <a:noFill/>
          </a:ln>
        </p:spPr>
      </p:pic>
      <p:sp>
        <p:nvSpPr>
          <p:cNvPr id="742" name="TextBox 8"/>
          <p:cNvSpPr/>
          <p:nvPr/>
        </p:nvSpPr>
        <p:spPr>
          <a:xfrm>
            <a:off x="5672160" y="486900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your imagin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2:59:21Z</dcterms:created>
  <dc:creator>admin</dc:creator>
  <dc:description/>
  <dc:language>en-US</dc:language>
  <cp:lastModifiedBy>lcheng</cp:lastModifiedBy>
  <dcterms:modified xsi:type="dcterms:W3CDTF">2010-09-16T12:47:45Z</dcterms:modified>
  <cp:revision>25</cp:revision>
  <dc:subject/>
  <dc:title>被</dc:title>
</cp:coreProperties>
</file>