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6556-13BC-4DC5-A730-EBEBF98D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9BC3-77CE-4F22-83AC-B746E890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5D18-4875-401B-AA73-8771EFA2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AE85-8F48-4E45-8989-3A747234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04CC-AA82-4311-A8DB-61A2BB67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3CE7-3A14-4790-89A7-EC4C6305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AD90-58C9-495B-B4A3-CD46685C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B34B-ADDE-4268-9EBD-F4EFE374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A32A-19E7-4A4F-B7F2-25757193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DC90-F64B-406F-902A-AC438484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315E-7507-4DE4-A643-32742D1C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1FCA-3331-4BCE-8543-2A16DAD5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C307-3BC0-4E5B-B5D8-3C6D7664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6631-BDA6-444B-BB70-650FCEF8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A009-33DF-44E7-9B27-744CBBD2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0E3F-80AD-4B01-A435-432FCFC9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E6CF-A132-4156-9D21-462E2082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AC6CD-E377-4CBE-9491-123296DE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FD93E-C67C-491C-8480-9FD32F34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3D89F-D701-41AD-9533-98C99EEC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6FB25-B414-4D69-8185-1388C141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48D5E-D558-4B58-A0BC-BEA62B62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E55C-5C2B-4C28-98B5-35A7C6BB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A7237-95B4-467D-B3BC-382E3460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0AFEB-96F1-4156-AD18-ED79D715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510A8-6051-4DEE-8B47-2A855BF6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E38C4-5CBE-4CCF-B49E-C64DB541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3376B-087D-408C-B711-15B4B606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86B37-18FF-4937-86A4-B26F761C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2C578-E0AD-4348-8D4E-012F04EB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79ABD-6555-4017-BE3B-E604EBFF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E5526-E883-4F3A-9D2E-7FED2A81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156D4-64D4-49D4-946C-4FF3D164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5E2C-5D3A-484C-A0E3-C8FBFD9A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6F230-4ADF-40B4-8C0B-C299AA68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8AC8D-A04D-475F-9127-96976095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7968E-28A3-426B-9AFD-031D683D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FF756-A9F1-48C0-B004-C1F5A407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DD209-DABC-4E84-861F-6005B852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76186-ED5C-44CE-8FB2-D3A817EE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B384A-784B-433B-8B8A-CD2A8A6B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4B7C6-CE79-4BA1-A5C6-6151E84B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2F08D-2684-4559-AC2B-DF7A6D61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E3E85-C693-4654-AD2C-7C87FD9F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CA55-868D-480A-AB9A-BA62B64D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6EABA-6C3C-4B1C-98F2-2B37DD7A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1EE79-7FA2-4115-A004-FC67465E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42AB3-0EA2-43C2-85B3-5B2C8717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15B44-944C-45BF-81AA-B0AB9A8B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8EEF8-8036-4A8F-A07D-E1FD4EA3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12262-3630-48B7-862C-49959DBD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B4028-CFE6-48F8-A6B2-FDF50AB6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BE7EC-5F90-42E1-A076-D2727A66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CE492-0392-4A7B-B326-F733624D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5EF67-294A-4129-8774-9023EBFE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5998-5C7E-42BB-9EAB-16527C93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AEE65-98C5-4DCB-8651-AB7A087A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073E0-307E-4E76-9D9B-F15C247C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39530-A39C-42D9-9500-4364900A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F4CF2-3C39-49B3-AFE4-49F25753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B80A2-90CD-418F-B5AC-8D1968D8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4830C-6D99-4C26-82D9-6CC06588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334B6-5A97-4FE2-BFD3-59FE6A85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3CEAD-F387-46F9-8AB0-BB1ECAAB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23F1B-641E-450A-AAA2-0EE25ABD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EA1E6-35A7-446F-8F7D-CF01706B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F374-9D8E-4C4F-9204-35102AFB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9151A-FCF2-4ADF-93BE-CB004658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B28B7-68EA-48B8-BBBB-721B2842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E86C4-16CA-44EE-A0A8-73D59402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4CEB2-2194-4975-BE2F-8770C13C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E07AD-83C6-45E4-98EA-3DCC3379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67982-5DEE-444C-95AB-67996B14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DE99D-56A0-47CF-B0C1-684F52B6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E9F64-CCA5-4ACC-8F77-C301F6A9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B5F3F-7F0B-4B7E-820E-622ED16B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89A92-5E19-4CD9-A541-93578E4E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91B1-3828-4881-84C8-593B0D6B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A2C83-51BF-457F-AC97-DE23D2C7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C0F77-2337-42A5-8802-FB9DECA0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D5729-9537-4F27-9887-08F74CDE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F347D-19A0-45FA-8F42-0CB8E03F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B245F-06EC-45D0-8994-76A735CF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61F-E0CE-4DF1-81A0-32AA1F91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820A-54D6-499C-9BB5-F9E1A3BEE743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22CD-6BBF-4746-900E-767D296A3C18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D473-5BC1-4856-B05A-4A89ACF63622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FBB9-3E13-4F49-AC1B-3F2044815DFF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67ED-24AF-463D-B387-0C4738A89779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3747-B782-4475-A6C2-EB83994162F4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9758-7EF0-42DE-A48C-53440EFCBD82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1091-F17B-4D72-81FD-0148BE2EF7CD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84FA-09FF-41A5-A83A-F6C500F7B38C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F047-576C-4D76-B2DB-B003B78C7906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DE6F-E794-4048-B7F0-71FD0BFE2F36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AD75-BB58-4B83-AC41-B6A68AE94959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2C3A-8413-427F-9C64-D3264832ABF3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BD79-D54A-47FF-A098-B3344462933E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21.png"/><Relationship Id="rId5" Type="http://schemas.openxmlformats.org/officeDocument/2006/relationships/image" Target="../media/image24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572314"/>
                </a:solidFill>
                <a:latin typeface="Gill Sans MT"/>
                <a:ea typeface="SimSun"/>
              </a:rPr>
              <a:t>汉语教学语法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7407360" cy="3048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20e04"/>
                </a:solidFill>
                <a:latin typeface="华文中宋"/>
                <a:ea typeface="SimSun"/>
              </a:rPr>
              <a:t>“</a:t>
            </a:r>
            <a:r>
              <a:rPr b="0" lang="zh-CN" sz="4000" spc="-1" strike="noStrike">
                <a:solidFill>
                  <a:srgbClr val="320e04"/>
                </a:solidFill>
                <a:latin typeface="华文中宋"/>
                <a:ea typeface="SimSun"/>
              </a:rPr>
              <a:t>了”教学演练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指导教授：卢福波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学生：张凯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2010</a:t>
            </a:r>
            <a:r>
              <a:rPr b="0" lang="zh-CN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7</a:t>
            </a:r>
            <a:r>
              <a:rPr b="0" lang="zh-CN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29</a:t>
            </a:r>
            <a:r>
              <a:rPr b="0" lang="zh-CN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1800360" cy="20574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3"/>
          <a:stretch/>
        </p:blipFill>
        <p:spPr>
          <a:xfrm>
            <a:off x="6629400" y="1905120"/>
            <a:ext cx="1881360" cy="3233520"/>
          </a:xfrm>
          <a:prstGeom prst="rect">
            <a:avLst/>
          </a:prstGeom>
          <a:ln w="0">
            <a:noFill/>
          </a:ln>
        </p:spPr>
      </p:pic>
      <p:grpSp>
        <p:nvGrpSpPr>
          <p:cNvPr id="392" name="Oval Callout 5"/>
          <p:cNvGrpSpPr/>
          <p:nvPr/>
        </p:nvGrpSpPr>
        <p:grpSpPr>
          <a:xfrm>
            <a:off x="1219320" y="554040"/>
            <a:ext cx="4419360" cy="2043000"/>
            <a:chOff x="1219320" y="554040"/>
            <a:chExt cx="4419360" cy="2043000"/>
          </a:xfrm>
        </p:grpSpPr>
        <p:pic>
          <p:nvPicPr>
            <p:cNvPr id="393" name="Oval Callout 5" descr=""/>
            <p:cNvPicPr/>
            <p:nvPr/>
          </p:nvPicPr>
          <p:blipFill>
            <a:blip r:embed="rId4"/>
            <a:stretch/>
          </p:blipFill>
          <p:spPr>
            <a:xfrm>
              <a:off x="1219320" y="554040"/>
              <a:ext cx="441936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1920960" y="855720"/>
              <a:ext cx="301608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Box 6"/>
          <p:cNvSpPr/>
          <p:nvPr/>
        </p:nvSpPr>
        <p:spPr>
          <a:xfrm>
            <a:off x="1981080" y="51055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王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7"/>
          <p:cNvSpPr/>
          <p:nvPr/>
        </p:nvSpPr>
        <p:spPr>
          <a:xfrm>
            <a:off x="7010280" y="5181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李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8"/>
          <p:cNvSpPr/>
          <p:nvPr/>
        </p:nvSpPr>
        <p:spPr>
          <a:xfrm>
            <a:off x="1600200" y="10666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你写了几份作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Oval Callout 9"/>
          <p:cNvGrpSpPr/>
          <p:nvPr/>
        </p:nvGrpSpPr>
        <p:grpSpPr>
          <a:xfrm>
            <a:off x="3352680" y="2840040"/>
            <a:ext cx="4419720" cy="1835280"/>
            <a:chOff x="3352680" y="2840040"/>
            <a:chExt cx="4419720" cy="1835280"/>
          </a:xfrm>
        </p:grpSpPr>
        <p:pic>
          <p:nvPicPr>
            <p:cNvPr id="399" name="Oval Callout 9" descr=""/>
            <p:cNvPicPr/>
            <p:nvPr/>
          </p:nvPicPr>
          <p:blipFill>
            <a:blip r:embed="rId5"/>
            <a:stretch/>
          </p:blipFill>
          <p:spPr>
            <a:xfrm>
              <a:off x="3352680" y="2840040"/>
              <a:ext cx="44197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4054320" y="3141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TextBox 10"/>
          <p:cNvSpPr/>
          <p:nvPr/>
        </p:nvSpPr>
        <p:spPr>
          <a:xfrm>
            <a:off x="3733920" y="3429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我写了三份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2514600" cy="1819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3"/>
          <a:stretch/>
        </p:blipFill>
        <p:spPr>
          <a:xfrm>
            <a:off x="6324480" y="3429000"/>
            <a:ext cx="1943280" cy="2352600"/>
          </a:xfrm>
          <a:prstGeom prst="rect">
            <a:avLst/>
          </a:prstGeom>
          <a:ln w="0">
            <a:noFill/>
          </a:ln>
        </p:spPr>
      </p:pic>
      <p:sp>
        <p:nvSpPr>
          <p:cNvPr id="405" name="TextBox 6"/>
          <p:cNvSpPr/>
          <p:nvPr/>
        </p:nvSpPr>
        <p:spPr>
          <a:xfrm>
            <a:off x="137160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7"/>
          <p:cNvSpPr/>
          <p:nvPr/>
        </p:nvSpPr>
        <p:spPr>
          <a:xfrm>
            <a:off x="7010280" y="5943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Oval Callout 8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408" name="Oval Callout 8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Box 9"/>
          <p:cNvSpPr/>
          <p:nvPr/>
        </p:nvSpPr>
        <p:spPr>
          <a:xfrm>
            <a:off x="4419720" y="1143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午你去哪儿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Oval Callout 10"/>
          <p:cNvGrpSpPr/>
          <p:nvPr/>
        </p:nvGrpSpPr>
        <p:grpSpPr>
          <a:xfrm>
            <a:off x="1901880" y="4138560"/>
            <a:ext cx="4707000" cy="1828800"/>
            <a:chOff x="1901880" y="4138560"/>
            <a:chExt cx="4707000" cy="1828800"/>
          </a:xfrm>
        </p:grpSpPr>
        <p:pic>
          <p:nvPicPr>
            <p:cNvPr id="412" name="Oval Callout 10" descr=""/>
            <p:cNvPicPr/>
            <p:nvPr/>
          </p:nvPicPr>
          <p:blipFill>
            <a:blip r:embed="rId5"/>
            <a:stretch/>
          </p:blipFill>
          <p:spPr>
            <a:xfrm>
              <a:off x="1901880" y="4138560"/>
              <a:ext cx="4707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2606760" y="4437000"/>
              <a:ext cx="301608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Box 11"/>
          <p:cNvSpPr/>
          <p:nvPr/>
        </p:nvSpPr>
        <p:spPr>
          <a:xfrm>
            <a:off x="2209680" y="47242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午我去图书馆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2514600" cy="18194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"/>
          <p:cNvPicPr/>
          <p:nvPr/>
        </p:nvPicPr>
        <p:blipFill>
          <a:blip r:embed="rId3"/>
          <a:stretch/>
        </p:blipFill>
        <p:spPr>
          <a:xfrm>
            <a:off x="6324480" y="3429000"/>
            <a:ext cx="1943280" cy="2352600"/>
          </a:xfrm>
          <a:prstGeom prst="rect">
            <a:avLst/>
          </a:prstGeom>
          <a:ln w="0">
            <a:noFill/>
          </a:ln>
        </p:spPr>
      </p:pic>
      <p:sp>
        <p:nvSpPr>
          <p:cNvPr id="418" name="TextBox 6"/>
          <p:cNvSpPr/>
          <p:nvPr/>
        </p:nvSpPr>
        <p:spPr>
          <a:xfrm>
            <a:off x="137160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7"/>
          <p:cNvSpPr/>
          <p:nvPr/>
        </p:nvSpPr>
        <p:spPr>
          <a:xfrm>
            <a:off x="7010280" y="5943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Oval Callout 8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421" name="Oval Callout 8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Box 9"/>
          <p:cNvSpPr/>
          <p:nvPr/>
        </p:nvSpPr>
        <p:spPr>
          <a:xfrm>
            <a:off x="4648320" y="8380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你在图书馆待了几个小时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Oval Callout 10"/>
          <p:cNvGrpSpPr/>
          <p:nvPr/>
        </p:nvGrpSpPr>
        <p:grpSpPr>
          <a:xfrm>
            <a:off x="1901880" y="4138560"/>
            <a:ext cx="4707000" cy="1828800"/>
            <a:chOff x="1901880" y="4138560"/>
            <a:chExt cx="4707000" cy="1828800"/>
          </a:xfrm>
        </p:grpSpPr>
        <p:pic>
          <p:nvPicPr>
            <p:cNvPr id="425" name="Oval Callout 10" descr=""/>
            <p:cNvPicPr/>
            <p:nvPr/>
          </p:nvPicPr>
          <p:blipFill>
            <a:blip r:embed="rId5"/>
            <a:stretch/>
          </p:blipFill>
          <p:spPr>
            <a:xfrm>
              <a:off x="1901880" y="4138560"/>
              <a:ext cx="4707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2606760" y="4437000"/>
              <a:ext cx="301608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TextBox 11"/>
          <p:cNvSpPr/>
          <p:nvPr/>
        </p:nvSpPr>
        <p:spPr>
          <a:xfrm>
            <a:off x="2209680" y="44956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我在图书馆待了五个小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2517480" cy="33526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3"/>
          <a:stretch/>
        </p:blipFill>
        <p:spPr>
          <a:xfrm>
            <a:off x="5791320" y="3200400"/>
            <a:ext cx="2700360" cy="3333600"/>
          </a:xfrm>
          <a:prstGeom prst="rect">
            <a:avLst/>
          </a:prstGeom>
          <a:ln w="0">
            <a:noFill/>
          </a:ln>
        </p:spPr>
      </p:pic>
      <p:grpSp>
        <p:nvGrpSpPr>
          <p:cNvPr id="430" name="Oval Callout 5"/>
          <p:cNvGrpSpPr/>
          <p:nvPr/>
        </p:nvGrpSpPr>
        <p:grpSpPr>
          <a:xfrm>
            <a:off x="-79200" y="96840"/>
            <a:ext cx="4194000" cy="2732040"/>
            <a:chOff x="-79200" y="96840"/>
            <a:chExt cx="4194000" cy="2732040"/>
          </a:xfrm>
        </p:grpSpPr>
        <p:pic>
          <p:nvPicPr>
            <p:cNvPr id="431" name="Oval Callout 5" descr=""/>
            <p:cNvPicPr/>
            <p:nvPr/>
          </p:nvPicPr>
          <p:blipFill>
            <a:blip r:embed="rId4"/>
            <a:stretch/>
          </p:blipFill>
          <p:spPr>
            <a:xfrm>
              <a:off x="-79200" y="96840"/>
              <a:ext cx="4194000" cy="27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92200" y="487440"/>
              <a:ext cx="285444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Box 6"/>
          <p:cNvSpPr/>
          <p:nvPr/>
        </p:nvSpPr>
        <p:spPr>
          <a:xfrm>
            <a:off x="457200" y="762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晚上你做什么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Oval Callout 9"/>
          <p:cNvGrpSpPr/>
          <p:nvPr/>
        </p:nvGrpSpPr>
        <p:grpSpPr>
          <a:xfrm>
            <a:off x="4572000" y="249120"/>
            <a:ext cx="4194000" cy="2670120"/>
            <a:chOff x="4572000" y="249120"/>
            <a:chExt cx="4194000" cy="2670120"/>
          </a:xfrm>
        </p:grpSpPr>
        <p:pic>
          <p:nvPicPr>
            <p:cNvPr id="435" name="Oval Callout 9" descr=""/>
            <p:cNvPicPr/>
            <p:nvPr/>
          </p:nvPicPr>
          <p:blipFill>
            <a:blip r:embed="rId5"/>
            <a:stretch/>
          </p:blipFill>
          <p:spPr>
            <a:xfrm>
              <a:off x="4572000" y="249120"/>
              <a:ext cx="419400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5240160" y="639720"/>
              <a:ext cx="285444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TextBox 11"/>
          <p:cNvSpPr/>
          <p:nvPr/>
        </p:nvSpPr>
        <p:spPr>
          <a:xfrm>
            <a:off x="4876920" y="914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晚上我喝啤酒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6"/>
          <a:stretch/>
        </p:blipFill>
        <p:spPr>
          <a:xfrm>
            <a:off x="8485200" y="4648320"/>
            <a:ext cx="65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609480" y="2971800"/>
            <a:ext cx="2517840" cy="33526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"/>
          <p:cNvPicPr/>
          <p:nvPr/>
        </p:nvPicPr>
        <p:blipFill>
          <a:blip r:embed="rId3"/>
          <a:stretch/>
        </p:blipFill>
        <p:spPr>
          <a:xfrm>
            <a:off x="5791320" y="3124080"/>
            <a:ext cx="2700360" cy="3333960"/>
          </a:xfrm>
          <a:prstGeom prst="rect">
            <a:avLst/>
          </a:prstGeom>
          <a:ln w="0">
            <a:noFill/>
          </a:ln>
        </p:spPr>
      </p:pic>
      <p:grpSp>
        <p:nvGrpSpPr>
          <p:cNvPr id="441" name="Oval Callout 5"/>
          <p:cNvGrpSpPr/>
          <p:nvPr/>
        </p:nvGrpSpPr>
        <p:grpSpPr>
          <a:xfrm>
            <a:off x="-79200" y="96840"/>
            <a:ext cx="4194000" cy="2732040"/>
            <a:chOff x="-79200" y="96840"/>
            <a:chExt cx="4194000" cy="2732040"/>
          </a:xfrm>
        </p:grpSpPr>
        <p:pic>
          <p:nvPicPr>
            <p:cNvPr id="442" name="Oval Callout 5" descr=""/>
            <p:cNvPicPr/>
            <p:nvPr/>
          </p:nvPicPr>
          <p:blipFill>
            <a:blip r:embed="rId4"/>
            <a:stretch/>
          </p:blipFill>
          <p:spPr>
            <a:xfrm>
              <a:off x="-79200" y="96840"/>
              <a:ext cx="4194000" cy="27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592200" y="487440"/>
              <a:ext cx="285444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Box 6"/>
          <p:cNvSpPr/>
          <p:nvPr/>
        </p:nvSpPr>
        <p:spPr>
          <a:xfrm>
            <a:off x="304920" y="914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你喝了几瓶啤酒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Oval Callout 9"/>
          <p:cNvGrpSpPr/>
          <p:nvPr/>
        </p:nvGrpSpPr>
        <p:grpSpPr>
          <a:xfrm>
            <a:off x="4645080" y="176040"/>
            <a:ext cx="4194000" cy="2799000"/>
            <a:chOff x="4645080" y="176040"/>
            <a:chExt cx="4194000" cy="2799000"/>
          </a:xfrm>
        </p:grpSpPr>
        <p:pic>
          <p:nvPicPr>
            <p:cNvPr id="446" name="Oval Callout 9" descr=""/>
            <p:cNvPicPr/>
            <p:nvPr/>
          </p:nvPicPr>
          <p:blipFill>
            <a:blip r:embed="rId5"/>
            <a:stretch/>
          </p:blipFill>
          <p:spPr>
            <a:xfrm>
              <a:off x="4645080" y="176040"/>
              <a:ext cx="4194000" cy="279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5316480" y="563400"/>
              <a:ext cx="285444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Box 11"/>
          <p:cNvSpPr/>
          <p:nvPr/>
        </p:nvSpPr>
        <p:spPr>
          <a:xfrm>
            <a:off x="4952880" y="9907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我喝了十瓶啤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4" descr=""/>
          <p:cNvPicPr/>
          <p:nvPr/>
        </p:nvPicPr>
        <p:blipFill>
          <a:blip r:embed="rId6"/>
          <a:stretch/>
        </p:blipFill>
        <p:spPr>
          <a:xfrm>
            <a:off x="8485200" y="4648320"/>
            <a:ext cx="65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6781680" y="3505320"/>
            <a:ext cx="1930680" cy="2895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"/>
          <p:cNvPicPr/>
          <p:nvPr/>
        </p:nvPicPr>
        <p:blipFill>
          <a:blip r:embed="rId3"/>
          <a:stretch/>
        </p:blipFill>
        <p:spPr>
          <a:xfrm>
            <a:off x="457200" y="762120"/>
            <a:ext cx="2252520" cy="3284280"/>
          </a:xfrm>
          <a:prstGeom prst="rect">
            <a:avLst/>
          </a:prstGeom>
          <a:ln w="0">
            <a:noFill/>
          </a:ln>
        </p:spPr>
      </p:pic>
      <p:grpSp>
        <p:nvGrpSpPr>
          <p:cNvPr id="452" name="Oval Callout 5"/>
          <p:cNvGrpSpPr/>
          <p:nvPr/>
        </p:nvGrpSpPr>
        <p:grpSpPr>
          <a:xfrm>
            <a:off x="2962440" y="480960"/>
            <a:ext cx="5724360" cy="2335320"/>
            <a:chOff x="2962440" y="480960"/>
            <a:chExt cx="5724360" cy="2335320"/>
          </a:xfrm>
        </p:grpSpPr>
        <p:pic>
          <p:nvPicPr>
            <p:cNvPr id="453" name="Oval Callout 5" descr=""/>
            <p:cNvPicPr/>
            <p:nvPr/>
          </p:nvPicPr>
          <p:blipFill>
            <a:blip r:embed="rId4"/>
            <a:stretch/>
          </p:blipFill>
          <p:spPr>
            <a:xfrm>
              <a:off x="2962440" y="480960"/>
              <a:ext cx="5724360" cy="23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3927600" y="779400"/>
              <a:ext cx="387972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Box 6"/>
          <p:cNvSpPr/>
          <p:nvPr/>
        </p:nvSpPr>
        <p:spPr>
          <a:xfrm>
            <a:off x="3429000" y="10666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今天上午你做什么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Oval Callout 7"/>
          <p:cNvGrpSpPr/>
          <p:nvPr/>
        </p:nvGrpSpPr>
        <p:grpSpPr>
          <a:xfrm>
            <a:off x="682560" y="4059360"/>
            <a:ext cx="6096240" cy="2219040"/>
            <a:chOff x="682560" y="4059360"/>
            <a:chExt cx="6096240" cy="2219040"/>
          </a:xfrm>
        </p:grpSpPr>
        <p:pic>
          <p:nvPicPr>
            <p:cNvPr id="457" name="Oval Callout 7" descr=""/>
            <p:cNvPicPr/>
            <p:nvPr/>
          </p:nvPicPr>
          <p:blipFill>
            <a:blip r:embed="rId5"/>
            <a:stretch/>
          </p:blipFill>
          <p:spPr>
            <a:xfrm>
              <a:off x="682560" y="4059360"/>
              <a:ext cx="6096240" cy="22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1565280" y="4361040"/>
              <a:ext cx="387972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TextBox 8"/>
          <p:cNvSpPr/>
          <p:nvPr/>
        </p:nvSpPr>
        <p:spPr>
          <a:xfrm>
            <a:off x="1371600" y="4572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今天上午我打篮球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"/>
          <p:cNvPicPr/>
          <p:nvPr/>
        </p:nvPicPr>
        <p:blipFill>
          <a:blip r:embed="rId2"/>
          <a:stretch/>
        </p:blipFill>
        <p:spPr>
          <a:xfrm>
            <a:off x="6781680" y="3505320"/>
            <a:ext cx="1930680" cy="28954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"/>
          <p:cNvPicPr/>
          <p:nvPr/>
        </p:nvPicPr>
        <p:blipFill>
          <a:blip r:embed="rId3"/>
          <a:stretch/>
        </p:blipFill>
        <p:spPr>
          <a:xfrm>
            <a:off x="457200" y="762120"/>
            <a:ext cx="2252520" cy="3284280"/>
          </a:xfrm>
          <a:prstGeom prst="rect">
            <a:avLst/>
          </a:prstGeom>
          <a:ln w="0">
            <a:noFill/>
          </a:ln>
        </p:spPr>
      </p:pic>
      <p:grpSp>
        <p:nvGrpSpPr>
          <p:cNvPr id="462" name="Oval Callout 5"/>
          <p:cNvGrpSpPr/>
          <p:nvPr/>
        </p:nvGrpSpPr>
        <p:grpSpPr>
          <a:xfrm>
            <a:off x="2962440" y="480960"/>
            <a:ext cx="5724360" cy="2335320"/>
            <a:chOff x="2962440" y="480960"/>
            <a:chExt cx="5724360" cy="2335320"/>
          </a:xfrm>
        </p:grpSpPr>
        <p:pic>
          <p:nvPicPr>
            <p:cNvPr id="463" name="Oval Callout 5" descr=""/>
            <p:cNvPicPr/>
            <p:nvPr/>
          </p:nvPicPr>
          <p:blipFill>
            <a:blip r:embed="rId4"/>
            <a:stretch/>
          </p:blipFill>
          <p:spPr>
            <a:xfrm>
              <a:off x="2962440" y="480960"/>
              <a:ext cx="5724360" cy="23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3927600" y="779400"/>
              <a:ext cx="387972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Box 6"/>
          <p:cNvSpPr/>
          <p:nvPr/>
        </p:nvSpPr>
        <p:spPr>
          <a:xfrm>
            <a:off x="3429000" y="10666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你打了几个小时篮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Oval Callout 7"/>
          <p:cNvGrpSpPr/>
          <p:nvPr/>
        </p:nvGrpSpPr>
        <p:grpSpPr>
          <a:xfrm>
            <a:off x="682560" y="4059360"/>
            <a:ext cx="6096240" cy="2219040"/>
            <a:chOff x="682560" y="4059360"/>
            <a:chExt cx="6096240" cy="2219040"/>
          </a:xfrm>
        </p:grpSpPr>
        <p:pic>
          <p:nvPicPr>
            <p:cNvPr id="467" name="Oval Callout 7" descr=""/>
            <p:cNvPicPr/>
            <p:nvPr/>
          </p:nvPicPr>
          <p:blipFill>
            <a:blip r:embed="rId5"/>
            <a:stretch/>
          </p:blipFill>
          <p:spPr>
            <a:xfrm>
              <a:off x="682560" y="4059360"/>
              <a:ext cx="6096240" cy="22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1565280" y="4361040"/>
              <a:ext cx="387972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TextBox 8"/>
          <p:cNvSpPr/>
          <p:nvPr/>
        </p:nvSpPr>
        <p:spPr>
          <a:xfrm>
            <a:off x="1371600" y="4572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我打了两个小时篮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2705400" cy="27054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3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427120" cy="3047760"/>
          </a:xfrm>
          <a:prstGeom prst="rect">
            <a:avLst/>
          </a:prstGeom>
          <a:ln w="0">
            <a:noFill/>
          </a:ln>
        </p:spPr>
      </p:pic>
      <p:grpSp>
        <p:nvGrpSpPr>
          <p:cNvPr id="472" name="Oval Callout 7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473" name="Oval Callout 7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TextBox 8"/>
          <p:cNvSpPr/>
          <p:nvPr/>
        </p:nvSpPr>
        <p:spPr>
          <a:xfrm>
            <a:off x="4419720" y="914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周末你去哪儿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Oval Callout 9"/>
          <p:cNvGrpSpPr/>
          <p:nvPr/>
        </p:nvGrpSpPr>
        <p:grpSpPr>
          <a:xfrm>
            <a:off x="1596960" y="3986280"/>
            <a:ext cx="5121360" cy="1828800"/>
            <a:chOff x="1596960" y="3986280"/>
            <a:chExt cx="5121360" cy="1828800"/>
          </a:xfrm>
        </p:grpSpPr>
        <p:pic>
          <p:nvPicPr>
            <p:cNvPr id="477" name="Oval Callout 9" descr=""/>
            <p:cNvPicPr/>
            <p:nvPr/>
          </p:nvPicPr>
          <p:blipFill>
            <a:blip r:embed="rId5"/>
            <a:stretch/>
          </p:blipFill>
          <p:spPr>
            <a:xfrm>
              <a:off x="1596960" y="3986280"/>
              <a:ext cx="51213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2301840" y="4284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TextBox 10"/>
          <p:cNvSpPr/>
          <p:nvPr/>
        </p:nvSpPr>
        <p:spPr>
          <a:xfrm>
            <a:off x="1981080" y="4572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周末我回家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2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2705400" cy="27054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3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427120" cy="3047760"/>
          </a:xfrm>
          <a:prstGeom prst="rect">
            <a:avLst/>
          </a:prstGeom>
          <a:ln w="0">
            <a:noFill/>
          </a:ln>
        </p:spPr>
      </p:pic>
      <p:grpSp>
        <p:nvGrpSpPr>
          <p:cNvPr id="482" name="Oval Callout 7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483" name="Oval Callout 7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Box 8"/>
          <p:cNvSpPr/>
          <p:nvPr/>
        </p:nvSpPr>
        <p:spPr>
          <a:xfrm>
            <a:off x="426708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你在家里住了几天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Oval Callout 9"/>
          <p:cNvGrpSpPr/>
          <p:nvPr/>
        </p:nvGrpSpPr>
        <p:grpSpPr>
          <a:xfrm>
            <a:off x="1596960" y="3986280"/>
            <a:ext cx="5121360" cy="1828800"/>
            <a:chOff x="1596960" y="3986280"/>
            <a:chExt cx="5121360" cy="1828800"/>
          </a:xfrm>
        </p:grpSpPr>
        <p:pic>
          <p:nvPicPr>
            <p:cNvPr id="487" name="Oval Callout 9" descr=""/>
            <p:cNvPicPr/>
            <p:nvPr/>
          </p:nvPicPr>
          <p:blipFill>
            <a:blip r:embed="rId5"/>
            <a:stretch/>
          </p:blipFill>
          <p:spPr>
            <a:xfrm>
              <a:off x="1596960" y="3986280"/>
              <a:ext cx="51213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2301840" y="4284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Box 10"/>
          <p:cNvSpPr/>
          <p:nvPr/>
        </p:nvSpPr>
        <p:spPr>
          <a:xfrm>
            <a:off x="1981080" y="4572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我在家里住了一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1447920" y="533520"/>
            <a:ext cx="6858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你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写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几份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作业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写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三份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作业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你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喝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几瓶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啤酒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喝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十瓶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啤酒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你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打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几个小时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篮球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打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两个小时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篮球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你在图书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待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几个小时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在图书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待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五个小时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你在家里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住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几天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在家里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住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一天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  <a:ea typeface="SimSun"/>
              </a:rPr>
              <a:t>教学对象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明德大学本科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英文母语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中文初级，仅学习了两三个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1800360" cy="2057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3"/>
          <a:stretch/>
        </p:blipFill>
        <p:spPr>
          <a:xfrm>
            <a:off x="6629400" y="1905120"/>
            <a:ext cx="1881360" cy="3233520"/>
          </a:xfrm>
          <a:prstGeom prst="rect">
            <a:avLst/>
          </a:prstGeom>
          <a:ln w="0">
            <a:noFill/>
          </a:ln>
        </p:spPr>
      </p:pic>
      <p:grpSp>
        <p:nvGrpSpPr>
          <p:cNvPr id="325" name="Oval Callout 5"/>
          <p:cNvGrpSpPr/>
          <p:nvPr/>
        </p:nvGrpSpPr>
        <p:grpSpPr>
          <a:xfrm>
            <a:off x="1219320" y="554040"/>
            <a:ext cx="4419360" cy="2043000"/>
            <a:chOff x="1219320" y="554040"/>
            <a:chExt cx="4419360" cy="2043000"/>
          </a:xfrm>
        </p:grpSpPr>
        <p:pic>
          <p:nvPicPr>
            <p:cNvPr id="326" name="Oval Callout 5" descr=""/>
            <p:cNvPicPr/>
            <p:nvPr/>
          </p:nvPicPr>
          <p:blipFill>
            <a:blip r:embed="rId4"/>
            <a:stretch/>
          </p:blipFill>
          <p:spPr>
            <a:xfrm>
              <a:off x="1219320" y="554040"/>
              <a:ext cx="441936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920960" y="855720"/>
              <a:ext cx="301608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Box 6"/>
          <p:cNvSpPr/>
          <p:nvPr/>
        </p:nvSpPr>
        <p:spPr>
          <a:xfrm>
            <a:off x="1981080" y="51055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王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7"/>
          <p:cNvSpPr/>
          <p:nvPr/>
        </p:nvSpPr>
        <p:spPr>
          <a:xfrm>
            <a:off x="7010280" y="5181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李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8"/>
          <p:cNvSpPr/>
          <p:nvPr/>
        </p:nvSpPr>
        <p:spPr>
          <a:xfrm>
            <a:off x="1600200" y="10666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你做什么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Oval Callout 9"/>
          <p:cNvGrpSpPr/>
          <p:nvPr/>
        </p:nvGrpSpPr>
        <p:grpSpPr>
          <a:xfrm>
            <a:off x="3352680" y="2840040"/>
            <a:ext cx="4419720" cy="1835280"/>
            <a:chOff x="3352680" y="2840040"/>
            <a:chExt cx="4419720" cy="1835280"/>
          </a:xfrm>
        </p:grpSpPr>
        <p:pic>
          <p:nvPicPr>
            <p:cNvPr id="332" name="Oval Callout 9" descr=""/>
            <p:cNvPicPr/>
            <p:nvPr/>
          </p:nvPicPr>
          <p:blipFill>
            <a:blip r:embed="rId5"/>
            <a:stretch/>
          </p:blipFill>
          <p:spPr>
            <a:xfrm>
              <a:off x="3352680" y="2840040"/>
              <a:ext cx="44197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4054320" y="3141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Box 10"/>
          <p:cNvSpPr/>
          <p:nvPr/>
        </p:nvSpPr>
        <p:spPr>
          <a:xfrm>
            <a:off x="3733920" y="3429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我写作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2514600" cy="18194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"/>
          <p:cNvPicPr/>
          <p:nvPr/>
        </p:nvPicPr>
        <p:blipFill>
          <a:blip r:embed="rId3"/>
          <a:stretch/>
        </p:blipFill>
        <p:spPr>
          <a:xfrm>
            <a:off x="6324480" y="3429000"/>
            <a:ext cx="1943280" cy="2352600"/>
          </a:xfrm>
          <a:prstGeom prst="rect">
            <a:avLst/>
          </a:prstGeom>
          <a:ln w="0">
            <a:noFill/>
          </a:ln>
        </p:spPr>
      </p:pic>
      <p:sp>
        <p:nvSpPr>
          <p:cNvPr id="338" name="TextBox 6"/>
          <p:cNvSpPr/>
          <p:nvPr/>
        </p:nvSpPr>
        <p:spPr>
          <a:xfrm>
            <a:off x="137160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7"/>
          <p:cNvSpPr/>
          <p:nvPr/>
        </p:nvSpPr>
        <p:spPr>
          <a:xfrm>
            <a:off x="7010280" y="5943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Oval Callout 8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341" name="Oval Callout 8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Box 9"/>
          <p:cNvSpPr/>
          <p:nvPr/>
        </p:nvSpPr>
        <p:spPr>
          <a:xfrm>
            <a:off x="4419720" y="1143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午你去哪儿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Oval Callout 10"/>
          <p:cNvGrpSpPr/>
          <p:nvPr/>
        </p:nvGrpSpPr>
        <p:grpSpPr>
          <a:xfrm>
            <a:off x="1901880" y="4138560"/>
            <a:ext cx="4707000" cy="1828800"/>
            <a:chOff x="1901880" y="4138560"/>
            <a:chExt cx="4707000" cy="1828800"/>
          </a:xfrm>
        </p:grpSpPr>
        <p:pic>
          <p:nvPicPr>
            <p:cNvPr id="345" name="Oval Callout 10" descr=""/>
            <p:cNvPicPr/>
            <p:nvPr/>
          </p:nvPicPr>
          <p:blipFill>
            <a:blip r:embed="rId5"/>
            <a:stretch/>
          </p:blipFill>
          <p:spPr>
            <a:xfrm>
              <a:off x="1901880" y="4138560"/>
              <a:ext cx="4707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2606760" y="4437000"/>
              <a:ext cx="301608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Box 11"/>
          <p:cNvSpPr/>
          <p:nvPr/>
        </p:nvSpPr>
        <p:spPr>
          <a:xfrm>
            <a:off x="2209680" y="47242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午我去图书馆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2705400" cy="27054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427120" cy="3047760"/>
          </a:xfrm>
          <a:prstGeom prst="rect">
            <a:avLst/>
          </a:prstGeom>
          <a:ln w="0">
            <a:noFill/>
          </a:ln>
        </p:spPr>
      </p:pic>
      <p:grpSp>
        <p:nvGrpSpPr>
          <p:cNvPr id="351" name="Oval Callout 7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352" name="Oval Callout 7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Box 8"/>
          <p:cNvSpPr/>
          <p:nvPr/>
        </p:nvSpPr>
        <p:spPr>
          <a:xfrm>
            <a:off x="4419720" y="914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个周末你做什么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Oval Callout 9"/>
          <p:cNvGrpSpPr/>
          <p:nvPr/>
        </p:nvGrpSpPr>
        <p:grpSpPr>
          <a:xfrm>
            <a:off x="1596960" y="3986280"/>
            <a:ext cx="5121360" cy="1828800"/>
            <a:chOff x="1596960" y="3986280"/>
            <a:chExt cx="5121360" cy="1828800"/>
          </a:xfrm>
        </p:grpSpPr>
        <p:pic>
          <p:nvPicPr>
            <p:cNvPr id="356" name="Oval Callout 9" descr=""/>
            <p:cNvPicPr/>
            <p:nvPr/>
          </p:nvPicPr>
          <p:blipFill>
            <a:blip r:embed="rId5"/>
            <a:stretch/>
          </p:blipFill>
          <p:spPr>
            <a:xfrm>
              <a:off x="1596960" y="3986280"/>
              <a:ext cx="51213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2301840" y="4284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Box 10"/>
          <p:cNvSpPr/>
          <p:nvPr/>
        </p:nvSpPr>
        <p:spPr>
          <a:xfrm>
            <a:off x="1828800" y="4343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个周末我踢足球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6019920" y="2209680"/>
            <a:ext cx="2517480" cy="3353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"/>
          <p:cNvPicPr/>
          <p:nvPr/>
        </p:nvPicPr>
        <p:blipFill>
          <a:blip r:embed="rId3"/>
          <a:stretch/>
        </p:blipFill>
        <p:spPr>
          <a:xfrm>
            <a:off x="838080" y="2209680"/>
            <a:ext cx="2700360" cy="3333960"/>
          </a:xfrm>
          <a:prstGeom prst="rect">
            <a:avLst/>
          </a:prstGeom>
          <a:ln w="0">
            <a:noFill/>
          </a:ln>
        </p:spPr>
      </p:pic>
      <p:grpSp>
        <p:nvGrpSpPr>
          <p:cNvPr id="362" name="Oval Callout 5"/>
          <p:cNvGrpSpPr/>
          <p:nvPr/>
        </p:nvGrpSpPr>
        <p:grpSpPr>
          <a:xfrm>
            <a:off x="-79200" y="96840"/>
            <a:ext cx="4194000" cy="1787400"/>
            <a:chOff x="-79200" y="96840"/>
            <a:chExt cx="4194000" cy="1787400"/>
          </a:xfrm>
        </p:grpSpPr>
        <p:pic>
          <p:nvPicPr>
            <p:cNvPr id="363" name="Oval Callout 5" descr=""/>
            <p:cNvPicPr/>
            <p:nvPr/>
          </p:nvPicPr>
          <p:blipFill>
            <a:blip r:embed="rId4"/>
            <a:stretch/>
          </p:blipFill>
          <p:spPr>
            <a:xfrm>
              <a:off x="-79200" y="96840"/>
              <a:ext cx="4194000" cy="17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592200" y="365040"/>
              <a:ext cx="285444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TextBox 6"/>
          <p:cNvSpPr/>
          <p:nvPr/>
        </p:nvSpPr>
        <p:spPr>
          <a:xfrm>
            <a:off x="228600" y="6094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前天你去哪儿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Oval Callout 7"/>
          <p:cNvGrpSpPr/>
          <p:nvPr/>
        </p:nvGrpSpPr>
        <p:grpSpPr>
          <a:xfrm>
            <a:off x="4724280" y="249120"/>
            <a:ext cx="4194360" cy="1920960"/>
            <a:chOff x="4724280" y="249120"/>
            <a:chExt cx="4194360" cy="1920960"/>
          </a:xfrm>
        </p:grpSpPr>
        <p:pic>
          <p:nvPicPr>
            <p:cNvPr id="367" name="Oval Callout 7" descr=""/>
            <p:cNvPicPr/>
            <p:nvPr/>
          </p:nvPicPr>
          <p:blipFill>
            <a:blip r:embed="rId5"/>
            <a:stretch/>
          </p:blipFill>
          <p:spPr>
            <a:xfrm>
              <a:off x="4724280" y="249120"/>
              <a:ext cx="4194360" cy="19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5392800" y="517680"/>
              <a:ext cx="2854440" cy="10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Box 8"/>
          <p:cNvSpPr/>
          <p:nvPr/>
        </p:nvSpPr>
        <p:spPr>
          <a:xfrm>
            <a:off x="5029200" y="685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前天我去商店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447920" y="533520"/>
            <a:ext cx="5486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问题：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昨天你做什么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上个周末你做什么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前天你去哪儿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上午你去哪儿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Content Placeholder 2"/>
          <p:cNvSpPr/>
          <p:nvPr/>
        </p:nvSpPr>
        <p:spPr>
          <a:xfrm>
            <a:off x="5257800" y="1447920"/>
            <a:ext cx="3441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Content Placeholder 2"/>
          <p:cNvSpPr/>
          <p:nvPr/>
        </p:nvSpPr>
        <p:spPr>
          <a:xfrm>
            <a:off x="1523880" y="3352680"/>
            <a:ext cx="525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回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昨天我写作业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上个周末我踢足球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前天我去商店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上午我去图书馆</a:t>
            </a:r>
            <a:r>
              <a:rPr b="0" lang="zh-CN" sz="28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447920" y="533520"/>
            <a:ext cx="5486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问题：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昨天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你做什么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上个周末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你做什么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前天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你去哪儿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上午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你去哪儿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Content Placeholder 2"/>
          <p:cNvSpPr/>
          <p:nvPr/>
        </p:nvSpPr>
        <p:spPr>
          <a:xfrm>
            <a:off x="5257800" y="1447920"/>
            <a:ext cx="3441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Content Placeholder 2"/>
          <p:cNvSpPr/>
          <p:nvPr/>
        </p:nvSpPr>
        <p:spPr>
          <a:xfrm>
            <a:off x="1523880" y="3352680"/>
            <a:ext cx="525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回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昨天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写作业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上个周末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踢足球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前天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我去商店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上午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我去图书馆</a:t>
            </a:r>
            <a:r>
              <a:rPr b="0" lang="zh-CN" sz="28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1800360" cy="20574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3"/>
          <a:stretch/>
        </p:blipFill>
        <p:spPr>
          <a:xfrm>
            <a:off x="6629400" y="1905120"/>
            <a:ext cx="1881360" cy="3233520"/>
          </a:xfrm>
          <a:prstGeom prst="rect">
            <a:avLst/>
          </a:prstGeom>
          <a:ln w="0">
            <a:noFill/>
          </a:ln>
        </p:spPr>
      </p:pic>
      <p:grpSp>
        <p:nvGrpSpPr>
          <p:cNvPr id="379" name="Oval Callout 5"/>
          <p:cNvGrpSpPr/>
          <p:nvPr/>
        </p:nvGrpSpPr>
        <p:grpSpPr>
          <a:xfrm>
            <a:off x="1219320" y="554040"/>
            <a:ext cx="4419360" cy="2043000"/>
            <a:chOff x="1219320" y="554040"/>
            <a:chExt cx="4419360" cy="2043000"/>
          </a:xfrm>
        </p:grpSpPr>
        <p:pic>
          <p:nvPicPr>
            <p:cNvPr id="380" name="Oval Callout 5" descr=""/>
            <p:cNvPicPr/>
            <p:nvPr/>
          </p:nvPicPr>
          <p:blipFill>
            <a:blip r:embed="rId4"/>
            <a:stretch/>
          </p:blipFill>
          <p:spPr>
            <a:xfrm>
              <a:off x="1219320" y="554040"/>
              <a:ext cx="441936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1920960" y="855720"/>
              <a:ext cx="301608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6"/>
          <p:cNvSpPr/>
          <p:nvPr/>
        </p:nvSpPr>
        <p:spPr>
          <a:xfrm>
            <a:off x="1981080" y="51055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王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7"/>
          <p:cNvSpPr/>
          <p:nvPr/>
        </p:nvSpPr>
        <p:spPr>
          <a:xfrm>
            <a:off x="7010280" y="5181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李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8"/>
          <p:cNvSpPr/>
          <p:nvPr/>
        </p:nvSpPr>
        <p:spPr>
          <a:xfrm>
            <a:off x="1600200" y="10666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你做什么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Oval Callout 9"/>
          <p:cNvGrpSpPr/>
          <p:nvPr/>
        </p:nvGrpSpPr>
        <p:grpSpPr>
          <a:xfrm>
            <a:off x="3352680" y="2840040"/>
            <a:ext cx="4419720" cy="1835280"/>
            <a:chOff x="3352680" y="2840040"/>
            <a:chExt cx="4419720" cy="1835280"/>
          </a:xfrm>
        </p:grpSpPr>
        <p:pic>
          <p:nvPicPr>
            <p:cNvPr id="386" name="Oval Callout 9" descr=""/>
            <p:cNvPicPr/>
            <p:nvPr/>
          </p:nvPicPr>
          <p:blipFill>
            <a:blip r:embed="rId5"/>
            <a:stretch/>
          </p:blipFill>
          <p:spPr>
            <a:xfrm>
              <a:off x="3352680" y="2840040"/>
              <a:ext cx="44197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4054320" y="3141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TextBox 10"/>
          <p:cNvSpPr/>
          <p:nvPr/>
        </p:nvSpPr>
        <p:spPr>
          <a:xfrm>
            <a:off x="3733920" y="3429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我写作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03:41:56Z</dcterms:created>
  <dc:creator>y</dc:creator>
  <dc:description/>
  <dc:language>en-US</dc:language>
  <cp:lastModifiedBy>lcheng</cp:lastModifiedBy>
  <dcterms:modified xsi:type="dcterms:W3CDTF">2010-09-16T12:53:02Z</dcterms:modified>
  <cp:revision>23</cp:revision>
  <dc:subject/>
  <dc:title>汉语教学语法</dc:title>
</cp:coreProperties>
</file>