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788-BB04-4ABD-BDBF-6BAD4E2E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62C-A56D-4664-A5B3-B8B6D6D8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F4E-D769-4743-9E06-2E76B4B5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B67-DC78-451B-8D74-A046A181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6763-DC2C-468C-B2F2-FDA2F46F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2545-F677-4161-B59A-636E233C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6A46-589C-451A-A503-7696DB3A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A712-D64B-4D88-A299-52E438A1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EA1-F89C-4010-A041-EFF261C5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343B-CD82-47DB-9CE0-8EC80A68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E935-970F-440A-9446-60C7FE91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2C9-2395-4EC0-9178-BF062159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8C7-327F-49EE-8C2F-C8A605C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D8ED-0250-4A26-A849-E3C44828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5C0B-17B7-46AA-9F4A-0AA7F524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B86B-E9E9-4FBA-B228-970C07D5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A03D-8249-4794-8ACF-097A2680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D4AD-FB34-48DB-A6A1-710E2026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852D-A87A-471E-957D-81A6A283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9667-3447-455D-8089-89E4F954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621F-EFFE-4B1A-A8D0-3BEEC71A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86F5-2584-49A8-841B-DD48A09F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9F6-DE00-46CE-90AA-6898D5B7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21D4-3D96-4D4A-850F-72810CE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2AD3-B7FE-4FF3-A11E-6572E71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72E8-06FA-4052-9A36-343F006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9B64-9AD8-4583-96BE-6C8F5E8A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FCCB-044B-4F78-9DAE-AF8716D1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AA5CD-258C-46C2-98D5-79B2E452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819D-BF0F-4ACF-81D1-254EEB8B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129A-EC91-4072-9E9E-D73B24DD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52956-B57E-4E10-8F0B-6384807C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C999-C3A1-431E-9D49-B8C195DE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F84-F5FA-4783-AEED-9EA273DD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5115-F223-4393-A29D-7592F1ED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73D98-EC1B-4AF5-BF00-E14A0B1F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ACFE-A83B-44A3-9815-10A7704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A155-8313-48BE-B865-1B8DAA7A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79FE-E4EC-4687-9F02-C83AE0F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44A1-21BA-4EE2-8664-33113DD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FE67-B774-46AF-BB0F-7DE0AB78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7331-66A3-4A88-92E7-3B3E643C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3810-557D-4ADA-B4BC-A26ECCF9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217F7-00C3-49B4-888A-2F4BC979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844-E8C9-4416-AB45-0FA3AE70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8098-D19C-4143-A890-B5BD0AD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9E541-1F17-4D7D-A216-20B794C6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D903E-416C-494C-8290-8151A8F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71EE-F5E2-4C89-B1BE-1C5F273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63BA-C73F-41FF-9E85-47DFD22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BE42-87BD-4028-9778-C04B7588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6F44-DDA5-4D70-AF7C-574BE33D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5FF2-70EF-42FA-B5B2-704EAD7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F602-5C7D-42F9-BFDA-FDC4889C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F603-25F6-48A6-A051-4A1E2ED7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4EA-37D9-4313-9A78-999E2EC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79FE-5B6B-49A0-8E69-1ADBBC1C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0C41-8935-4240-8483-CCF33701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856AB-2283-4FC2-840A-C0A0614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7F662-B8A6-4AB6-9E80-86C61E23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1A8D3-04BB-4A7E-8644-271BF72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A170C-041D-4107-BC8C-AFC5C8CE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A4DFC-8A06-4243-89E2-44547B7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538B-4610-4B05-8DB6-72F9118B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5E35E-6A3B-49DA-8080-0C352D3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D982-5E3A-458A-9962-7BC819F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A1A-F6C9-4ADE-A496-61F70F8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7116-7785-4A68-934C-C3655D1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C8CD-3B6F-4AB0-A68B-6DD8437E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8BD1-51B4-4647-8D64-2B819071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9920-2409-4E2E-A880-467612E4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9A781-EDCB-4CDC-B092-65BF534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8C30D-2C9C-4166-BEDA-1BAA105D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C5EB-9831-4CC8-83B8-85787F89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1878-BD84-4166-8763-6E2817E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BBDF1-3412-49BE-A96D-80ED84A1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84022-AAFF-4841-8061-E8B88D31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982-954D-478B-8986-0F4C0F5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7826B-E695-4F43-BAC1-71D9298A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177E-2F8C-4224-BC84-7996730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C2C2-7853-4900-8CDF-FF92DDE6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47917-EC67-4549-BBDB-F316BDA7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B12CF-7120-49AE-B71F-7D46AB2C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90E-DD7D-4523-B2D4-80B8AAB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5B9-FAF3-447C-8104-C05BEC697DF9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559F-9ED6-4BD8-89B7-B9DD72B33417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F11D-7950-4B57-8E97-C15E9BE8AC6E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4A4-0E12-4279-AFA5-84686DFA99B6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EDEC-F7FE-4F0E-BA0F-1A65EB747CBB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1144-F870-48DA-B964-29D09E348BB2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A74E-653C-4146-A772-DBE7B95074F9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026A-5941-4F39-AF46-BF257A24ED6F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1100-184F-425E-87F1-AA7569C7B775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9188-5628-451F-BE68-C3424F713C41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8F4-810B-447E-A86F-A901322253E9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685-4EFC-4F63-AF22-92E1E32688D6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2FB-3D63-4F46-99E6-591D98D76ABC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98FA-2FC6-4AF4-A279-CCF052529B57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72314"/>
                </a:solidFill>
                <a:latin typeface="Gill Sans MT"/>
                <a:ea typeface="SimSun"/>
              </a:rPr>
              <a:t>汉语教学语法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7407360" cy="304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“</a:t>
            </a: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了”教学演练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指导教授：卢福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学生：张凯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010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7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9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92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9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写了几份作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99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写了三份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08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12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2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9"/>
          <p:cNvSpPr/>
          <p:nvPr/>
        </p:nvSpPr>
        <p:spPr>
          <a:xfrm>
            <a:off x="4648320" y="838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待了几个小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2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1"/>
          <p:cNvSpPr/>
          <p:nvPr/>
        </p:nvSpPr>
        <p:spPr>
          <a:xfrm>
            <a:off x="220968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待了五个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17480" cy="3352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7003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430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31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6"/>
          <p:cNvSpPr/>
          <p:nvPr/>
        </p:nvSpPr>
        <p:spPr>
          <a:xfrm>
            <a:off x="457200" y="76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Oval Callout 9"/>
          <p:cNvGrpSpPr/>
          <p:nvPr/>
        </p:nvGrpSpPr>
        <p:grpSpPr>
          <a:xfrm>
            <a:off x="4572000" y="249120"/>
            <a:ext cx="4194000" cy="2670120"/>
            <a:chOff x="4572000" y="249120"/>
            <a:chExt cx="4194000" cy="2670120"/>
          </a:xfrm>
        </p:grpSpPr>
        <p:pic>
          <p:nvPicPr>
            <p:cNvPr id="435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572000" y="249120"/>
              <a:ext cx="4194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240160" y="63972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1"/>
          <p:cNvSpPr/>
          <p:nvPr/>
        </p:nvSpPr>
        <p:spPr>
          <a:xfrm>
            <a:off x="4876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我喝啤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251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441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42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6"/>
          <p:cNvSpPr/>
          <p:nvPr/>
        </p:nvSpPr>
        <p:spPr>
          <a:xfrm>
            <a:off x="304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喝了几瓶啤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Oval Callout 9"/>
          <p:cNvGrpSpPr/>
          <p:nvPr/>
        </p:nvGrpSpPr>
        <p:grpSpPr>
          <a:xfrm>
            <a:off x="4645080" y="176040"/>
            <a:ext cx="4194000" cy="2799000"/>
            <a:chOff x="4645080" y="176040"/>
            <a:chExt cx="4194000" cy="2799000"/>
          </a:xfrm>
        </p:grpSpPr>
        <p:pic>
          <p:nvPicPr>
            <p:cNvPr id="44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645080" y="176040"/>
              <a:ext cx="419400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316480" y="563400"/>
              <a:ext cx="28544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1"/>
          <p:cNvSpPr/>
          <p:nvPr/>
        </p:nvSpPr>
        <p:spPr>
          <a:xfrm>
            <a:off x="495288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喝了十瓶啤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5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5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5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我打篮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6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打了几个小时篮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打了两个小时篮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7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7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我回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8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8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8"/>
          <p:cNvSpPr/>
          <p:nvPr/>
        </p:nvSpPr>
        <p:spPr>
          <a:xfrm>
            <a:off x="426708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住了几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8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住了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447920" y="533520"/>
            <a:ext cx="685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三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十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两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五个小时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一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SimSun"/>
              </a:rPr>
              <a:t>教学对象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明德大学本科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英文母语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中文初级，仅学习了两三个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25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26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32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4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34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351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52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35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0"/>
          <p:cNvSpPr/>
          <p:nvPr/>
        </p:nvSpPr>
        <p:spPr>
          <a:xfrm>
            <a:off x="18288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17480" cy="335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362" name="Oval Callout 5"/>
          <p:cNvGrpSpPr/>
          <p:nvPr/>
        </p:nvGrpSpPr>
        <p:grpSpPr>
          <a:xfrm>
            <a:off x="-79200" y="96840"/>
            <a:ext cx="4194000" cy="1787400"/>
            <a:chOff x="-79200" y="96840"/>
            <a:chExt cx="4194000" cy="1787400"/>
          </a:xfrm>
        </p:grpSpPr>
        <p:pic>
          <p:nvPicPr>
            <p:cNvPr id="3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2200" y="365040"/>
              <a:ext cx="2854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6"/>
          <p:cNvSpPr/>
          <p:nvPr/>
        </p:nvSpPr>
        <p:spPr>
          <a:xfrm>
            <a:off x="22860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Callout 7"/>
          <p:cNvGrpSpPr/>
          <p:nvPr/>
        </p:nvGrpSpPr>
        <p:grpSpPr>
          <a:xfrm>
            <a:off x="4724280" y="249120"/>
            <a:ext cx="4194360" cy="1920960"/>
            <a:chOff x="4724280" y="249120"/>
            <a:chExt cx="4194360" cy="1920960"/>
          </a:xfrm>
        </p:grpSpPr>
        <p:pic>
          <p:nvPicPr>
            <p:cNvPr id="3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4724280" y="249120"/>
              <a:ext cx="41943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92800" y="517680"/>
              <a:ext cx="285444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8"/>
          <p:cNvSpPr/>
          <p:nvPr/>
        </p:nvSpPr>
        <p:spPr>
          <a:xfrm>
            <a:off x="502920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79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80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8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3:41:56Z</dcterms:created>
  <dc:creator>y</dc:creator>
  <dc:description/>
  <dc:language>en-US</dc:language>
  <cp:lastModifiedBy>lcheng</cp:lastModifiedBy>
  <dcterms:modified xsi:type="dcterms:W3CDTF">2010-09-16T12:53:02Z</dcterms:modified>
  <cp:revision>23</cp:revision>
  <dc:subject/>
  <dc:title>汉语教学语法</dc:title>
</cp:coreProperties>
</file>