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AAC-C1DA-4ADE-B60E-8E07CAF1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705-1BC6-4A8D-9711-440A220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497-BD48-4921-A0A6-F5CD774E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90C-291D-4FB6-A2CD-A5924EE6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4689-83B1-496B-A217-CD189756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2003-C938-4F57-9EC6-5BA1A867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A443-5810-44B7-AC82-5BA8FFA8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B1BE-AB3F-4075-97DA-A9456CD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0594-918C-4392-8B11-F3F498CB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F9B7-1B4F-4DCA-A4F4-B8B0733C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E5A-F262-4D4E-A4AA-DE5A5BBD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20C-EFCB-47B3-BD7E-BB158F1B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038B-09F2-4478-886B-419ABFC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91BA-253C-4240-A53A-EC094DA0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2EC4-D0C5-4A78-9584-7EF69BA5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239A-1B56-475E-B76F-EEEECD81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C43-4E4F-478B-8070-DF846866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1D81-9A0E-4706-9E3B-244EBC8A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8F6E-442C-40CC-B9D4-7CE4728F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35B8-A12F-4279-99EF-3DE675E8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38A6-1741-4683-A9B5-B9095B7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3295-1EAE-4EBA-9CD3-FDF73921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A8B-AF72-48EC-A83B-7716AC19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AC69-920A-4AC2-9A2B-FCE76B59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FA2D-9795-4E2A-B173-1486070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B39A-7DBB-404B-8B39-23B149C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8865-CD10-43F8-85E0-E7904FB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E9632-4D5E-4E50-9E33-1DF90B19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9BEB-6131-4BE2-A220-E8B9F407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8AE8-0905-4C85-9AB8-9AC7AC7F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8968-08D5-4B91-8272-E4663F14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E98E-F7A0-4493-9B81-0F190D06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1649-23EB-4586-B9B2-14B40193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114-3D2A-4BE4-BBA8-DCE04F16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FA7E-DC68-426E-BF6F-B4AF1E6F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A457-C868-48B0-8EED-4EB96A7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DA2E-7284-4055-9962-415B765F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3057-FAAC-438B-8D4E-0186FDB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B5375-05CE-49CE-8508-D8F660C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646C-8E89-41FB-84BC-DB5AA4E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C4B9-DCA2-4CA6-96A7-C30AB3C7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E729-1110-4E6A-AC50-14E25F84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6C44-192C-4DDB-BD1D-B8FB4881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FF4B-9CD6-4DDD-B61B-5E1C8D8B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019-32DB-47DA-8314-AB858EA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FD0D8-B7C2-4013-BC82-FFB6D053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32A0-98B9-4F3D-9E20-05776953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F4C6-FBF8-4682-8272-D50D22D1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36E2-FED7-4065-9831-3253808C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1704-56A3-4DAE-9B28-69E42681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21DFC-3615-4973-9BCF-049B9EB0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DE69-E553-456F-B4BE-5B53F9AB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4DCBD-99E6-40DE-AE80-D6278BA2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DD9FF-AEDA-4A34-8651-094E10E2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153A6-FC44-4BFB-9EC6-CE8D5D87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49E-27C5-4A45-AD9B-A95A70FC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39775-A123-4C40-A695-92789C2E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BAFC-FD3E-4B19-B7C7-3F52EB6E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1526-2944-49AC-849D-941C0D7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00B78-4C72-4CB9-A753-AFDB616F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7F1C-669C-4DE4-9585-4F67DD3B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767AA-F152-492B-9BB4-C895E59A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7C751-45C2-424F-8FB7-0D795AD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86E4-AA07-4310-911D-A5C6D4C8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B2050-1AB3-45EC-B391-7A1E1AD6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E503C-1697-47F1-BED0-7D5869A0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6C7-65E7-40A2-98B0-BBEB2323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7E4E4-8194-4E77-AC7B-FC50341A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235CC-65FD-4461-9E08-3BD09789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4DDE-5175-4B47-8F4A-72D36454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2324E-56B1-47AC-99ED-093179CA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C5A69-26AD-4DAA-8C84-459C1549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33C43-5602-4B77-84F3-CBE4B72F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EB019-1A33-41AC-87C3-1DD36648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6CEEE-EEFA-4C9C-BD97-8119A43A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BEE84-CFDF-407E-9C75-D40BDB1F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1039-F0DB-425A-9ADF-F48A37F0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C9B-1DD8-4F77-B539-009D362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2D0C8-CF1D-4810-BEEB-98C1A06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50EF-1B02-410A-867C-EA31C6E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F4378-8147-43DA-BF44-457A9482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E71E5-81B0-4D4B-805D-43D23AFC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CB01-8E95-42B0-AFB3-8D8C0050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022-0458-4FA4-8983-D9FFC006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EB19-EAB3-4121-B65E-351C4F23516A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F84-7314-4D82-8295-16C6BFE30B41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910D-B35B-456B-9F38-4C1EE463F5E3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B7DB-7F78-4F64-914C-CD602250CF18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4CC1-EF96-4346-85BB-D438F987272A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EDD-EB3A-427D-B3FD-F4411B50B985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34F0-9041-450B-B7F7-31DB3688D711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00FD-7A53-4C0C-AAE6-DF2846AA6CE2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B1EB-C0B2-4B0F-9D78-572D06BD127E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6C3A-3FDD-492F-B7C6-F3BD0212B4F8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C186-8EC4-4C86-AF8C-6675E3D321AA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57F-BF8C-46DA-933F-E86E06DF2023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2D87-8AE7-444D-9D3E-188964355059}" type="datetime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Gill Sans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742C-AAD2-410A-9FD8-B429364B4C99}" type="slidenum">
              <a:rPr b="0" lang="zh-CN" sz="1200" spc="-1" strike="noStrike">
                <a:solidFill>
                  <a:srgbClr val="b5a788"/>
                </a:solidFill>
                <a:latin typeface="Gill Sans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72314"/>
                </a:solidFill>
                <a:latin typeface="Gill Sans MT"/>
                <a:ea typeface="SimSun"/>
              </a:rPr>
              <a:t>汉语教学语法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7407360" cy="304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“</a:t>
            </a:r>
            <a:r>
              <a:rPr b="0" lang="zh-CN" sz="4000" spc="-1" strike="noStrike">
                <a:solidFill>
                  <a:srgbClr val="320e04"/>
                </a:solidFill>
                <a:latin typeface="华文中宋"/>
                <a:ea typeface="SimSun"/>
              </a:rPr>
              <a:t>了”教学演练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指导教授：卢福波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学生：张凯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010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7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29</a:t>
            </a:r>
            <a:r>
              <a:rPr b="0" lang="zh-CN" sz="2600" spc="-1" strike="noStrike">
                <a:solidFill>
                  <a:srgbClr val="320e04"/>
                </a:solidFill>
                <a:latin typeface="华文中宋"/>
                <a:ea typeface="SimSun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92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9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写了几份作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99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写了三份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08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12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2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Box 9"/>
          <p:cNvSpPr/>
          <p:nvPr/>
        </p:nvSpPr>
        <p:spPr>
          <a:xfrm>
            <a:off x="4648320" y="838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待了几个小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42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1"/>
          <p:cNvSpPr/>
          <p:nvPr/>
        </p:nvSpPr>
        <p:spPr>
          <a:xfrm>
            <a:off x="220968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待了五个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2517480" cy="3352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27003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430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31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6"/>
          <p:cNvSpPr/>
          <p:nvPr/>
        </p:nvSpPr>
        <p:spPr>
          <a:xfrm>
            <a:off x="457200" y="76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Oval Callout 9"/>
          <p:cNvGrpSpPr/>
          <p:nvPr/>
        </p:nvGrpSpPr>
        <p:grpSpPr>
          <a:xfrm>
            <a:off x="4572000" y="249120"/>
            <a:ext cx="4194000" cy="2670120"/>
            <a:chOff x="4572000" y="249120"/>
            <a:chExt cx="4194000" cy="2670120"/>
          </a:xfrm>
        </p:grpSpPr>
        <p:pic>
          <p:nvPicPr>
            <p:cNvPr id="435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572000" y="249120"/>
              <a:ext cx="41940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240160" y="63972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11"/>
          <p:cNvSpPr/>
          <p:nvPr/>
        </p:nvSpPr>
        <p:spPr>
          <a:xfrm>
            <a:off x="4876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晚上我喝啤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2517840" cy="3352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441" name="Oval Callout 5"/>
          <p:cNvGrpSpPr/>
          <p:nvPr/>
        </p:nvGrpSpPr>
        <p:grpSpPr>
          <a:xfrm>
            <a:off x="-79200" y="96840"/>
            <a:ext cx="4194000" cy="2732040"/>
            <a:chOff x="-79200" y="96840"/>
            <a:chExt cx="4194000" cy="2732040"/>
          </a:xfrm>
        </p:grpSpPr>
        <p:pic>
          <p:nvPicPr>
            <p:cNvPr id="442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2200" y="487440"/>
              <a:ext cx="28544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6"/>
          <p:cNvSpPr/>
          <p:nvPr/>
        </p:nvSpPr>
        <p:spPr>
          <a:xfrm>
            <a:off x="30492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喝了几瓶啤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Oval Callout 9"/>
          <p:cNvGrpSpPr/>
          <p:nvPr/>
        </p:nvGrpSpPr>
        <p:grpSpPr>
          <a:xfrm>
            <a:off x="4645080" y="176040"/>
            <a:ext cx="4194000" cy="2799000"/>
            <a:chOff x="4645080" y="176040"/>
            <a:chExt cx="4194000" cy="2799000"/>
          </a:xfrm>
        </p:grpSpPr>
        <p:pic>
          <p:nvPicPr>
            <p:cNvPr id="44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4645080" y="176040"/>
              <a:ext cx="4194000" cy="27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316480" y="563400"/>
              <a:ext cx="28544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1"/>
          <p:cNvSpPr/>
          <p:nvPr/>
        </p:nvSpPr>
        <p:spPr>
          <a:xfrm>
            <a:off x="495288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喝了十瓶啤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6"/>
          <a:stretch/>
        </p:blipFill>
        <p:spPr>
          <a:xfrm>
            <a:off x="8485200" y="4648320"/>
            <a:ext cx="65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5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5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5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今天上午我打篮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2252520" cy="3284280"/>
          </a:xfrm>
          <a:prstGeom prst="rect">
            <a:avLst/>
          </a:prstGeom>
          <a:ln w="0">
            <a:noFill/>
          </a:ln>
        </p:spPr>
      </p:pic>
      <p:grpSp>
        <p:nvGrpSpPr>
          <p:cNvPr id="462" name="Oval Callout 5"/>
          <p:cNvGrpSpPr/>
          <p:nvPr/>
        </p:nvGrpSpPr>
        <p:grpSpPr>
          <a:xfrm>
            <a:off x="2962440" y="480960"/>
            <a:ext cx="5724360" cy="2335320"/>
            <a:chOff x="2962440" y="480960"/>
            <a:chExt cx="5724360" cy="2335320"/>
          </a:xfrm>
        </p:grpSpPr>
        <p:pic>
          <p:nvPicPr>
            <p:cNvPr id="4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2962440" y="480960"/>
              <a:ext cx="572436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927600" y="779400"/>
              <a:ext cx="38797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6"/>
          <p:cNvSpPr/>
          <p:nvPr/>
        </p:nvSpPr>
        <p:spPr>
          <a:xfrm>
            <a:off x="3429000" y="1066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打了几个小时篮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Oval Callout 7"/>
          <p:cNvGrpSpPr/>
          <p:nvPr/>
        </p:nvGrpSpPr>
        <p:grpSpPr>
          <a:xfrm>
            <a:off x="682560" y="4059360"/>
            <a:ext cx="6096240" cy="2219040"/>
            <a:chOff x="682560" y="4059360"/>
            <a:chExt cx="6096240" cy="2219040"/>
          </a:xfrm>
        </p:grpSpPr>
        <p:pic>
          <p:nvPicPr>
            <p:cNvPr id="4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682560" y="4059360"/>
              <a:ext cx="609624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565280" y="4361040"/>
              <a:ext cx="3879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8"/>
          <p:cNvSpPr/>
          <p:nvPr/>
        </p:nvSpPr>
        <p:spPr>
          <a:xfrm>
            <a:off x="1371600" y="4572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打了两个小时篮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7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7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7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周末我回家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82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483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8"/>
          <p:cNvSpPr/>
          <p:nvPr/>
        </p:nvSpPr>
        <p:spPr>
          <a:xfrm>
            <a:off x="426708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住了几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487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Box 10"/>
          <p:cNvSpPr/>
          <p:nvPr/>
        </p:nvSpPr>
        <p:spPr>
          <a:xfrm>
            <a:off x="1981080" y="4572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住了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447920" y="533520"/>
            <a:ext cx="685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三份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喝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十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啤酒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打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两个小时</a:t>
            </a:r>
            <a:r>
              <a:rPr b="0" lang="zh-CN" sz="3200" spc="-1" strike="noStrike">
                <a:solidFill>
                  <a:srgbClr val="00b0f0"/>
                </a:solidFill>
                <a:latin typeface="Gill Sans MT"/>
                <a:ea typeface="SimSun"/>
              </a:rPr>
              <a:t>篮球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个小时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图书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待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五个小时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你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几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在家里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住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7030a0"/>
                </a:solidFill>
                <a:latin typeface="Gill Sans MT"/>
                <a:ea typeface="SimSun"/>
              </a:rPr>
              <a:t>一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SimSun"/>
              </a:rPr>
              <a:t>教学对象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明德大学本科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英文母语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中文初级，仅学习了两三个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25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26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32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13716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010280" y="5943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小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val Callout 8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41" name="Oval Callout 8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9"/>
          <p:cNvSpPr/>
          <p:nvPr/>
        </p:nvSpPr>
        <p:spPr>
          <a:xfrm>
            <a:off x="4419720" y="114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Oval Callout 10"/>
          <p:cNvGrpSpPr/>
          <p:nvPr/>
        </p:nvGrpSpPr>
        <p:grpSpPr>
          <a:xfrm>
            <a:off x="1901880" y="4138560"/>
            <a:ext cx="4707000" cy="1828800"/>
            <a:chOff x="1901880" y="4138560"/>
            <a:chExt cx="4707000" cy="1828800"/>
          </a:xfrm>
        </p:grpSpPr>
        <p:pic>
          <p:nvPicPr>
            <p:cNvPr id="345" name="Oval Callout 10" descr=""/>
            <p:cNvPicPr/>
            <p:nvPr/>
          </p:nvPicPr>
          <p:blipFill>
            <a:blip r:embed="rId5"/>
            <a:stretch/>
          </p:blipFill>
          <p:spPr>
            <a:xfrm>
              <a:off x="1901880" y="4138560"/>
              <a:ext cx="4707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606760" y="4437000"/>
              <a:ext cx="301608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1"/>
          <p:cNvSpPr/>
          <p:nvPr/>
        </p:nvSpPr>
        <p:spPr>
          <a:xfrm>
            <a:off x="22096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427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351" name="Oval Callout 7"/>
          <p:cNvGrpSpPr/>
          <p:nvPr/>
        </p:nvGrpSpPr>
        <p:grpSpPr>
          <a:xfrm>
            <a:off x="3449520" y="554040"/>
            <a:ext cx="5011920" cy="1835280"/>
            <a:chOff x="3449520" y="554040"/>
            <a:chExt cx="5011920" cy="1835280"/>
          </a:xfrm>
        </p:grpSpPr>
        <p:pic>
          <p:nvPicPr>
            <p:cNvPr id="352" name="Oval Callout 7" descr=""/>
            <p:cNvPicPr/>
            <p:nvPr/>
          </p:nvPicPr>
          <p:blipFill>
            <a:blip r:embed="rId4"/>
            <a:stretch/>
          </p:blipFill>
          <p:spPr>
            <a:xfrm>
              <a:off x="3449520" y="554040"/>
              <a:ext cx="5011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4740120" y="855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Box 8"/>
          <p:cNvSpPr/>
          <p:nvPr/>
        </p:nvSpPr>
        <p:spPr>
          <a:xfrm>
            <a:off x="4419720" y="914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Oval Callout 9"/>
          <p:cNvGrpSpPr/>
          <p:nvPr/>
        </p:nvGrpSpPr>
        <p:grpSpPr>
          <a:xfrm>
            <a:off x="1596960" y="3986280"/>
            <a:ext cx="5121360" cy="1828800"/>
            <a:chOff x="1596960" y="3986280"/>
            <a:chExt cx="5121360" cy="1828800"/>
          </a:xfrm>
        </p:grpSpPr>
        <p:pic>
          <p:nvPicPr>
            <p:cNvPr id="35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1596960" y="3986280"/>
              <a:ext cx="5121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301840" y="4284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0"/>
          <p:cNvSpPr/>
          <p:nvPr/>
        </p:nvSpPr>
        <p:spPr>
          <a:xfrm>
            <a:off x="1828800" y="434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517480" cy="335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838080" y="2209680"/>
            <a:ext cx="2700360" cy="3333960"/>
          </a:xfrm>
          <a:prstGeom prst="rect">
            <a:avLst/>
          </a:prstGeom>
          <a:ln w="0">
            <a:noFill/>
          </a:ln>
        </p:spPr>
      </p:pic>
      <p:grpSp>
        <p:nvGrpSpPr>
          <p:cNvPr id="362" name="Oval Callout 5"/>
          <p:cNvGrpSpPr/>
          <p:nvPr/>
        </p:nvGrpSpPr>
        <p:grpSpPr>
          <a:xfrm>
            <a:off x="-79200" y="96840"/>
            <a:ext cx="4194000" cy="1787400"/>
            <a:chOff x="-79200" y="96840"/>
            <a:chExt cx="4194000" cy="1787400"/>
          </a:xfrm>
        </p:grpSpPr>
        <p:pic>
          <p:nvPicPr>
            <p:cNvPr id="363" name="Oval Callout 5" descr=""/>
            <p:cNvPicPr/>
            <p:nvPr/>
          </p:nvPicPr>
          <p:blipFill>
            <a:blip r:embed="rId4"/>
            <a:stretch/>
          </p:blipFill>
          <p:spPr>
            <a:xfrm>
              <a:off x="-79200" y="96840"/>
              <a:ext cx="419400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2200" y="365040"/>
              <a:ext cx="2854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6"/>
          <p:cNvSpPr/>
          <p:nvPr/>
        </p:nvSpPr>
        <p:spPr>
          <a:xfrm>
            <a:off x="22860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Oval Callout 7"/>
          <p:cNvGrpSpPr/>
          <p:nvPr/>
        </p:nvGrpSpPr>
        <p:grpSpPr>
          <a:xfrm>
            <a:off x="4724280" y="249120"/>
            <a:ext cx="4194360" cy="1920960"/>
            <a:chOff x="4724280" y="249120"/>
            <a:chExt cx="4194360" cy="1920960"/>
          </a:xfrm>
        </p:grpSpPr>
        <p:pic>
          <p:nvPicPr>
            <p:cNvPr id="367" name="Oval Callout 7" descr=""/>
            <p:cNvPicPr/>
            <p:nvPr/>
          </p:nvPicPr>
          <p:blipFill>
            <a:blip r:embed="rId5"/>
            <a:stretch/>
          </p:blipFill>
          <p:spPr>
            <a:xfrm>
              <a:off x="4724280" y="249120"/>
              <a:ext cx="41943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392800" y="517680"/>
              <a:ext cx="285444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8"/>
          <p:cNvSpPr/>
          <p:nvPr/>
        </p:nvSpPr>
        <p:spPr>
          <a:xfrm>
            <a:off x="502920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前天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上午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上个周末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前天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上午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447920" y="533520"/>
            <a:ext cx="548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问题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做什么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你去哪儿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SimSu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5257800" y="1447920"/>
            <a:ext cx="3441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ontent Placeholder 2"/>
          <p:cNvSpPr/>
          <p:nvPr/>
        </p:nvSpPr>
        <p:spPr>
          <a:xfrm>
            <a:off x="1523880" y="33526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昨天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写作业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个周末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我踢足球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前天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商店</a:t>
            </a:r>
            <a:r>
              <a:rPr b="0" lang="zh-CN" sz="30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000"/>
                </a:solidFill>
                <a:latin typeface="Gill Sans MT"/>
                <a:ea typeface="SimSun"/>
              </a:rPr>
              <a:t>上午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我去图书馆</a:t>
            </a: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SimSun"/>
              </a:rPr>
              <a:t>了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  <a:ea typeface="SimSu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1881360" cy="3233520"/>
          </a:xfrm>
          <a:prstGeom prst="rect">
            <a:avLst/>
          </a:prstGeom>
          <a:ln w="0">
            <a:noFill/>
          </a:ln>
        </p:spPr>
      </p:pic>
      <p:grpSp>
        <p:nvGrpSpPr>
          <p:cNvPr id="379" name="Oval Callout 5"/>
          <p:cNvGrpSpPr/>
          <p:nvPr/>
        </p:nvGrpSpPr>
        <p:grpSpPr>
          <a:xfrm>
            <a:off x="1219320" y="554040"/>
            <a:ext cx="4419360" cy="2043000"/>
            <a:chOff x="1219320" y="554040"/>
            <a:chExt cx="4419360" cy="2043000"/>
          </a:xfrm>
        </p:grpSpPr>
        <p:pic>
          <p:nvPicPr>
            <p:cNvPr id="380" name="Oval Callout 5" descr=""/>
            <p:cNvPicPr/>
            <p:nvPr/>
          </p:nvPicPr>
          <p:blipFill>
            <a:blip r:embed="rId4"/>
            <a:stretch/>
          </p:blipFill>
          <p:spPr>
            <a:xfrm>
              <a:off x="1219320" y="554040"/>
              <a:ext cx="44193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920960" y="855720"/>
              <a:ext cx="301608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6"/>
          <p:cNvSpPr/>
          <p:nvPr/>
        </p:nvSpPr>
        <p:spPr>
          <a:xfrm>
            <a:off x="19810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王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70102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李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1600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你做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Oval Callout 9"/>
          <p:cNvGrpSpPr/>
          <p:nvPr/>
        </p:nvGrpSpPr>
        <p:grpSpPr>
          <a:xfrm>
            <a:off x="3352680" y="2840040"/>
            <a:ext cx="4419720" cy="1835280"/>
            <a:chOff x="3352680" y="2840040"/>
            <a:chExt cx="4419720" cy="1835280"/>
          </a:xfrm>
        </p:grpSpPr>
        <p:pic>
          <p:nvPicPr>
            <p:cNvPr id="386" name="Oval Callout 9" descr=""/>
            <p:cNvPicPr/>
            <p:nvPr/>
          </p:nvPicPr>
          <p:blipFill>
            <a:blip r:embed="rId5"/>
            <a:stretch/>
          </p:blipFill>
          <p:spPr>
            <a:xfrm>
              <a:off x="3352680" y="2840040"/>
              <a:ext cx="4419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054320" y="3141720"/>
              <a:ext cx="3016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0"/>
          <p:cNvSpPr/>
          <p:nvPr/>
        </p:nvSpPr>
        <p:spPr>
          <a:xfrm>
            <a:off x="3733920" y="3429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  <a:ea typeface="SimSun"/>
              </a:rPr>
              <a:t>昨天我写作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3:41:56Z</dcterms:created>
  <dc:creator>y</dc:creator>
  <dc:description/>
  <dc:language>en-US</dc:language>
  <cp:lastModifiedBy>lcheng</cp:lastModifiedBy>
  <dcterms:modified xsi:type="dcterms:W3CDTF">2010-09-16T12:53:02Z</dcterms:modified>
  <cp:revision>23</cp:revision>
  <dc:subject/>
  <dc:title>汉语教学语法</dc:title>
</cp:coreProperties>
</file>