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51F7-3544-41D0-8F26-63EC2054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DF0E-4D7F-40FD-B44D-39882D68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6B1-D390-44C5-8D96-E03582F0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A88A-91AF-4CC6-A14E-9A126003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E3AF-FDE8-43EC-9D68-7C495E8A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EC38-551E-481F-AD71-A95D4FC5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B5EE-4682-4DBC-A7F1-A74267B0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FE57-8424-449C-A47A-963A48B6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C446-DBD6-446E-9DC3-CB4326A5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FB45-0311-4412-95A6-7DC78F2A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C72C-0D28-4F31-A16D-61B929A8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1845-132E-4B92-A932-3B9AF195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B048-367E-48A0-A0FF-2FEBDDB1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782E-A92F-4CE3-A5AE-6499EED0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B62F-7E92-4417-9B24-388867BE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7DDA-AC8E-4022-8A6E-3DD740E1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4F58-4C91-4F5D-A03A-A630E521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DE66C-B5E1-4040-B01E-8E23AE3A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DECFE-85F3-4679-BAB6-15A86F31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96560-9E52-4660-8471-E34CE8FA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97B3E-4D37-40EF-9013-D5820D98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57A30-E9E7-4CC4-A5EC-71D131FE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55F9-45CD-4861-8EFB-C78170B0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7E5C9-AC5D-4DF8-A81B-4637E374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61DE6-CF68-4565-BCFE-46A529F0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392F8-AD51-46EC-957E-1021BF9C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6A2F3-D2C4-4956-B3AE-96670C68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8E70D-F9A3-4BED-8E4E-A8369DE9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A584A-61F2-49B0-981A-1916D249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472FB-DE23-46E4-96F0-25E56D51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7EB89-539A-4F03-975F-621C443A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4F3BD-A772-4BB1-AC70-4D860641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B1F46-7F3D-4580-B818-5D57894E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EE38-78CD-4383-AA7A-8837BB9A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9327B-ECD3-42B4-959D-DB48AA19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20073-7655-4616-8622-BC0B9A44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E94EA-556D-4F67-83A5-B60BC976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E7CF6-4348-49D6-8383-2FDCCFB6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6C66B-F45B-47E5-BDDC-10E2EB28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B2A06-434E-4D11-990E-E04FC04A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B7400-B102-4FD9-80E3-A0274561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1B207-4E8F-415F-8FBE-21E28265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355AF-43C4-49F7-83AE-CFAE5538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617D4-CFF7-47DA-BB0E-C7C4C529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849-DFA9-444E-A1CB-BC9C58DE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4CC9A-4A5A-4B61-99C5-C298297C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E9F5B-BEF6-403A-B42C-F9BB134A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326AB-5FCE-4D7E-873E-4EFF9A7B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37E14-ADEB-4076-8A15-F972C474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9869A-F214-43B5-A26F-FDC69A61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BA12D-A983-46B7-8071-4816BAB9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F9D71-BBE8-4BC3-A3F4-B186C3F5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484B4-6E2A-4E49-BAAA-E2068074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CF9C3-CDF8-467E-A87D-84F3D238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C7208-1604-406C-BA9A-C9B7D315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B7A-3030-4F89-BB4B-A25AE0F4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3E840-2F86-4D49-BA72-8A816A65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02E34-32C3-4EEA-8EE9-93E8FA1C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8CD89-1ECF-465B-B213-4F1FF1C1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D9BB6-0AD5-4209-93D8-10A3F5A9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EDCA0-898C-4B6C-AAD6-D45037C1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8C097-96EC-4A02-A211-9A490E82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46E45-A4A3-403A-88EC-067BB0C8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38080-C5EF-4FC3-93AA-5BEBA9CF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6ADAC-E864-4AC6-9243-3AB54418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1EC69-47F9-4A44-9DC9-17C8BED8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CAE-45BB-4A4F-9C32-62176C59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1B6CC-89EE-4117-B305-750C213D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18EA6-7F90-42FE-9397-7F1A8DE5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92FA6-E24F-4BAD-8937-6BA49913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0AA28-19AF-4EF0-9DBD-5BF3E523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8F4F1-164C-4B29-B612-21438225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8EAA3-AB32-4AE5-B97E-E066D9B6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C5F65-AC13-4C00-84CA-E2496136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FE694-65E2-43D8-8324-46BF7748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B823C-5A95-41BB-860F-92AA5937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21C4B-15F2-45ED-99DE-5030C1BA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5881-6453-40F0-9F2A-02AFB954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E94C8-01B2-4B20-B3F1-4FD4B4DB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C50FD-124F-41D5-9E7E-B3884C83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DCDED-3B07-4041-A41D-AF90418B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B78BC-88AE-494A-A44F-1EC14E75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82FD0-2999-48D1-AF41-CB52B0FE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D645-3631-4FA8-ACEF-509A2EE3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82F9-74DF-45D2-B0BC-8CBC6E6FD304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CEFB-E913-40B5-824B-E4D562DB4FC9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000E-8DF6-4C58-A68B-B4B7EAD4901B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6ACC-FAD5-48E0-B913-9D9CD104C4AE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F8B1-07DF-452D-BAFF-B6960D1B10FD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A501-36D5-4693-86CB-9210D846FFF5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9760-0E3E-4629-A168-8932F491CF5E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87FD-B211-4792-9D0E-D6DE096C5A80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26EA-5955-4B58-A91C-3C979D67792F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7741-1313-4AD1-8578-3426CC7B3292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CA8C-CCC2-4688-838C-5A2446CB42F6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5BBC-591B-4126-AF55-9D04CD6260BE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0714-D5E4-4159-B864-90A9C3DC0D6C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F93A-39CD-48B3-B8E8-402FB49D65D7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572314"/>
                </a:solidFill>
                <a:latin typeface="Gill Sans MT"/>
                <a:ea typeface="SimSun"/>
              </a:rPr>
              <a:t>汉语教学语法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7407360" cy="3048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20e04"/>
                </a:solidFill>
                <a:latin typeface="华文中宋"/>
                <a:ea typeface="SimSun"/>
              </a:rPr>
              <a:t>“</a:t>
            </a:r>
            <a:r>
              <a:rPr b="0" lang="zh-CN" sz="4000" spc="-1" strike="noStrike">
                <a:solidFill>
                  <a:srgbClr val="320e04"/>
                </a:solidFill>
                <a:latin typeface="华文中宋"/>
                <a:ea typeface="SimSun"/>
              </a:rPr>
              <a:t>了”教学演练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指导教授：卢福波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学生：张凯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2010</a:t>
            </a: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7</a:t>
            </a: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29</a:t>
            </a: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3"/>
          <a:stretch/>
        </p:blipFill>
        <p:spPr>
          <a:xfrm>
            <a:off x="6629400" y="1905120"/>
            <a:ext cx="1881360" cy="3233520"/>
          </a:xfrm>
          <a:prstGeom prst="rect">
            <a:avLst/>
          </a:prstGeom>
          <a:ln w="0">
            <a:noFill/>
          </a:ln>
        </p:spPr>
      </p:pic>
      <p:grpSp>
        <p:nvGrpSpPr>
          <p:cNvPr id="392" name="Oval Callout 5"/>
          <p:cNvGrpSpPr/>
          <p:nvPr/>
        </p:nvGrpSpPr>
        <p:grpSpPr>
          <a:xfrm>
            <a:off x="1219320" y="554040"/>
            <a:ext cx="4419360" cy="2043000"/>
            <a:chOff x="1219320" y="554040"/>
            <a:chExt cx="4419360" cy="2043000"/>
          </a:xfrm>
        </p:grpSpPr>
        <p:pic>
          <p:nvPicPr>
            <p:cNvPr id="393" name="Oval Callout 5" descr=""/>
            <p:cNvPicPr/>
            <p:nvPr/>
          </p:nvPicPr>
          <p:blipFill>
            <a:blip r:embed="rId4"/>
            <a:stretch/>
          </p:blipFill>
          <p:spPr>
            <a:xfrm>
              <a:off x="1219320" y="554040"/>
              <a:ext cx="441936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1920960" y="855720"/>
              <a:ext cx="301608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6"/>
          <p:cNvSpPr/>
          <p:nvPr/>
        </p:nvSpPr>
        <p:spPr>
          <a:xfrm>
            <a:off x="1981080" y="5105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王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7"/>
          <p:cNvSpPr/>
          <p:nvPr/>
        </p:nvSpPr>
        <p:spPr>
          <a:xfrm>
            <a:off x="7010280" y="5181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李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8"/>
          <p:cNvSpPr/>
          <p:nvPr/>
        </p:nvSpPr>
        <p:spPr>
          <a:xfrm>
            <a:off x="1600200" y="1066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写了几份作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Oval Callout 9"/>
          <p:cNvGrpSpPr/>
          <p:nvPr/>
        </p:nvGrpSpPr>
        <p:grpSpPr>
          <a:xfrm>
            <a:off x="3352680" y="2840040"/>
            <a:ext cx="4419720" cy="1835280"/>
            <a:chOff x="3352680" y="2840040"/>
            <a:chExt cx="4419720" cy="1835280"/>
          </a:xfrm>
        </p:grpSpPr>
        <p:pic>
          <p:nvPicPr>
            <p:cNvPr id="399" name="Oval Callout 9" descr=""/>
            <p:cNvPicPr/>
            <p:nvPr/>
          </p:nvPicPr>
          <p:blipFill>
            <a:blip r:embed="rId5"/>
            <a:stretch/>
          </p:blipFill>
          <p:spPr>
            <a:xfrm>
              <a:off x="3352680" y="2840040"/>
              <a:ext cx="44197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4054320" y="3141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Box 10"/>
          <p:cNvSpPr/>
          <p:nvPr/>
        </p:nvSpPr>
        <p:spPr>
          <a:xfrm>
            <a:off x="3733920" y="3429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写了三份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3"/>
          <a:stretch/>
        </p:blipFill>
        <p:spPr>
          <a:xfrm>
            <a:off x="6324480" y="342900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405" name="TextBox 6"/>
          <p:cNvSpPr/>
          <p:nvPr/>
        </p:nvSpPr>
        <p:spPr>
          <a:xfrm>
            <a:off x="137160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7"/>
          <p:cNvSpPr/>
          <p:nvPr/>
        </p:nvSpPr>
        <p:spPr>
          <a:xfrm>
            <a:off x="7010280" y="5943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Oval Callout 8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408" name="Oval Callout 8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Box 9"/>
          <p:cNvSpPr/>
          <p:nvPr/>
        </p:nvSpPr>
        <p:spPr>
          <a:xfrm>
            <a:off x="4419720" y="1143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午你去哪儿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Oval Callout 10"/>
          <p:cNvGrpSpPr/>
          <p:nvPr/>
        </p:nvGrpSpPr>
        <p:grpSpPr>
          <a:xfrm>
            <a:off x="1901880" y="4138560"/>
            <a:ext cx="4707000" cy="1828800"/>
            <a:chOff x="1901880" y="4138560"/>
            <a:chExt cx="4707000" cy="1828800"/>
          </a:xfrm>
        </p:grpSpPr>
        <p:pic>
          <p:nvPicPr>
            <p:cNvPr id="412" name="Oval Callout 10" descr=""/>
            <p:cNvPicPr/>
            <p:nvPr/>
          </p:nvPicPr>
          <p:blipFill>
            <a:blip r:embed="rId5"/>
            <a:stretch/>
          </p:blipFill>
          <p:spPr>
            <a:xfrm>
              <a:off x="1901880" y="4138560"/>
              <a:ext cx="4707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2606760" y="4437000"/>
              <a:ext cx="301608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Box 11"/>
          <p:cNvSpPr/>
          <p:nvPr/>
        </p:nvSpPr>
        <p:spPr>
          <a:xfrm>
            <a:off x="2209680" y="4724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午我去图书馆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3"/>
          <a:stretch/>
        </p:blipFill>
        <p:spPr>
          <a:xfrm>
            <a:off x="6324480" y="342900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418" name="TextBox 6"/>
          <p:cNvSpPr/>
          <p:nvPr/>
        </p:nvSpPr>
        <p:spPr>
          <a:xfrm>
            <a:off x="137160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7"/>
          <p:cNvSpPr/>
          <p:nvPr/>
        </p:nvSpPr>
        <p:spPr>
          <a:xfrm>
            <a:off x="7010280" y="5943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Oval Callout 8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421" name="Oval Callout 8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Box 9"/>
          <p:cNvSpPr/>
          <p:nvPr/>
        </p:nvSpPr>
        <p:spPr>
          <a:xfrm>
            <a:off x="4648320" y="8380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在图书馆待了几个小时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Oval Callout 10"/>
          <p:cNvGrpSpPr/>
          <p:nvPr/>
        </p:nvGrpSpPr>
        <p:grpSpPr>
          <a:xfrm>
            <a:off x="1901880" y="4138560"/>
            <a:ext cx="4707000" cy="1828800"/>
            <a:chOff x="1901880" y="4138560"/>
            <a:chExt cx="4707000" cy="1828800"/>
          </a:xfrm>
        </p:grpSpPr>
        <p:pic>
          <p:nvPicPr>
            <p:cNvPr id="425" name="Oval Callout 10" descr=""/>
            <p:cNvPicPr/>
            <p:nvPr/>
          </p:nvPicPr>
          <p:blipFill>
            <a:blip r:embed="rId5"/>
            <a:stretch/>
          </p:blipFill>
          <p:spPr>
            <a:xfrm>
              <a:off x="1901880" y="4138560"/>
              <a:ext cx="4707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2606760" y="4437000"/>
              <a:ext cx="301608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Box 11"/>
          <p:cNvSpPr/>
          <p:nvPr/>
        </p:nvSpPr>
        <p:spPr>
          <a:xfrm>
            <a:off x="2209680" y="44956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在图书馆待了五个小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2517480" cy="33526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3"/>
          <a:stretch/>
        </p:blipFill>
        <p:spPr>
          <a:xfrm>
            <a:off x="5791320" y="3200400"/>
            <a:ext cx="2700360" cy="3333600"/>
          </a:xfrm>
          <a:prstGeom prst="rect">
            <a:avLst/>
          </a:prstGeom>
          <a:ln w="0">
            <a:noFill/>
          </a:ln>
        </p:spPr>
      </p:pic>
      <p:grpSp>
        <p:nvGrpSpPr>
          <p:cNvPr id="430" name="Oval Callout 5"/>
          <p:cNvGrpSpPr/>
          <p:nvPr/>
        </p:nvGrpSpPr>
        <p:grpSpPr>
          <a:xfrm>
            <a:off x="-79200" y="96840"/>
            <a:ext cx="4194000" cy="2732040"/>
            <a:chOff x="-79200" y="96840"/>
            <a:chExt cx="4194000" cy="2732040"/>
          </a:xfrm>
        </p:grpSpPr>
        <p:pic>
          <p:nvPicPr>
            <p:cNvPr id="431" name="Oval Callout 5" descr=""/>
            <p:cNvPicPr/>
            <p:nvPr/>
          </p:nvPicPr>
          <p:blipFill>
            <a:blip r:embed="rId4"/>
            <a:stretch/>
          </p:blipFill>
          <p:spPr>
            <a:xfrm>
              <a:off x="-79200" y="96840"/>
              <a:ext cx="4194000" cy="27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92200" y="487440"/>
              <a:ext cx="285444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Box 6"/>
          <p:cNvSpPr/>
          <p:nvPr/>
        </p:nvSpPr>
        <p:spPr>
          <a:xfrm>
            <a:off x="457200" y="762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晚上你做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Oval Callout 9"/>
          <p:cNvGrpSpPr/>
          <p:nvPr/>
        </p:nvGrpSpPr>
        <p:grpSpPr>
          <a:xfrm>
            <a:off x="4572000" y="249120"/>
            <a:ext cx="4194000" cy="2670120"/>
            <a:chOff x="4572000" y="249120"/>
            <a:chExt cx="4194000" cy="2670120"/>
          </a:xfrm>
        </p:grpSpPr>
        <p:pic>
          <p:nvPicPr>
            <p:cNvPr id="435" name="Oval Callout 9" descr=""/>
            <p:cNvPicPr/>
            <p:nvPr/>
          </p:nvPicPr>
          <p:blipFill>
            <a:blip r:embed="rId5"/>
            <a:stretch/>
          </p:blipFill>
          <p:spPr>
            <a:xfrm>
              <a:off x="4572000" y="249120"/>
              <a:ext cx="419400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5240160" y="639720"/>
              <a:ext cx="285444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TextBox 11"/>
          <p:cNvSpPr/>
          <p:nvPr/>
        </p:nvSpPr>
        <p:spPr>
          <a:xfrm>
            <a:off x="4876920" y="914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晚上我喝啤酒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6"/>
          <a:stretch/>
        </p:blipFill>
        <p:spPr>
          <a:xfrm>
            <a:off x="8485200" y="4648320"/>
            <a:ext cx="65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2517840" cy="33526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"/>
          <p:cNvPicPr/>
          <p:nvPr/>
        </p:nvPicPr>
        <p:blipFill>
          <a:blip r:embed="rId3"/>
          <a:stretch/>
        </p:blipFill>
        <p:spPr>
          <a:xfrm>
            <a:off x="5791320" y="3124080"/>
            <a:ext cx="2700360" cy="3333960"/>
          </a:xfrm>
          <a:prstGeom prst="rect">
            <a:avLst/>
          </a:prstGeom>
          <a:ln w="0">
            <a:noFill/>
          </a:ln>
        </p:spPr>
      </p:pic>
      <p:grpSp>
        <p:nvGrpSpPr>
          <p:cNvPr id="441" name="Oval Callout 5"/>
          <p:cNvGrpSpPr/>
          <p:nvPr/>
        </p:nvGrpSpPr>
        <p:grpSpPr>
          <a:xfrm>
            <a:off x="-79200" y="96840"/>
            <a:ext cx="4194000" cy="2732040"/>
            <a:chOff x="-79200" y="96840"/>
            <a:chExt cx="4194000" cy="2732040"/>
          </a:xfrm>
        </p:grpSpPr>
        <p:pic>
          <p:nvPicPr>
            <p:cNvPr id="442" name="Oval Callout 5" descr=""/>
            <p:cNvPicPr/>
            <p:nvPr/>
          </p:nvPicPr>
          <p:blipFill>
            <a:blip r:embed="rId4"/>
            <a:stretch/>
          </p:blipFill>
          <p:spPr>
            <a:xfrm>
              <a:off x="-79200" y="96840"/>
              <a:ext cx="4194000" cy="27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592200" y="487440"/>
              <a:ext cx="285444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Box 6"/>
          <p:cNvSpPr/>
          <p:nvPr/>
        </p:nvSpPr>
        <p:spPr>
          <a:xfrm>
            <a:off x="304920" y="914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喝了几瓶啤酒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Oval Callout 9"/>
          <p:cNvGrpSpPr/>
          <p:nvPr/>
        </p:nvGrpSpPr>
        <p:grpSpPr>
          <a:xfrm>
            <a:off x="4645080" y="176040"/>
            <a:ext cx="4194000" cy="2799000"/>
            <a:chOff x="4645080" y="176040"/>
            <a:chExt cx="4194000" cy="2799000"/>
          </a:xfrm>
        </p:grpSpPr>
        <p:pic>
          <p:nvPicPr>
            <p:cNvPr id="446" name="Oval Callout 9" descr=""/>
            <p:cNvPicPr/>
            <p:nvPr/>
          </p:nvPicPr>
          <p:blipFill>
            <a:blip r:embed="rId5"/>
            <a:stretch/>
          </p:blipFill>
          <p:spPr>
            <a:xfrm>
              <a:off x="4645080" y="176040"/>
              <a:ext cx="4194000" cy="27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5316480" y="563400"/>
              <a:ext cx="285444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Box 11"/>
          <p:cNvSpPr/>
          <p:nvPr/>
        </p:nvSpPr>
        <p:spPr>
          <a:xfrm>
            <a:off x="4952880" y="990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喝了十瓶啤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" descr=""/>
          <p:cNvPicPr/>
          <p:nvPr/>
        </p:nvPicPr>
        <p:blipFill>
          <a:blip r:embed="rId6"/>
          <a:stretch/>
        </p:blipFill>
        <p:spPr>
          <a:xfrm>
            <a:off x="8485200" y="4648320"/>
            <a:ext cx="65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6781680" y="3505320"/>
            <a:ext cx="1930680" cy="2895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"/>
          <p:cNvPicPr/>
          <p:nvPr/>
        </p:nvPicPr>
        <p:blipFill>
          <a:blip r:embed="rId3"/>
          <a:stretch/>
        </p:blipFill>
        <p:spPr>
          <a:xfrm>
            <a:off x="457200" y="762120"/>
            <a:ext cx="2252520" cy="3284280"/>
          </a:xfrm>
          <a:prstGeom prst="rect">
            <a:avLst/>
          </a:prstGeom>
          <a:ln w="0">
            <a:noFill/>
          </a:ln>
        </p:spPr>
      </p:pic>
      <p:grpSp>
        <p:nvGrpSpPr>
          <p:cNvPr id="452" name="Oval Callout 5"/>
          <p:cNvGrpSpPr/>
          <p:nvPr/>
        </p:nvGrpSpPr>
        <p:grpSpPr>
          <a:xfrm>
            <a:off x="2962440" y="480960"/>
            <a:ext cx="5724360" cy="2335320"/>
            <a:chOff x="2962440" y="480960"/>
            <a:chExt cx="5724360" cy="2335320"/>
          </a:xfrm>
        </p:grpSpPr>
        <p:pic>
          <p:nvPicPr>
            <p:cNvPr id="453" name="Oval Callout 5" descr=""/>
            <p:cNvPicPr/>
            <p:nvPr/>
          </p:nvPicPr>
          <p:blipFill>
            <a:blip r:embed="rId4"/>
            <a:stretch/>
          </p:blipFill>
          <p:spPr>
            <a:xfrm>
              <a:off x="2962440" y="480960"/>
              <a:ext cx="5724360" cy="23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3927600" y="779400"/>
              <a:ext cx="387972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Box 6"/>
          <p:cNvSpPr/>
          <p:nvPr/>
        </p:nvSpPr>
        <p:spPr>
          <a:xfrm>
            <a:off x="3429000" y="1066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今天上午你做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Oval Callout 7"/>
          <p:cNvGrpSpPr/>
          <p:nvPr/>
        </p:nvGrpSpPr>
        <p:grpSpPr>
          <a:xfrm>
            <a:off x="682560" y="4059360"/>
            <a:ext cx="6096240" cy="2219040"/>
            <a:chOff x="682560" y="4059360"/>
            <a:chExt cx="6096240" cy="2219040"/>
          </a:xfrm>
        </p:grpSpPr>
        <p:pic>
          <p:nvPicPr>
            <p:cNvPr id="457" name="Oval Callout 7" descr=""/>
            <p:cNvPicPr/>
            <p:nvPr/>
          </p:nvPicPr>
          <p:blipFill>
            <a:blip r:embed="rId5"/>
            <a:stretch/>
          </p:blipFill>
          <p:spPr>
            <a:xfrm>
              <a:off x="682560" y="4059360"/>
              <a:ext cx="6096240" cy="22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1565280" y="4361040"/>
              <a:ext cx="387972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TextBox 8"/>
          <p:cNvSpPr/>
          <p:nvPr/>
        </p:nvSpPr>
        <p:spPr>
          <a:xfrm>
            <a:off x="1371600" y="4572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今天上午我打篮球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"/>
          <p:cNvPicPr/>
          <p:nvPr/>
        </p:nvPicPr>
        <p:blipFill>
          <a:blip r:embed="rId2"/>
          <a:stretch/>
        </p:blipFill>
        <p:spPr>
          <a:xfrm>
            <a:off x="6781680" y="3505320"/>
            <a:ext cx="1930680" cy="28954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"/>
          <p:cNvPicPr/>
          <p:nvPr/>
        </p:nvPicPr>
        <p:blipFill>
          <a:blip r:embed="rId3"/>
          <a:stretch/>
        </p:blipFill>
        <p:spPr>
          <a:xfrm>
            <a:off x="457200" y="762120"/>
            <a:ext cx="2252520" cy="3284280"/>
          </a:xfrm>
          <a:prstGeom prst="rect">
            <a:avLst/>
          </a:prstGeom>
          <a:ln w="0">
            <a:noFill/>
          </a:ln>
        </p:spPr>
      </p:pic>
      <p:grpSp>
        <p:nvGrpSpPr>
          <p:cNvPr id="462" name="Oval Callout 5"/>
          <p:cNvGrpSpPr/>
          <p:nvPr/>
        </p:nvGrpSpPr>
        <p:grpSpPr>
          <a:xfrm>
            <a:off x="2962440" y="480960"/>
            <a:ext cx="5724360" cy="2335320"/>
            <a:chOff x="2962440" y="480960"/>
            <a:chExt cx="5724360" cy="2335320"/>
          </a:xfrm>
        </p:grpSpPr>
        <p:pic>
          <p:nvPicPr>
            <p:cNvPr id="463" name="Oval Callout 5" descr=""/>
            <p:cNvPicPr/>
            <p:nvPr/>
          </p:nvPicPr>
          <p:blipFill>
            <a:blip r:embed="rId4"/>
            <a:stretch/>
          </p:blipFill>
          <p:spPr>
            <a:xfrm>
              <a:off x="2962440" y="480960"/>
              <a:ext cx="5724360" cy="23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3927600" y="779400"/>
              <a:ext cx="387972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Box 6"/>
          <p:cNvSpPr/>
          <p:nvPr/>
        </p:nvSpPr>
        <p:spPr>
          <a:xfrm>
            <a:off x="3429000" y="1066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打了几个小时篮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Oval Callout 7"/>
          <p:cNvGrpSpPr/>
          <p:nvPr/>
        </p:nvGrpSpPr>
        <p:grpSpPr>
          <a:xfrm>
            <a:off x="682560" y="4059360"/>
            <a:ext cx="6096240" cy="2219040"/>
            <a:chOff x="682560" y="4059360"/>
            <a:chExt cx="6096240" cy="2219040"/>
          </a:xfrm>
        </p:grpSpPr>
        <p:pic>
          <p:nvPicPr>
            <p:cNvPr id="467" name="Oval Callout 7" descr=""/>
            <p:cNvPicPr/>
            <p:nvPr/>
          </p:nvPicPr>
          <p:blipFill>
            <a:blip r:embed="rId5"/>
            <a:stretch/>
          </p:blipFill>
          <p:spPr>
            <a:xfrm>
              <a:off x="682560" y="4059360"/>
              <a:ext cx="6096240" cy="22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1565280" y="4361040"/>
              <a:ext cx="387972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TextBox 8"/>
          <p:cNvSpPr/>
          <p:nvPr/>
        </p:nvSpPr>
        <p:spPr>
          <a:xfrm>
            <a:off x="1371600" y="4572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打了两个小时篮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427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472" name="Oval Callout 7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473" name="Oval Callout 7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TextBox 8"/>
          <p:cNvSpPr/>
          <p:nvPr/>
        </p:nvSpPr>
        <p:spPr>
          <a:xfrm>
            <a:off x="4419720" y="914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周末你去哪儿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Oval Callout 9"/>
          <p:cNvGrpSpPr/>
          <p:nvPr/>
        </p:nvGrpSpPr>
        <p:grpSpPr>
          <a:xfrm>
            <a:off x="1596960" y="3986280"/>
            <a:ext cx="5121360" cy="1828800"/>
            <a:chOff x="1596960" y="3986280"/>
            <a:chExt cx="5121360" cy="1828800"/>
          </a:xfrm>
        </p:grpSpPr>
        <p:pic>
          <p:nvPicPr>
            <p:cNvPr id="477" name="Oval Callout 9" descr=""/>
            <p:cNvPicPr/>
            <p:nvPr/>
          </p:nvPicPr>
          <p:blipFill>
            <a:blip r:embed="rId5"/>
            <a:stretch/>
          </p:blipFill>
          <p:spPr>
            <a:xfrm>
              <a:off x="1596960" y="3986280"/>
              <a:ext cx="51213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2301840" y="4284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TextBox 10"/>
          <p:cNvSpPr/>
          <p:nvPr/>
        </p:nvSpPr>
        <p:spPr>
          <a:xfrm>
            <a:off x="1981080" y="4572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周末我回家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427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482" name="Oval Callout 7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483" name="Oval Callout 7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Box 8"/>
          <p:cNvSpPr/>
          <p:nvPr/>
        </p:nvSpPr>
        <p:spPr>
          <a:xfrm>
            <a:off x="426708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在家里住了几天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Oval Callout 9"/>
          <p:cNvGrpSpPr/>
          <p:nvPr/>
        </p:nvGrpSpPr>
        <p:grpSpPr>
          <a:xfrm>
            <a:off x="1596960" y="3986280"/>
            <a:ext cx="5121360" cy="1828800"/>
            <a:chOff x="1596960" y="3986280"/>
            <a:chExt cx="5121360" cy="1828800"/>
          </a:xfrm>
        </p:grpSpPr>
        <p:pic>
          <p:nvPicPr>
            <p:cNvPr id="487" name="Oval Callout 9" descr=""/>
            <p:cNvPicPr/>
            <p:nvPr/>
          </p:nvPicPr>
          <p:blipFill>
            <a:blip r:embed="rId5"/>
            <a:stretch/>
          </p:blipFill>
          <p:spPr>
            <a:xfrm>
              <a:off x="1596960" y="3986280"/>
              <a:ext cx="51213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2301840" y="4284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Box 10"/>
          <p:cNvSpPr/>
          <p:nvPr/>
        </p:nvSpPr>
        <p:spPr>
          <a:xfrm>
            <a:off x="1981080" y="4572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在家里住了一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1447920" y="533520"/>
            <a:ext cx="6858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写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几份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作业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写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三份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作业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喝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几瓶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啤酒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喝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十瓶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啤酒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打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几个小时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篮球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打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两个小时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篮球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在图书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待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几个小时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在图书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待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五个小时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在家里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住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几天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在家里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住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一天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  <a:ea typeface="SimSun"/>
              </a:rPr>
              <a:t>教学对象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明德大学本科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英文母语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中文初级，仅学习了两三个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3"/>
          <a:stretch/>
        </p:blipFill>
        <p:spPr>
          <a:xfrm>
            <a:off x="6629400" y="1905120"/>
            <a:ext cx="1881360" cy="3233520"/>
          </a:xfrm>
          <a:prstGeom prst="rect">
            <a:avLst/>
          </a:prstGeom>
          <a:ln w="0">
            <a:noFill/>
          </a:ln>
        </p:spPr>
      </p:pic>
      <p:grpSp>
        <p:nvGrpSpPr>
          <p:cNvPr id="325" name="Oval Callout 5"/>
          <p:cNvGrpSpPr/>
          <p:nvPr/>
        </p:nvGrpSpPr>
        <p:grpSpPr>
          <a:xfrm>
            <a:off x="1219320" y="554040"/>
            <a:ext cx="4419360" cy="2043000"/>
            <a:chOff x="1219320" y="554040"/>
            <a:chExt cx="4419360" cy="2043000"/>
          </a:xfrm>
        </p:grpSpPr>
        <p:pic>
          <p:nvPicPr>
            <p:cNvPr id="326" name="Oval Callout 5" descr=""/>
            <p:cNvPicPr/>
            <p:nvPr/>
          </p:nvPicPr>
          <p:blipFill>
            <a:blip r:embed="rId4"/>
            <a:stretch/>
          </p:blipFill>
          <p:spPr>
            <a:xfrm>
              <a:off x="1219320" y="554040"/>
              <a:ext cx="441936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920960" y="855720"/>
              <a:ext cx="301608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Box 6"/>
          <p:cNvSpPr/>
          <p:nvPr/>
        </p:nvSpPr>
        <p:spPr>
          <a:xfrm>
            <a:off x="1981080" y="5105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王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7"/>
          <p:cNvSpPr/>
          <p:nvPr/>
        </p:nvSpPr>
        <p:spPr>
          <a:xfrm>
            <a:off x="7010280" y="5181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李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1600200" y="1066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你做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Oval Callout 9"/>
          <p:cNvGrpSpPr/>
          <p:nvPr/>
        </p:nvGrpSpPr>
        <p:grpSpPr>
          <a:xfrm>
            <a:off x="3352680" y="2840040"/>
            <a:ext cx="4419720" cy="1835280"/>
            <a:chOff x="3352680" y="2840040"/>
            <a:chExt cx="4419720" cy="1835280"/>
          </a:xfrm>
        </p:grpSpPr>
        <p:pic>
          <p:nvPicPr>
            <p:cNvPr id="332" name="Oval Callout 9" descr=""/>
            <p:cNvPicPr/>
            <p:nvPr/>
          </p:nvPicPr>
          <p:blipFill>
            <a:blip r:embed="rId5"/>
            <a:stretch/>
          </p:blipFill>
          <p:spPr>
            <a:xfrm>
              <a:off x="3352680" y="2840040"/>
              <a:ext cx="44197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4054320" y="3141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Box 10"/>
          <p:cNvSpPr/>
          <p:nvPr/>
        </p:nvSpPr>
        <p:spPr>
          <a:xfrm>
            <a:off x="3733920" y="3429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我写作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"/>
          <p:cNvPicPr/>
          <p:nvPr/>
        </p:nvPicPr>
        <p:blipFill>
          <a:blip r:embed="rId3"/>
          <a:stretch/>
        </p:blipFill>
        <p:spPr>
          <a:xfrm>
            <a:off x="6324480" y="342900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338" name="TextBox 6"/>
          <p:cNvSpPr/>
          <p:nvPr/>
        </p:nvSpPr>
        <p:spPr>
          <a:xfrm>
            <a:off x="137160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7010280" y="5943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Oval Callout 8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341" name="Oval Callout 8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Box 9"/>
          <p:cNvSpPr/>
          <p:nvPr/>
        </p:nvSpPr>
        <p:spPr>
          <a:xfrm>
            <a:off x="4419720" y="1143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午你去哪儿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Oval Callout 10"/>
          <p:cNvGrpSpPr/>
          <p:nvPr/>
        </p:nvGrpSpPr>
        <p:grpSpPr>
          <a:xfrm>
            <a:off x="1901880" y="4138560"/>
            <a:ext cx="4707000" cy="1828800"/>
            <a:chOff x="1901880" y="4138560"/>
            <a:chExt cx="4707000" cy="1828800"/>
          </a:xfrm>
        </p:grpSpPr>
        <p:pic>
          <p:nvPicPr>
            <p:cNvPr id="345" name="Oval Callout 10" descr=""/>
            <p:cNvPicPr/>
            <p:nvPr/>
          </p:nvPicPr>
          <p:blipFill>
            <a:blip r:embed="rId5"/>
            <a:stretch/>
          </p:blipFill>
          <p:spPr>
            <a:xfrm>
              <a:off x="1901880" y="4138560"/>
              <a:ext cx="4707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606760" y="4437000"/>
              <a:ext cx="301608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Box 11"/>
          <p:cNvSpPr/>
          <p:nvPr/>
        </p:nvSpPr>
        <p:spPr>
          <a:xfrm>
            <a:off x="2209680" y="4724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午我去图书馆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427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351" name="Oval Callout 7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352" name="Oval Callout 7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Box 8"/>
          <p:cNvSpPr/>
          <p:nvPr/>
        </p:nvSpPr>
        <p:spPr>
          <a:xfrm>
            <a:off x="4419720" y="914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个周末你做什么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Oval Callout 9"/>
          <p:cNvGrpSpPr/>
          <p:nvPr/>
        </p:nvGrpSpPr>
        <p:grpSpPr>
          <a:xfrm>
            <a:off x="1596960" y="3986280"/>
            <a:ext cx="5121360" cy="1828800"/>
            <a:chOff x="1596960" y="3986280"/>
            <a:chExt cx="5121360" cy="1828800"/>
          </a:xfrm>
        </p:grpSpPr>
        <p:pic>
          <p:nvPicPr>
            <p:cNvPr id="356" name="Oval Callout 9" descr=""/>
            <p:cNvPicPr/>
            <p:nvPr/>
          </p:nvPicPr>
          <p:blipFill>
            <a:blip r:embed="rId5"/>
            <a:stretch/>
          </p:blipFill>
          <p:spPr>
            <a:xfrm>
              <a:off x="1596960" y="3986280"/>
              <a:ext cx="51213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2301840" y="4284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Box 10"/>
          <p:cNvSpPr/>
          <p:nvPr/>
        </p:nvSpPr>
        <p:spPr>
          <a:xfrm>
            <a:off x="1828800" y="4343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个周末我踢足球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6019920" y="2209680"/>
            <a:ext cx="2517480" cy="3353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"/>
          <p:cNvPicPr/>
          <p:nvPr/>
        </p:nvPicPr>
        <p:blipFill>
          <a:blip r:embed="rId3"/>
          <a:stretch/>
        </p:blipFill>
        <p:spPr>
          <a:xfrm>
            <a:off x="838080" y="2209680"/>
            <a:ext cx="2700360" cy="3333960"/>
          </a:xfrm>
          <a:prstGeom prst="rect">
            <a:avLst/>
          </a:prstGeom>
          <a:ln w="0">
            <a:noFill/>
          </a:ln>
        </p:spPr>
      </p:pic>
      <p:grpSp>
        <p:nvGrpSpPr>
          <p:cNvPr id="362" name="Oval Callout 5"/>
          <p:cNvGrpSpPr/>
          <p:nvPr/>
        </p:nvGrpSpPr>
        <p:grpSpPr>
          <a:xfrm>
            <a:off x="-79200" y="96840"/>
            <a:ext cx="4194000" cy="1787400"/>
            <a:chOff x="-79200" y="96840"/>
            <a:chExt cx="4194000" cy="1787400"/>
          </a:xfrm>
        </p:grpSpPr>
        <p:pic>
          <p:nvPicPr>
            <p:cNvPr id="363" name="Oval Callout 5" descr=""/>
            <p:cNvPicPr/>
            <p:nvPr/>
          </p:nvPicPr>
          <p:blipFill>
            <a:blip r:embed="rId4"/>
            <a:stretch/>
          </p:blipFill>
          <p:spPr>
            <a:xfrm>
              <a:off x="-79200" y="96840"/>
              <a:ext cx="419400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92200" y="365040"/>
              <a:ext cx="285444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Box 6"/>
          <p:cNvSpPr/>
          <p:nvPr/>
        </p:nvSpPr>
        <p:spPr>
          <a:xfrm>
            <a:off x="228600" y="609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前天你去哪儿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Oval Callout 7"/>
          <p:cNvGrpSpPr/>
          <p:nvPr/>
        </p:nvGrpSpPr>
        <p:grpSpPr>
          <a:xfrm>
            <a:off x="4724280" y="249120"/>
            <a:ext cx="4194360" cy="1920960"/>
            <a:chOff x="4724280" y="249120"/>
            <a:chExt cx="4194360" cy="1920960"/>
          </a:xfrm>
        </p:grpSpPr>
        <p:pic>
          <p:nvPicPr>
            <p:cNvPr id="367" name="Oval Callout 7" descr=""/>
            <p:cNvPicPr/>
            <p:nvPr/>
          </p:nvPicPr>
          <p:blipFill>
            <a:blip r:embed="rId5"/>
            <a:stretch/>
          </p:blipFill>
          <p:spPr>
            <a:xfrm>
              <a:off x="4724280" y="249120"/>
              <a:ext cx="419436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5392800" y="517680"/>
              <a:ext cx="2854440" cy="10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Box 8"/>
          <p:cNvSpPr/>
          <p:nvPr/>
        </p:nvSpPr>
        <p:spPr>
          <a:xfrm>
            <a:off x="5029200" y="685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前天我去商店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447920" y="533520"/>
            <a:ext cx="548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问题：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昨天你做什么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上个周末你做什么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前天你去哪儿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上午你去哪儿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5257800" y="1447920"/>
            <a:ext cx="3441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Content Placeholder 2"/>
          <p:cNvSpPr/>
          <p:nvPr/>
        </p:nvSpPr>
        <p:spPr>
          <a:xfrm>
            <a:off x="1523880" y="33526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回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昨天我写作业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上个周末我踢足球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前天我去商店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上午我去图书馆</a:t>
            </a:r>
            <a:r>
              <a:rPr b="0" lang="zh-CN" sz="28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447920" y="533520"/>
            <a:ext cx="548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问题：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昨天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你做什么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上个周末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你做什么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前天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你去哪儿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上午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你去哪儿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Content Placeholder 2"/>
          <p:cNvSpPr/>
          <p:nvPr/>
        </p:nvSpPr>
        <p:spPr>
          <a:xfrm>
            <a:off x="5257800" y="1447920"/>
            <a:ext cx="3441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ontent Placeholder 2"/>
          <p:cNvSpPr/>
          <p:nvPr/>
        </p:nvSpPr>
        <p:spPr>
          <a:xfrm>
            <a:off x="1523880" y="33526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回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昨天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写作业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上个周末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踢足球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前天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我去商店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上午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我去图书馆</a:t>
            </a:r>
            <a:r>
              <a:rPr b="0" lang="zh-CN" sz="28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3"/>
          <a:stretch/>
        </p:blipFill>
        <p:spPr>
          <a:xfrm>
            <a:off x="6629400" y="1905120"/>
            <a:ext cx="1881360" cy="3233520"/>
          </a:xfrm>
          <a:prstGeom prst="rect">
            <a:avLst/>
          </a:prstGeom>
          <a:ln w="0">
            <a:noFill/>
          </a:ln>
        </p:spPr>
      </p:pic>
      <p:grpSp>
        <p:nvGrpSpPr>
          <p:cNvPr id="379" name="Oval Callout 5"/>
          <p:cNvGrpSpPr/>
          <p:nvPr/>
        </p:nvGrpSpPr>
        <p:grpSpPr>
          <a:xfrm>
            <a:off x="1219320" y="554040"/>
            <a:ext cx="4419360" cy="2043000"/>
            <a:chOff x="1219320" y="554040"/>
            <a:chExt cx="4419360" cy="2043000"/>
          </a:xfrm>
        </p:grpSpPr>
        <p:pic>
          <p:nvPicPr>
            <p:cNvPr id="380" name="Oval Callout 5" descr=""/>
            <p:cNvPicPr/>
            <p:nvPr/>
          </p:nvPicPr>
          <p:blipFill>
            <a:blip r:embed="rId4"/>
            <a:stretch/>
          </p:blipFill>
          <p:spPr>
            <a:xfrm>
              <a:off x="1219320" y="554040"/>
              <a:ext cx="441936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1920960" y="855720"/>
              <a:ext cx="301608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6"/>
          <p:cNvSpPr/>
          <p:nvPr/>
        </p:nvSpPr>
        <p:spPr>
          <a:xfrm>
            <a:off x="1981080" y="5105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王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7"/>
          <p:cNvSpPr/>
          <p:nvPr/>
        </p:nvSpPr>
        <p:spPr>
          <a:xfrm>
            <a:off x="7010280" y="5181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李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8"/>
          <p:cNvSpPr/>
          <p:nvPr/>
        </p:nvSpPr>
        <p:spPr>
          <a:xfrm>
            <a:off x="1600200" y="1066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你做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Oval Callout 9"/>
          <p:cNvGrpSpPr/>
          <p:nvPr/>
        </p:nvGrpSpPr>
        <p:grpSpPr>
          <a:xfrm>
            <a:off x="3352680" y="2840040"/>
            <a:ext cx="4419720" cy="1835280"/>
            <a:chOff x="3352680" y="2840040"/>
            <a:chExt cx="4419720" cy="1835280"/>
          </a:xfrm>
        </p:grpSpPr>
        <p:pic>
          <p:nvPicPr>
            <p:cNvPr id="386" name="Oval Callout 9" descr=""/>
            <p:cNvPicPr/>
            <p:nvPr/>
          </p:nvPicPr>
          <p:blipFill>
            <a:blip r:embed="rId5"/>
            <a:stretch/>
          </p:blipFill>
          <p:spPr>
            <a:xfrm>
              <a:off x="3352680" y="2840040"/>
              <a:ext cx="44197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4054320" y="3141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Box 10"/>
          <p:cNvSpPr/>
          <p:nvPr/>
        </p:nvSpPr>
        <p:spPr>
          <a:xfrm>
            <a:off x="3733920" y="3429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我写作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03:41:56Z</dcterms:created>
  <dc:creator>y</dc:creator>
  <dc:description/>
  <dc:language>en-US</dc:language>
  <cp:lastModifiedBy>lcheng</cp:lastModifiedBy>
  <dcterms:modified xsi:type="dcterms:W3CDTF">2010-09-16T12:53:02Z</dcterms:modified>
  <cp:revision>23</cp:revision>
  <dc:subject/>
  <dc:title>汉语教学语法</dc:title>
</cp:coreProperties>
</file>